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doux%20orchestre.wav" ContentType="audio/x-wav"/>
  <Override PartName="/ppt/media/image12.jpeg" ContentType="image/jpeg"/>
  <Override PartName="/ppt/media/image1.jpeg" ContentType="image/jpeg"/>
  <Override PartName="/ppt/media/image2.jpeg" ContentType="image/jpeg"/>
  <Override PartName="/ppt/media/Top%20gun.wav" ContentType="audio/x-wav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DBA-2A54-4727-BE48-DAD36366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A9F-FF4E-4DDC-B1D1-DEE946CC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98A-5208-46DA-BB4D-B936339B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277-1C97-4A47-AB29-3E554571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E4D-2409-40E5-BBC0-7614A702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683-723A-4E42-8BA7-9C807186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70B-4A8D-4045-A92F-3D016D22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19A9-0463-4463-8326-F23EE6C1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11C-62FA-4709-8A49-DE4923F4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7B2-ADB7-48A3-8877-16C3AE89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2F8-EB95-4885-9869-03E6C0B8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9BA-3ADA-451D-8B6B-74C89DEA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9FE3-E924-4319-AD51-BB73A44CC1D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oux%20orchestr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EwI8FZ-fm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op%20gu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omic"/>
              </a:rPr>
              <a:t>Une fille comme les autres…</a:t>
            </a:r>
            <a:r>
              <a:rPr b="0" lang="fr-FR" sz="2400" spc="-1" strike="noStrike">
                <a:solidFill>
                  <a:srgbClr val="ff0000"/>
                </a:solidFill>
                <a:latin typeface="comic"/>
              </a:rPr>
              <a:t>ou presque 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Arial Black"/>
              </a:rPr>
              <a:t>Déroulement automatique avec le son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4000">
    <p:dissolve/>
    <p:sndAc>
      <p:stSnd>
        <p:snd r:embed="rId1" name="doux%20orchestr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c000"/>
              </a:solidFill>
              <a:latin typeface="comic"/>
            </a:endParaRPr>
          </a:p>
        </p:txBody>
      </p:sp>
      <p:pic>
        <p:nvPicPr>
          <p:cNvPr id="60" name="Espace réservé du contenu 4" descr="virginie_guyot1.jpg"/>
          <p:cNvPicPr/>
          <p:nvPr/>
        </p:nvPicPr>
        <p:blipFill>
          <a:blip r:embed="rId1"/>
          <a:stretch/>
        </p:blipFill>
        <p:spPr>
          <a:xfrm>
            <a:off x="2500200" y="1357200"/>
            <a:ext cx="4067280" cy="5166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Pilote de mirage F1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Espace réservé du contenu 4" descr="virginie_guyot1.jpg"/>
          <p:cNvPicPr/>
          <p:nvPr/>
        </p:nvPicPr>
        <p:blipFill>
          <a:blip r:embed="rId1"/>
          <a:stretch/>
        </p:blipFill>
        <p:spPr>
          <a:xfrm>
            <a:off x="2500200" y="1357200"/>
            <a:ext cx="4067280" cy="5166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c000"/>
              </a:solidFill>
              <a:latin typeface="comic"/>
            </a:endParaRPr>
          </a:p>
        </p:txBody>
      </p:sp>
      <p:pic>
        <p:nvPicPr>
          <p:cNvPr id="64" name="Espace réservé du contenu 3" descr="frenchairforcemajorvirg.jpg"/>
          <p:cNvPicPr/>
          <p:nvPr/>
        </p:nvPicPr>
        <p:blipFill>
          <a:blip r:embed="rId1"/>
          <a:stretch/>
        </p:blipFill>
        <p:spPr>
          <a:xfrm>
            <a:off x="1571760" y="1571760"/>
            <a:ext cx="5997600" cy="4429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Chef d’escadron 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Espace réservé du contenu 3" descr="frenchairforcemajorvirg.jpg"/>
          <p:cNvPicPr/>
          <p:nvPr/>
        </p:nvPicPr>
        <p:blipFill>
          <a:blip r:embed="rId1"/>
          <a:stretch/>
        </p:blipFill>
        <p:spPr>
          <a:xfrm>
            <a:off x="1571760" y="1571760"/>
            <a:ext cx="5997600" cy="4429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omic"/>
              </a:rPr>
              <a:t>Et le plus extraordinaire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c000"/>
              </a:solidFill>
              <a:latin typeface="comic"/>
            </a:endParaRPr>
          </a:p>
        </p:txBody>
      </p:sp>
      <p:pic>
        <p:nvPicPr>
          <p:cNvPr id="70" name="Espace réservé du contenu 3" descr="actu-societe-Virgine-Guyot-Patrouille-de-France_articlephoto.jpg"/>
          <p:cNvPicPr/>
          <p:nvPr/>
        </p:nvPicPr>
        <p:blipFill>
          <a:blip r:embed="rId1"/>
          <a:stretch/>
        </p:blipFill>
        <p:spPr>
          <a:xfrm>
            <a:off x="677880" y="1600200"/>
            <a:ext cx="778824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Elle est membre de la patrouille de F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Espace réservé du contenu 3" descr="actu-societe-Virgine-Guyot-Patrouille-de-France_articlephoto.jpg"/>
          <p:cNvPicPr/>
          <p:nvPr/>
        </p:nvPicPr>
        <p:blipFill>
          <a:blip r:embed="rId1"/>
          <a:stretch/>
        </p:blipFill>
        <p:spPr>
          <a:xfrm>
            <a:off x="677880" y="1600200"/>
            <a:ext cx="778824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À l’une des places les plus difficiles : charognar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Espace réservé du contenu 3" descr="COMPOSITIONFORMATION.jpg"/>
          <p:cNvPicPr/>
          <p:nvPr/>
        </p:nvPicPr>
        <p:blipFill>
          <a:blip r:embed="rId1"/>
          <a:stretch/>
        </p:blipFill>
        <p:spPr>
          <a:xfrm>
            <a:off x="1428840" y="1571760"/>
            <a:ext cx="6323040" cy="42145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À l’une des places les plus difficiles : charognar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Espace réservé du contenu 3" descr="COMPOSITIONFORMATION.jpg"/>
          <p:cNvPicPr/>
          <p:nvPr/>
        </p:nvPicPr>
        <p:blipFill>
          <a:blip r:embed="rId1"/>
          <a:stretch/>
        </p:blipFill>
        <p:spPr>
          <a:xfrm>
            <a:off x="1428840" y="1571760"/>
            <a:ext cx="6323040" cy="4214520"/>
          </a:xfrm>
          <a:prstGeom prst="rect">
            <a:avLst/>
          </a:prstGeom>
          <a:ln w="0">
            <a:noFill/>
          </a:ln>
        </p:spPr>
      </p:pic>
      <p:sp>
        <p:nvSpPr>
          <p:cNvPr id="77" name="Flèche droite 7"/>
          <p:cNvSpPr/>
          <p:nvPr/>
        </p:nvSpPr>
        <p:spPr>
          <a:xfrm>
            <a:off x="3071880" y="18572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c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596 L 0.00035 0.31714 E">
                                      <p:cBhvr>
                                        <p:cTn id="6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Vous voyez ce que je veux dire…</a:t>
            </a:r>
            <a:br>
              <a:rPr sz="2400"/>
            </a:b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 </a:t>
            </a:r>
            <a:r>
              <a:rPr b="0" lang="fr-FR" sz="1200" spc="-1" strike="noStrike">
                <a:solidFill>
                  <a:srgbClr val="ffc000"/>
                </a:solidFill>
                <a:latin typeface="comic"/>
              </a:rPr>
              <a:t> </a:t>
            </a:r>
            <a:r>
              <a:rPr b="0" lang="fr-FR" sz="1200" spc="-1" strike="noStrike">
                <a:solidFill>
                  <a:srgbClr val="ff0000"/>
                </a:solidFill>
                <a:latin typeface="comic"/>
              </a:rPr>
              <a:t>pour la  repérer , c’est  elle le panache bla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Espace réservé du contenu 5" descr="196798.jpg"/>
          <p:cNvPicPr/>
          <p:nvPr/>
        </p:nvPicPr>
        <p:blipFill>
          <a:blip r:embed="rId1"/>
          <a:stretch/>
        </p:blipFill>
        <p:spPr>
          <a:xfrm>
            <a:off x="2286000" y="1357200"/>
            <a:ext cx="4627440" cy="5153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Ni trop grande , ni trop petite 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Espace réservé du contenu 3" descr="20090509_Photo-LG2.jpg"/>
          <p:cNvPicPr/>
          <p:nvPr/>
        </p:nvPicPr>
        <p:blipFill>
          <a:blip r:embed="rId1"/>
          <a:stretch/>
        </p:blipFill>
        <p:spPr>
          <a:xfrm>
            <a:off x="2603520" y="1600200"/>
            <a:ext cx="39369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Bin , elle sait voler la tête en bas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Espace réservé du contenu 5" descr="_U6R1860.jpg"/>
          <p:cNvPicPr/>
          <p:nvPr/>
        </p:nvPicPr>
        <p:blipFill>
          <a:blip r:embed="rId1"/>
          <a:stretch/>
        </p:blipFill>
        <p:spPr>
          <a:xfrm>
            <a:off x="747720" y="1600200"/>
            <a:ext cx="76485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À 600 km/h… (la vitesse d’une balle de pistolet 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Espace réservé du contenu 5" descr="800px-Patrouille_de_france_éclatement.jpg"/>
          <p:cNvPicPr/>
          <p:nvPr/>
        </p:nvPicPr>
        <p:blipFill>
          <a:blip r:embed="rId1"/>
          <a:stretch/>
        </p:blipFill>
        <p:spPr>
          <a:xfrm>
            <a:off x="1428840" y="1571760"/>
            <a:ext cx="614340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À quelques mètres à peine de ses coéquipiers 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Espace réservé du contenu 3" descr="patrouille12.jpg"/>
          <p:cNvPicPr/>
          <p:nvPr/>
        </p:nvPicPr>
        <p:blipFill>
          <a:blip r:embed="rId1"/>
          <a:stretch/>
        </p:blipFill>
        <p:spPr>
          <a:xfrm>
            <a:off x="1000080" y="1643040"/>
            <a:ext cx="7459560" cy="4429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En encaissant plusieurs G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Espace réservé du contenu 3" descr="virginie-guyot-charognard.jpg"/>
          <p:cNvPicPr/>
          <p:nvPr/>
        </p:nvPicPr>
        <p:blipFill>
          <a:blip r:embed="rId1"/>
          <a:stretch/>
        </p:blipFill>
        <p:spPr>
          <a:xfrm>
            <a:off x="1428840" y="1643040"/>
            <a:ext cx="6643440" cy="4429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3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…</a:t>
            </a: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sans jamais vomir 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Espace réservé du contenu 7" descr="imgp7110.jpg"/>
          <p:cNvPicPr/>
          <p:nvPr/>
        </p:nvPicPr>
        <p:blipFill>
          <a:blip r:embed="rId1"/>
          <a:stretch/>
        </p:blipFill>
        <p:spPr>
          <a:xfrm>
            <a:off x="1285920" y="1571760"/>
            <a:ext cx="6584760" cy="4378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Une sacrée  nana , non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Espace réservé du contenu 5" descr="femme_patrouille_de_france_reference.jpg"/>
          <p:cNvPicPr/>
          <p:nvPr/>
        </p:nvPicPr>
        <p:blipFill>
          <a:blip r:embed="rId1"/>
          <a:stretch/>
        </p:blipFill>
        <p:spPr>
          <a:xfrm>
            <a:off x="1500120" y="1571760"/>
            <a:ext cx="6122880" cy="4246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Avec elle , pas besoin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Espace réservé du contenu 7" descr="virginie051109.jpg"/>
          <p:cNvPicPr/>
          <p:nvPr/>
        </p:nvPicPr>
        <p:blipFill>
          <a:blip r:embed="rId1"/>
          <a:stretch/>
        </p:blipFill>
        <p:spPr>
          <a:xfrm>
            <a:off x="1179360" y="1600200"/>
            <a:ext cx="678528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De talons aiguilles …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Espace réservé du contenu 3" descr="dsci0217.jpg"/>
          <p:cNvPicPr/>
          <p:nvPr/>
        </p:nvPicPr>
        <p:blipFill>
          <a:blip r:embed="rId1"/>
          <a:stretch/>
        </p:blipFill>
        <p:spPr>
          <a:xfrm>
            <a:off x="1428840" y="1428840"/>
            <a:ext cx="6343560" cy="4757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Pour nous emmener  au septième ciel 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Espace réservé du contenu 4" descr="a-.jpg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Depuis 2009 Virginie est la première femme à intégrer la patrouille de F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Elle est pressentie pour en être le prochain lea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Chapeau bas , très  très  bas  madame 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Si vous voulez la voir voler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5f5f5f"/>
                </a:solidFill>
                <a:uFillTx/>
                <a:latin typeface="comic"/>
                <a:hlinkClick r:id="rId1"/>
              </a:rPr>
              <a:t>http://www.youtube.com/watch?v=SEwI8FZ-fm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"/>
              </a:rPr>
              <a:t>Réalisation :  F.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1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Ni trop  pimpante ni trop effacée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Espace réservé du contenu 3" descr="20090509_Photo-LG2.jpg"/>
          <p:cNvPicPr/>
          <p:nvPr/>
        </p:nvPicPr>
        <p:blipFill>
          <a:blip r:embed="rId1"/>
          <a:stretch/>
        </p:blipFill>
        <p:spPr>
          <a:xfrm>
            <a:off x="2603520" y="1600200"/>
            <a:ext cx="39369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Elle s’appelle Virgini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Espace réservé du contenu 3" descr="20090509_Photo-LG2.jpg"/>
          <p:cNvPicPr/>
          <p:nvPr/>
        </p:nvPicPr>
        <p:blipFill>
          <a:blip r:embed="rId1"/>
          <a:stretch/>
        </p:blipFill>
        <p:spPr>
          <a:xfrm>
            <a:off x="2603520" y="1600200"/>
            <a:ext cx="39369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Virginie Guyot exac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Espace réservé du contenu 3" descr="20090509_Photo-LG2.jpg"/>
          <p:cNvPicPr/>
          <p:nvPr/>
        </p:nvPicPr>
        <p:blipFill>
          <a:blip r:embed="rId1"/>
          <a:stretch/>
        </p:blipFill>
        <p:spPr>
          <a:xfrm>
            <a:off x="2603520" y="1600200"/>
            <a:ext cx="39369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Aujourd’hui  Elle a 33 ans ,  est mariée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Espace réservé du contenu 3" descr="20090509_Photo-LG2.jpg"/>
          <p:cNvPicPr/>
          <p:nvPr/>
        </p:nvPicPr>
        <p:blipFill>
          <a:blip r:embed="rId1"/>
          <a:stretch/>
        </p:blipFill>
        <p:spPr>
          <a:xfrm>
            <a:off x="2603520" y="1600200"/>
            <a:ext cx="39369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Et maman d’un petit garç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Espace réservé du contenu 3" descr="20090509_Photo-LG2.jpg"/>
          <p:cNvPicPr/>
          <p:nvPr/>
        </p:nvPicPr>
        <p:blipFill>
          <a:blip r:embed="rId1"/>
          <a:stretch/>
        </p:blipFill>
        <p:spPr>
          <a:xfrm>
            <a:off x="2603520" y="1600200"/>
            <a:ext cx="39369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Une fille normale quoi ! Sauf que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Espace réservé du contenu 3" descr="20090509_Photo-LG2.jpg"/>
          <p:cNvPicPr/>
          <p:nvPr/>
        </p:nvPicPr>
        <p:blipFill>
          <a:blip r:embed="rId1"/>
          <a:stretch/>
        </p:blipFill>
        <p:spPr>
          <a:xfrm>
            <a:off x="2603520" y="1600200"/>
            <a:ext cx="39369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elle est capitaine dans l’armée de l’air 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Espace réservé du contenu 3" descr="frenchairforcemajorvirge.jpg"/>
          <p:cNvPicPr/>
          <p:nvPr/>
        </p:nvPicPr>
        <p:blipFill>
          <a:blip r:embed="rId1"/>
          <a:stretch/>
        </p:blipFill>
        <p:spPr>
          <a:xfrm>
            <a:off x="1571760" y="1857240"/>
            <a:ext cx="5913360" cy="4071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  <p:sndAc>
      <p:stSnd>
        <p:snd r:embed="rId2" name="Top%20gu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8:45:40Z</dcterms:created>
  <dc:creator>aude</dc:creator>
  <dc:description/>
  <dc:language>en-US</dc:language>
  <cp:lastModifiedBy>aude</cp:lastModifiedBy>
  <dcterms:modified xsi:type="dcterms:W3CDTF">2009-12-28T10:56:28Z</dcterms:modified>
  <cp:revision>38</cp:revision>
  <dc:subject/>
  <dc:title>Encore une qui plane….</dc:title>
</cp:coreProperties>
</file>