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explode.wav" ContentType="audio/x-wav"/>
  <Override PartName="/ppt/media/camera.wav" ContentType="audio/x-wav"/>
  <Override PartName="/ppt/media/image4.png" ContentType="image/png"/>
  <Override PartName="/ppt/media/image6.jpeg" ContentType="image/jpeg"/>
  <Override PartName="/ppt/media/applause.wav" ContentType="audio/x-wav"/>
  <Override PartName="/ppt/media/chimes.wav" ContentType="audio/x-wav"/>
  <Override PartName="/ppt/media/image16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CAF-48BE-431A-B3B2-A726843C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5E8-DDE3-41F2-9A7E-39E5EB2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B61-9E43-4CA7-AA5D-542ED49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439-187A-4EEB-9830-E6AE32C0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D6A-49CE-455D-B069-75B9E592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EF6-25CA-449C-8690-2D4D0E7A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0CC-B381-4B40-8893-4EE6775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155-019D-4DA1-A714-3A23979D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56C-8763-4344-A955-0F292B3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CE0-8B84-4253-98E2-0E8B88C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00F-4CB6-42C5-ADAB-5B49F26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DD5-1579-4025-BC20-54DBFB6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6DFA-AF7C-4704-9C7B-F94C40F551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19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640"/>
            <a:ext cx="431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al é o único alimento que não se alte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907920"/>
            <a:ext cx="302436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“</a:t>
            </a:r>
            <a:r>
              <a:rPr b="1" lang="es-MX" sz="4400" spc="-1" strike="noStrike" u="sng">
                <a:solidFill>
                  <a:srgbClr val="669900"/>
                </a:solidFill>
                <a:uFillTx/>
                <a:latin typeface="Verdana"/>
              </a:rPr>
              <a:t>O Mel de Abelhas</a:t>
            </a: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1959120" cy="1469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curar completamente sinusites, tosse crónica e constipações comuns ou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everas, misturar uma colher de mel, raza, com 1/4 de colher de canela, em pó, e tomar com frequ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427640" y="1197000"/>
            <a:ext cx="41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CONSTIPAÇÃO</a:t>
            </a:r>
            <a:r>
              <a:rPr b="1" lang="en-US" sz="36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6000" y="2421000"/>
            <a:ext cx="1143000" cy="173664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istura do mel com canela tambem alivia o gás no estômago,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tifica o sistema de imunização e alivia a indigest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IGESTÃO</a:t>
            </a:r>
            <a:r>
              <a:rPr b="1" lang="en-US" sz="44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049480" cy="20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vita os estragos provocados pela velhice, quando tomado regularmente ..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isturar 4 colheres de mel, uma colher de canela e três chávenas de água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erver de modo a fazer um chá,com estes ingredientes, e beber ¼ do copo 3 a 4 vezes ao dia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ntem a pele fresca e suave e afasta os sintomas de velhice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igual forma, a ingestão deste chá, prolonga a vida e até uma pessoa de 100 anos poderá locomover-se como alguém muito mais jov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27640" y="1052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VELHIC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27800" y="2444760"/>
            <a:ext cx="1780920" cy="1619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09744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iariamente, 1/2 hora antes de deitar-se e 1/2 hora antes de pequeno almoço,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eba mel com canela, fervido num recipiente com água.</a:t>
            </a:r>
            <a:br>
              <a:rPr sz="2200"/>
            </a:b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o fizer, diariamente, reduz o peso até às pessoas mais obes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ERDA DE PES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500200" cy="1881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302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ome, a cada quatro horas, uma colher de mel misturada com 1/2 de vinagre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açã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R DE GARGANT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1989000" cy="14698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15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5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a important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: assegure-se de que é mel de abelha, puro, e não productos comerciai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ados em charope de milho, ou outras imitaçõ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994120" cy="207324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33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ão excelentes todos estes conselhos acerca do bendito Mel de Abelha e da bendita Canela de Ceilã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1349280" cy="1881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04000" y="2492280"/>
            <a:ext cx="1328760" cy="15130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940360" y="5805360"/>
            <a:ext cx="503280" cy="503280"/>
          </a:xfrm>
          <a:prstGeom prst="ellipse">
            <a:avLst/>
          </a:prstGeom>
          <a:solidFill>
            <a:srgbClr val="5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Monotype Corsiva"/>
              </a:rPr>
              <a:t>M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732720" y="1197000"/>
            <a:ext cx="4093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740720" y="1916280"/>
            <a:ext cx="4474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187280" y="1125360"/>
            <a:ext cx="667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275800">
            <a:off x="3708000" y="4508280"/>
            <a:ext cx="79236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4093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4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junção de Mel e Canela cura a maioría das enfermidades..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 mel produz-se em quase todos os países do mundo. 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pesar de ser doce, a Ciência já demostrou que,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omado em doses normais, como medicamento, o mel não prejudica os diabético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seguir, </a:t>
            </a: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uma lista das doenças que o mel cura, quando misturado com canel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1584360" cy="147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2421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O 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4076640"/>
            <a:ext cx="1390680" cy="15843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63640" y="3500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A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030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NFERMIDADES DO CORAÇÃO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31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te pão e coma-o, regularmente, ao pequeno almoço, no lugar de marmelhada ou manteig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duz o colesterol nas artérias e previne ataques no coraçã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em previne novos ataques em pessoas que já tiveram um primeiro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utilização, regular, deste producto, mitiga a falta de alento e fortalece as batidas do cora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Estados Unidos e Canadá, onde se utiliza esta pasta, continuamente, em Casas de Repouso, descobriu-se qu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el com canel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revitaliza as artérias e veias dos pacientes idosos e, simultânemante, as limp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1143000" cy="1530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116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444"/>
                </a:solidFill>
                <a:latin typeface="Arial"/>
              </a:rPr>
              <a:t>Faça uma pasta de mel com can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17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ICADAS DE INSECTOS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316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sture uma colherinha de mel, duas colherinhas de água tépida e um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lherinha de canela, em p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aça uma pasta com os ingredientes 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fregue-a, suavemente, sobre a pic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dor e a picada desaparecem no espaço de um ou dois minu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171468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309744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sturar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ma chávena de água quente com duas colheres de mel e uma colherinha de canela, em pó. Beber uma, pela manhã e uma, à noite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omado com regularidade, até as artrites crónicas são curáveis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Num estudo efectuado pela Universidade de Copenhague,  os médicos ministraram, aos seus pacientes, antes do pequeno almoço, uma colher de mel e ½ de canela , em pó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uma semana, de 200 pacientes, seguindo este tratamento, 75 deixaram, totalmente, de ter dores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m mês mais tarde, quase todos os pacientes estavm livres da dor, incluindo aqueles que já não se podiam deslocar, pelos seus próprios meios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2764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ARTRITES</a:t>
            </a:r>
            <a:r>
              <a:rPr b="0" lang="en-US" sz="40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1676520" cy="11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331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queles que sofrem de Calvice, ou estão a perder o cabelo, podem aplicar uma pasta de azeite (o mais quente que suportem), uma colher de mel e uma colherinha de canela, em pó, no couro cabeludo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ixar por 15 minutos, antes de lavar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ou-se ser efectivo, mesmo para aqueles que só aplicaram, esta mistura, apenas por 5 minu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427640" y="980640"/>
            <a:ext cx="417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QUEDA DO CABELO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440000" cy="1197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5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hávena de água, tépida, misturada com duas colheres de canela, em pó, e uma colher de mel, mata  os germes que produzem infecções nos rins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r de manhã e à tarde, até que passe a infec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427640" y="620280"/>
            <a:ext cx="424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INFEC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NOS RINS</a:t>
            </a:r>
            <a:r>
              <a:rPr b="1" lang="en-US" sz="36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01600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azer uma pasta com 1 colherinha de canela e cinco colherinhas de mel 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plicar no dente que doi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ve-se repetir, pelo menos, 3 vezes a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OR DE DENTES</a:t>
            </a:r>
            <a:r>
              <a:rPr b="1" lang="en-US" sz="48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18080" y="2925720"/>
            <a:ext cx="1790640" cy="12542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uas colheres de mel com três colherinhas de canela misturadas com ½ Lt de água e tomadas 3 vezes ao dia, reduzem o colesterol, em cerca de 10% no período de DUA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oras... </a:t>
            </a:r>
            <a:br>
              <a:rPr sz="2000"/>
            </a:br>
            <a:br>
              <a:rPr sz="2000"/>
            </a:br>
            <a:r>
              <a:rPr b="1" lang="es-ES" sz="20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Tomado diariamente, elimina o colesterol por completo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427280" y="1268280"/>
            <a:ext cx="432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LESTERO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2111400"/>
            <a:ext cx="2880000" cy="2303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6:11:17Z</dcterms:created>
  <dc:creator>Preferred Customer</dc:creator>
  <dc:description/>
  <dc:language>en-US</dc:language>
  <cp:lastModifiedBy>NUNO BONNEVILLE</cp:lastModifiedBy>
  <dcterms:modified xsi:type="dcterms:W3CDTF">2010-07-18T14:37:05Z</dcterms:modified>
  <cp:revision>37</cp:revision>
  <dc:subject/>
  <dc:title>Diapositiva 1</dc:title>
</cp:coreProperties>
</file>