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explode.wav" ContentType="audio/x-wav"/>
  <Override PartName="/ppt/media/camera.wav" ContentType="audio/x-wav"/>
  <Override PartName="/ppt/media/image4.png" ContentType="image/png"/>
  <Override PartName="/ppt/media/image6.jpeg" ContentType="image/jpeg"/>
  <Override PartName="/ppt/media/applause.wav" ContentType="audio/x-wav"/>
  <Override PartName="/ppt/media/chimes.wav" ContentType="audio/x-wav"/>
  <Override PartName="/ppt/media/image16.png" ContentType="image/png"/>
  <Override PartName="/ppt/media/image20.gif" ContentType="image/gif"/>
  <Override PartName="/ppt/media/image18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12.jpeg" ContentType="image/jpeg"/>
  <Override PartName="/ppt/media/image11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424-1F4A-4C2A-BF1D-05216699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224-20E5-4863-BA58-49D1B369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F85-BB3F-4B57-B0EB-8C7ADFA0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359-4AA2-4B6D-9767-71ACA93B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B88-CEAC-4BE4-98B9-19ABD74F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6D0-7CBB-4EAE-9FF4-64BEE018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021-A734-41BF-9FF2-C3A61090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6A0-708D-4A1F-8EDA-C20B2C45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68F-B4D6-488C-A30A-3808F4BB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B07-322D-4020-B3F3-4472261A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EAD-3327-409E-85DE-030F715C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F0C-A20C-4751-B417-B5AC3698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2320-9517-451F-B28E-8058382F919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19.gif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836640"/>
            <a:ext cx="4319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¿Qual é o único alimento que não se alte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907920"/>
            <a:ext cx="3024360" cy="41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9900"/>
                </a:solidFill>
                <a:latin typeface="Verdana"/>
              </a:rPr>
              <a:t>“</a:t>
            </a:r>
            <a:r>
              <a:rPr b="1" lang="es-MX" sz="4400" spc="-1" strike="noStrike" u="sng">
                <a:solidFill>
                  <a:srgbClr val="669900"/>
                </a:solidFill>
                <a:uFillTx/>
                <a:latin typeface="Verdana"/>
              </a:rPr>
              <a:t>O Mel de Abelhas</a:t>
            </a:r>
            <a:r>
              <a:rPr b="1" lang="es-MX" sz="4400" spc="-1" strike="noStrike">
                <a:solidFill>
                  <a:srgbClr val="669900"/>
                </a:solidFill>
                <a:latin typeface="Verdana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9280" y="4005360"/>
            <a:ext cx="1959120" cy="146988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3095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curar completamente sinusites, tosse crónica e constipações comuns ou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everas, misturar uma colher de mel, raza, com 1/4 de colher de canela, em pó, e tomar com frequ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427640" y="1197000"/>
            <a:ext cx="417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CONSTIPAÇÃO</a:t>
            </a:r>
            <a:r>
              <a:rPr b="1" lang="en-US" sz="36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96000" y="2421000"/>
            <a:ext cx="1143000" cy="173664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302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mistura do mel com canela tambem alivia o gás no estômago,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fortifica o sistema de imunização e alivia a indigest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427640" y="981000"/>
            <a:ext cx="4176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DIGESTÃO</a:t>
            </a:r>
            <a:r>
              <a:rPr b="1" lang="en-US" sz="44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2049480" cy="20048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302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vita os estragos provocados pela velhice, quando tomado regularmente ...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isturar 4 colheres de mel, uma colher de canela e três chávenas de água.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erver de modo a fazer um chá,com estes ingredientes, e beber ¼ do copo 3 a 4 vezes ao dia.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antem a pele fresca e suave e afasta os sintomas de velhice.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 igual forma, a ingestão deste chá, prolonga a vida e até uma pessoa de 100 anos poderá locomover-se como alguém muito mais jov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427640" y="1052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VELHICE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527800" y="2444760"/>
            <a:ext cx="1780920" cy="161928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09744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Diariamente, 1/2 hora antes de deitar-se e 1/2 hora antes de pequeno almoço,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beba mel com canela, fervido num recipiente com água.</a:t>
            </a:r>
            <a:br>
              <a:rPr sz="2200"/>
            </a:b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o fizer, diariamente, reduz o peso até às pessoas mais obes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427640" y="764640"/>
            <a:ext cx="41767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ERDA DE PES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2500200" cy="18810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5640" y="1052280"/>
            <a:ext cx="302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Tome, a cada quatro horas, uma colher de mel misturada com 1/2 de vinagre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açã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427640" y="764640"/>
            <a:ext cx="4176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R DE GARGANT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508720" y="2637000"/>
            <a:ext cx="1989000" cy="146988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150"/>
                            </p:stCondLst>
                            <p:childTnLst>
                              <p:par>
                                <p:cTn id="2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150"/>
                            </p:stCondLst>
                            <p:childTnLst>
                              <p:par>
                                <p:cTn id="302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16872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ta important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: assegure-se de que é mel de abelha, puro, e não productos comerciais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baseados em charope de milho, ou outras imitaçõ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2994120" cy="207324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331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São excelentes todos estes conselhos acerca do bendito Mel de Abelha e da bendita Canela de Ceilã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32360" y="1052640"/>
            <a:ext cx="1349280" cy="18810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04000" y="2492280"/>
            <a:ext cx="1328760" cy="1513080"/>
          </a:xfrm>
          <a:prstGeom prst="rect">
            <a:avLst/>
          </a:prstGeom>
          <a:ln w="28440">
            <a:solidFill>
              <a:srgbClr val="9900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940360" y="5805360"/>
            <a:ext cx="503280" cy="503280"/>
          </a:xfrm>
          <a:prstGeom prst="ellipse">
            <a:avLst/>
          </a:prstGeom>
          <a:solidFill>
            <a:srgbClr val="5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Monotype Corsiva"/>
              </a:rPr>
              <a:t>M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732720" y="1197000"/>
            <a:ext cx="409320" cy="419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7740720" y="1916280"/>
            <a:ext cx="44748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187280" y="1125360"/>
            <a:ext cx="66708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 rot="20275800">
            <a:off x="3708000" y="4508280"/>
            <a:ext cx="792360" cy="761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5148360" y="4076640"/>
            <a:ext cx="40932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46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 junção de Mel e Canela cura a maioría das enfermidades...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 mel produz-se em quase todos os países do mundo. 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pesar de ser doce, a Ciência já demostrou que,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omado em doses normais, como medicamento, o mel não prejudica os diabéticos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 seguir, </a:t>
            </a:r>
            <a:r>
              <a:rPr b="1" i="1" lang="es-E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uma lista das doenças que o mel cura, quando misturado com canela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35280" y="907920"/>
            <a:ext cx="1584360" cy="1470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63640" y="2421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Verdana"/>
              </a:rPr>
              <a:t>O M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2924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8000" y="4076640"/>
            <a:ext cx="1390680" cy="15843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763640" y="35002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Verdana"/>
              </a:rPr>
              <a:t>A C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7640" y="836280"/>
            <a:ext cx="40305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NFERMIDADES DO CORAÇÃO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316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Unte pão e coma-o, regularmente, ao pequeno almoço, no lugar de marmelhada ou manteiga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eduz o colesterol nas artérias e previne ataques no coraçã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ambem previne novos ataques em pessoas que já tiveram um primeiro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utilização, regular, deste producto, mitiga a falta de alento e fortalece as batidas do coraçã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Nos Estados Unidos e Canadá, onde se utiliza esta pasta, continuamente, em Casas de Repouso, descobriu-se que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el com canela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revitaliza as artérias e veias dos pacientes idosos e, simultânemante, as limp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96000" y="2637000"/>
            <a:ext cx="1143000" cy="153036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116000" y="90792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44444"/>
                </a:solidFill>
                <a:latin typeface="Arial"/>
              </a:rPr>
              <a:t>Faça uma pasta de mel com cane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27640" y="836280"/>
            <a:ext cx="4176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PICADAS DE INSECTOS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42920" y="1125000"/>
            <a:ext cx="3168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sture uma colherinha de mel, duas colherinhas de água tépida e uma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lherinha de canela, em p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aça uma pasta com os ingredientes e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fregue-a, suavemente, sobre a pic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dor e a picada desaparecem no espaço de um ou dois minu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80000" y="2637000"/>
            <a:ext cx="1714680" cy="148572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309744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Misturar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: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uma chávena de água quente com duas colheres de mel e uma colherinha de canela, em pó. Beber uma, pela manhã e uma, à noite.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e tomado com regularidade, até as artrites crónicas são curáveis.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Num estudo efectuado pela Universidade de Copenhague,  os médicos ministraram, aos seus pacientes, antes do pequeno almoço, uma colher de mel e ½ de canela , em pó.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Numa semana, de 200 pacientes, seguindo este tratamento, 75 deixaram, totalmente, de ter dores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Um mês mais tarde, quase todos os pacientes estavm livres da dor, incluindo aqueles que já não se podiam deslocar, pelos seus próprios meios.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42764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ARTRITES</a:t>
            </a:r>
            <a:r>
              <a:rPr b="0" lang="en-US" sz="40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80000" y="2492280"/>
            <a:ext cx="1676520" cy="11048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981000"/>
            <a:ext cx="331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queles que sofrem de Calvice, ou estão a perder o cabelo, podem aplicar uma pasta de azeite (o mais quente que suportem), uma colher de mel e uma colherinha de canela, em pó, no couro cabeludo. 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Deixar por 15 minutos, antes de lavar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vou-se ser efectivo, mesmo para aqueles que só aplicaram, esta mistura, apenas por 5 minu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427640" y="980640"/>
            <a:ext cx="41767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QUEDA DO CABELO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24360" y="2781360"/>
            <a:ext cx="1440000" cy="11970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5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150"/>
                            </p:stCondLst>
                            <p:childTnLst>
                              <p:par>
                                <p:cTn id="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16872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hávena de água, tépida, misturada com duas colheres de canela, em pó, e uma colher de mel, mata  os germes que produzem infecções nos rins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r de manhã e à tarde, até que passe a infec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427640" y="620280"/>
            <a:ext cx="4241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INFEC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 </a:t>
            </a:r>
            <a:r>
              <a:rPr b="1" lang="en-US" sz="40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NOS RINS</a:t>
            </a:r>
            <a:r>
              <a:rPr b="1" lang="en-US" sz="36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2016000" cy="148572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16872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azer uma pasta com 1 colherinha de canela e cinco colherinhas de mel e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plicar no dente que doi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eve-se repetir, pelo menos, 3 vezes ao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427640" y="981000"/>
            <a:ext cx="4176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44444"/>
                </a:solidFill>
                <a:uFillTx/>
                <a:latin typeface="Verdana"/>
                <a:ea typeface="Times New Roman"/>
              </a:rPr>
              <a:t>DOR DE DENTES</a:t>
            </a:r>
            <a:r>
              <a:rPr b="1" lang="en-US" sz="4800" spc="-1" strike="noStrike">
                <a:solidFill>
                  <a:srgbClr val="444444"/>
                </a:solidFill>
                <a:latin typeface="Verdana"/>
                <a:ea typeface="Times New Roman"/>
              </a:rPr>
              <a:t>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18080" y="2925720"/>
            <a:ext cx="1790640" cy="12542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5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31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uas colheres de mel com três colherinhas de canela misturadas com ½ Lt de água e tomadas 3 vezes ao dia, reduzem o colesterol, em cerca de 10% no período de DUA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oras... </a:t>
            </a:r>
            <a:br>
              <a:rPr sz="2000"/>
            </a:br>
            <a:br>
              <a:rPr sz="2000"/>
            </a:br>
            <a:r>
              <a:rPr b="1" lang="es-ES" sz="20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Tomado diariamente, elimina o colesterol por completo</a:t>
            </a:r>
            <a:r>
              <a:rPr b="1" lang="es-E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427280" y="1268280"/>
            <a:ext cx="4321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COLESTEROL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076720" y="2111400"/>
            <a:ext cx="2880000" cy="230328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6:11:17Z</dcterms:created>
  <dc:creator>Preferred Customer</dc:creator>
  <dc:description/>
  <dc:language>en-US</dc:language>
  <cp:lastModifiedBy>NUNO BONNEVILLE</cp:lastModifiedBy>
  <dcterms:modified xsi:type="dcterms:W3CDTF">2010-07-18T14:37:05Z</dcterms:modified>
  <cp:revision>37</cp:revision>
  <dc:subject/>
  <dc:title>Diapositiva 1</dc:title>
</cp:coreProperties>
</file>