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TEMA%20DE%20LARA.wav" ContentType="audio/x-wav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A0A-C799-42FB-A4B1-D7E503C5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1D5-9DD0-431F-ABAB-D5C501E4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1A0-C4ED-49D5-BB81-72EC3741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C8B-8713-4C80-AA58-A80E4B19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E98-5DA4-48EE-8006-299A63B1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F14-EA72-41E1-B95D-56FDACA6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D7A-97B9-4BF0-BFC8-213B052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222-5769-4606-AD9D-D2F9A88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CCA-33EA-4C30-89F7-E03E889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C2B-ED19-453D-A71C-864EB27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8B2-B329-4CFF-AF47-6F0F2DD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3CC-4527-461F-93FC-B2AD9EB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098-BD6B-4F8F-9BEE-B4FF1C73C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audio" Target="../media/TEMA%20DE%20LA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el2" descr=""/>
          <p:cNvPicPr/>
          <p:nvPr/>
        </p:nvPicPr>
        <p:blipFill>
          <a:blip r:embed="rId1"/>
          <a:stretch/>
        </p:blipFill>
        <p:spPr>
          <a:xfrm>
            <a:off x="5867280" y="48769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42" name="noel3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93168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noel3" descr=""/>
          <p:cNvPicPr/>
          <p:nvPr/>
        </p:nvPicPr>
        <p:blipFill>
          <a:blip r:embed="rId3"/>
          <a:stretch/>
        </p:blipFill>
        <p:spPr>
          <a:xfrm>
            <a:off x="5943600" y="2743200"/>
            <a:ext cx="93204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noel1" descr=""/>
          <p:cNvPicPr/>
          <p:nvPr/>
        </p:nvPicPr>
        <p:blipFill>
          <a:blip r:embed="rId4"/>
          <a:stretch/>
        </p:blipFill>
        <p:spPr>
          <a:xfrm>
            <a:off x="2133720" y="4876920"/>
            <a:ext cx="1269720" cy="126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380880"/>
            <a:ext cx="5562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Monotype Sorts"/>
                <a:ea typeface="Monotype Sorts"/>
              </a:rPr>
              <a:t>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Quisera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enhor nes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Natal, ornar um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árvore dentro do me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coração, e nela pendur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em vez de presentes, os nom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de amigos. Os de longe e os de per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Os antigos e os mais recentes. Os que ve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cada dia e os que raramente encontro. Os d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horas difíceis e os das horas alegres. Meus amig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humildes e meus amig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importantes. Os que sem quer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magoei, ou sem querer me magoara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Os que pouco me devem e aqueles a quem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devo muito. Os nomes de todos os que já passa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ela minha vida. Que seja uma árvore de raízes mui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rofundas para que seus nomes nunca sejam arrancados 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meu coração. De ramos muitos extensos para que novos nome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vindos de todas as partes,  venham juntar-se aos existentes. D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ombras   muito   agradáve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para que  a  nossa   Amiz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seja um momento de repous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33cc33"/>
                </a:solidFill>
                <a:latin typeface="ZapfHumnst BT"/>
              </a:rPr>
              <a:t>nas        lutas        da       Vid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rra" descr=""/>
          <p:cNvPicPr/>
          <p:nvPr/>
        </p:nvPicPr>
        <p:blipFill>
          <a:blip r:embed="rId5"/>
          <a:stretch/>
        </p:blipFill>
        <p:spPr>
          <a:xfrm>
            <a:off x="2362320" y="6095880"/>
            <a:ext cx="473364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enf1" descr=""/>
          <p:cNvPicPr/>
          <p:nvPr/>
        </p:nvPicPr>
        <p:blipFill>
          <a:blip r:embed="rId6"/>
          <a:stretch/>
        </p:blipFill>
        <p:spPr>
          <a:xfrm>
            <a:off x="7315200" y="457200"/>
            <a:ext cx="12384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enf2" descr=""/>
          <p:cNvPicPr/>
          <p:nvPr/>
        </p:nvPicPr>
        <p:blipFill>
          <a:blip r:embed="rId7"/>
          <a:stretch/>
        </p:blipFill>
        <p:spPr>
          <a:xfrm>
            <a:off x="533520" y="457200"/>
            <a:ext cx="123804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bonec1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81252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bonec2" descr=""/>
          <p:cNvPicPr/>
          <p:nvPr/>
        </p:nvPicPr>
        <p:blipFill>
          <a:blip r:embed="rId9"/>
          <a:stretch/>
        </p:blipFill>
        <p:spPr>
          <a:xfrm>
            <a:off x="7772400" y="5181480"/>
            <a:ext cx="81288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9260000">
            <a:off x="533880" y="15231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ushScript BT"/>
              </a:rPr>
              <a:t>Feliz N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864400">
            <a:off x="6003720" y="13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ushScript BT"/>
              </a:rPr>
              <a:t>Boas F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22:57:42Z</dcterms:created>
  <dc:creator/>
  <dc:description/>
  <dc:language>en-US</dc:language>
  <cp:lastModifiedBy>Miti</cp:lastModifiedBy>
  <dcterms:modified xsi:type="dcterms:W3CDTF">2004-05-08T19:37:01Z</dcterms:modified>
  <cp:revision>7</cp:revision>
  <dc:subject/>
  <dc:title/>
</cp:coreProperties>
</file>