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XANADU.wav" ContentType="audio/x-wav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CDCD-D823-454E-A087-FC582C6CB2C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EED5-6B18-4135-B290-BDD7FD19FB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661A-2179-44E9-84C3-E475CF44DE84}" type="slidenum"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A55-D1C7-46D2-8607-48D36A47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ADB-CABF-4B1E-AB92-DC2B3DD0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497-9702-4760-8803-4F941EF7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38D-16DC-46AF-995C-C609E498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679E-093F-4874-970D-5CFDB498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A0FC-EC78-44CB-8997-85CD3A43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EACB-8835-4805-AABB-A3B00043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3549-BB75-42DB-95AC-3A756E7E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C5C9-BFAE-47E1-9C3B-3717A61D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1DBC-52A9-44C2-B65E-3F9BE4C5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E375-FF9E-420B-9CF9-87814664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196-95B3-4D73-8B23-FD7AB34B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87F4-6E82-4675-B4CB-648A9FCA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164E-AFDD-43BA-9139-B0AFBB98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607D-79BE-4B6D-A1C6-A0FB97A9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7D40-C871-4E9A-BE10-C59A0B1C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ADA7-21DF-4FE1-AA5B-A85F1351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CEDDF-1855-4E91-B6AB-7041D0CA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99B92-BC9B-4D78-9D47-023888E2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2337E-E079-4F19-9F73-C82B2500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49C77-8849-4302-8454-9FEA34D2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578B4-27B8-4B6B-9370-FF60B8EB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EEE-1A2F-47DF-A2E4-20EE2EE2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89918-1B4E-4BFC-BF78-806AF478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9EE39-A9EA-4C58-8B83-F22198DE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2899A-7DDF-4BFD-AEDF-169E7C23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080AE-AF28-4E73-A998-5BBA38D8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5FDED-61F8-4A20-8BD0-B75FBDEF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5D385-836C-44C4-ABFB-81E75661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CF9D5-32E7-4A13-BE0E-1E31203C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B33-D16C-4E50-945C-F943E2F3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F75A-F358-4522-961A-5EB99A61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4F56-98F4-4001-938D-92183E48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74C0-A6F7-4E89-8E19-DB170355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373-257E-4653-B5EE-45A02BFD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91C9-7136-48DC-B549-47B803DC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1B98-66F6-4FD9-B86B-904299622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C748-6FCD-409B-BEC8-F045CE7986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A452-A2E2-4AC0-B89E-E57946FE6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XANADU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medusa2_160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1"/>
          <p:cNvSpPr/>
          <p:nvPr/>
        </p:nvSpPr>
        <p:spPr>
          <a:xfrm>
            <a:off x="2819520" y="114300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Sacode</a:t>
            </a:r>
            <a:r>
              <a:rPr b="1" lang="es-ES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-te: é a VIDA</a:t>
            </a:r>
            <a:r>
              <a:rPr b="1" i="1" lang="es-ES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XANADU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" dur="2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" dur="2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8 0.011 0.08657 0.028 0.1132 C 0.028 0.11453 0.055 0.15049 0.055 0.14916 C 0.07 0.16914 0.079 0.19711 0.079 0.2264 C 0.079 0.285 0.044 0.33162 0 0.33295 C -0.044 0.33162 -0.079 0.285 -0.079 0.2264 C -0.079 0.19711 -0.07 0.16914 -0.055 0.14916 C -0.055 0.15049 -0.028 0.11453 -0.028 0.1132 C -0.011 0.08657 -0.001 0.04528 0 0 Z">
                                      <p:cBhvr>
                                        <p:cTn id="2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048120" y="301932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152280" y="838080"/>
            <a:ext cx="86108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Um dia o burro de um camponês caiu num poço.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O animal zurrou, insistentemente, durante horas, enquanto o dono tentava descobrir, esforçadamente, mas sem éxito, alguma forma de conseguir tirá-lo de lá...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43080" y="91440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Finalmente o camponês desistiu dos seus esforços infrutíferos e decidiu que, dado que o animal já estava velho, o poço estava seco e a necessitar de ser tapado, realmente não valia a pena resgatar o burro e o melhor seria mesmo soterrá-lo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320040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609480" y="762120"/>
            <a:ext cx="815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Convidou os seus vizinhos para que viessem ajudá-lo. Todos pegaram nas suas pás e começaram a lançar terra ao poço. O burro deu-se conta do que estava a passar-se e chorou (zurrou), desconsoladamente...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200400" y="32004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152280" y="228600"/>
            <a:ext cx="86868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Logo, para surpresa geral, o burro deixou de zurrar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Depois de mais umas quantas pazadas de terra,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camponês espreitou, finalmente, para o fundo do poço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surpreendeu-se com o que via... Com cada paza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terra, o burro estava a fazer algo incrível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Sacudia-se da terra e dava um passo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cima... Enquanto os vizinhos iam lança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mais e mais terra para cima do animal, ele ia-se sacudindo e lá ia subindo, pazada a pazada!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976560" y="4724280"/>
            <a:ext cx="11890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380880" y="380880"/>
            <a:ext cx="838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Depressa todos puderam surpreender-se como o burro chegou até à boca do poço, passou por cima do bordo e saiu a trotar, alegremente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80880" y="4114800"/>
            <a:ext cx="8534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A vida também vai atirar-te terra, todo o tipo de terra... O truque para saíres desse poço é sacudires-te e dar um pequeno passo acima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Cada um dos nossos problemas pode levar-nos a um escalão acima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341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5800" y="609480"/>
            <a:ext cx="7620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Recorda as seis regras para se ser feliz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1. Libertar o coração de ódi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2. Libertar a cabeça de preocup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3. Acreditar que amanhã será melh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4. Viver com sincerid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5. Dar mais atenção aos outr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6. Nunca esperar recompens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2743200" cy="38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982960" cy="43102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1323720" y="99072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0000"/>
                </a:solidFill>
                <a:latin typeface="Comic Sans MS"/>
              </a:rPr>
              <a:t>Desfruta da vida... Sacode-te</a:t>
            </a:r>
            <a:r>
              <a:rPr b="1" i="1" lang="pt-PT" sz="3200" spc="-1" strike="noStrike">
                <a:solidFill>
                  <a:srgbClr val="ff0000"/>
                </a:solidFill>
                <a:latin typeface="Comic Sans MS"/>
              </a:rPr>
              <a:t>!!!</a:t>
            </a:r>
            <a:r>
              <a:rPr b="0" lang="pt-P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medusa2_160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68580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e gostaste deste PowerPoint envia-o aos teus Amigos e podes incluir-me na list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505320" y="2666880"/>
            <a:ext cx="2133360" cy="1981440"/>
          </a:xfrm>
          <a:prstGeom prst="rect">
            <a:avLst/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1944720" cy="2133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0"/>
          <p:cNvSpPr/>
          <p:nvPr/>
        </p:nvSpPr>
        <p:spPr>
          <a:xfrm>
            <a:off x="4876920" y="51814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Não te esqueç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pt-P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ACODE-TE</a:t>
            </a:r>
            <a:r>
              <a:rPr b="1" i="1" lang="pt-P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3"/>
          <a:stretch/>
        </p:blipFill>
        <p:spPr>
          <a:xfrm>
            <a:off x="2590920" y="380880"/>
            <a:ext cx="4483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09:52:05Z</dcterms:created>
  <dc:creator>user</dc:creator>
  <dc:description/>
  <dc:language>en-US</dc:language>
  <cp:lastModifiedBy>user</cp:lastModifiedBy>
  <dcterms:modified xsi:type="dcterms:W3CDTF">2010-08-12T09:52:30Z</dcterms:modified>
  <cp:revision>1</cp:revision>
  <dc:subject/>
  <dc:title>Diapositivo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