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XANADU.wav" ContentType="audio/x-wav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3FFB-1A48-4A2C-800C-14326EA42CA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61C6-6F7D-47FF-A79F-3C4802B9432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0106-72A5-4CFF-80D2-4CBB083B7DF8}" type="slidenum"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9C5-4929-484D-AE2A-42702166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6E04-6E94-445A-BE55-ED2C103E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F095-8924-4892-BDEA-D14DE63E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8EB-DFD1-4C4F-8529-796A79A0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2C67-AD63-43CC-95B3-CA13490C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2C6B-85B8-42E9-AB69-87F324FF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95CD-77C0-408B-8051-52A4B931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D87F-429B-47A9-8899-EADDEC70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FE0D-918D-47FF-8D11-AB0244D4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0FFD-3810-400E-8926-0C19DEE4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BB11-8141-4C2D-B1E9-71F3ABC9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113-C311-478E-A6C7-741F75C3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08C7-CBDE-488F-8176-32788378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E621-E16F-4F65-9DF3-8C9273A2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A149-25BF-45F8-BF75-F2A3E3FF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E1FE-196C-4466-A9C9-44A32562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65A1-190D-47D1-A619-3503EF33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56892-ECE7-48CE-8687-F8215045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15430-6F00-4772-BECE-C6F73B0D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666A4-C49A-4FA5-BA17-EEB711C9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68C73-A0A2-4C0B-A856-69A1941F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3FFE6-5EFE-4627-A829-019383A9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BEE-77FA-4963-8C7F-C132AA90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36CF7-62CF-4322-8B6A-6E10D737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05516-7C12-48CA-AF04-82DA15A7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57DBA-EC5D-46CE-AC06-006AE244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DE692-8046-44EF-A256-4787AED5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11102-A58C-436D-92DA-1E56B74E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9B16E-E5D6-45E3-AB1A-1C9E77AA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807B2-2B11-406A-8C20-E6F9056A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0F1A-AD64-4098-93E4-A4F7B001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528-AC92-4FDC-94B1-FF3706ED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8118-70E6-4C2C-A082-67C7A031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211E-F435-4C89-AC33-C9CEFB18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D6A-5F6D-4CB6-9894-D7D67AF1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88A-7362-42E4-A6B2-20115E83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AB3E-DAE0-41BC-80C1-402E745EA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5660-E370-45B8-B12F-89A34CC79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0828-8923-4FF1-A82B-FF869BEF9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XANADU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medusa2_160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1"/>
          <p:cNvSpPr/>
          <p:nvPr/>
        </p:nvSpPr>
        <p:spPr>
          <a:xfrm>
            <a:off x="2819520" y="114300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Sacode</a:t>
            </a:r>
            <a:r>
              <a:rPr b="1" lang="es-ES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-te: é a VIDA</a:t>
            </a:r>
            <a:r>
              <a:rPr b="1" i="1" lang="es-ES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XANADU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" dur="2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" dur="2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8 0.011 0.08657 0.028 0.1132 C 0.028 0.11453 0.055 0.15049 0.055 0.14916 C 0.07 0.16914 0.079 0.19711 0.079 0.2264 C 0.079 0.285 0.044 0.33162 0 0.33295 C -0.044 0.33162 -0.079 0.285 -0.079 0.2264 C -0.079 0.19711 -0.07 0.16914 -0.055 0.14916 C -0.055 0.15049 -0.028 0.11453 -0.028 0.1132 C -0.011 0.08657 -0.001 0.04528 0 0 Z">
                                      <p:cBhvr>
                                        <p:cTn id="2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048120" y="301932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152280" y="838080"/>
            <a:ext cx="86108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Um dia o burro de um camponês caiu num poço.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O animal zurrou, insistentemente, durante horas, enquanto o dono tentava descobrir, esforçadamente, mas sem éxito, alguma forma de conseguir tirá-lo de lá...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43080" y="91440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Finalmente o camponês desistiu dos seus esforços infrutíferos e decidiu que, dado que o animal já estava velho, o poço estava seco e a necessitar de ser tapado, realmente não valia a pena resgatar o burro e o melhor seria mesmo soterrá-lo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320040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609480" y="762120"/>
            <a:ext cx="815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Convidou os seus vizinhos para que viessem ajudá-lo. Todos pegaram nas suas pás e começaram a lançar terra ao poço. O burro deu-se conta do que estava a passar-se e chorou (zurrou), desconsoladamente...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200400" y="32004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152280" y="228600"/>
            <a:ext cx="86868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Logo, para surpresa geral, o burro deixou de zurrar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Depois de mais umas quantas pazadas de terra,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camponês espreitou, finalmente, para o fundo do poço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surpreendeu-se com o que via... Com cada paza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terra, o burro estava a fazer algo incrível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Sacudia-se da terra e dava um passo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cima... Enquanto os vizinhos iam lança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mais e mais terra para cima do animal, ele ia-se sacudindo e lá ia subindo, pazada a pazada!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976560" y="4724280"/>
            <a:ext cx="11890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380880" y="380880"/>
            <a:ext cx="838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Depressa todos puderam surpreender-se como o burro chegou até à boca do poço, passou por cima do bordo e saiu a trotar, alegremente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80880" y="4114800"/>
            <a:ext cx="8534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A vida também vai atirar-te terra, todo o tipo de terra... O truque para saíres desse poço é sacudires-te e dar um pequeno passo acima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</a:rPr>
              <a:t>Cada um dos nossos problemas pode levar-nos a um escalão acima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341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5800" y="609480"/>
            <a:ext cx="7620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Recorda as seis regras para se ser feliz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1. Libertar o coração de ódi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2. Libertar a cabeça de preocup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3. Acreditar que amanhã será melh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4. Viver com sincerid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5. Dar mais atenção aos outr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</a:rPr>
              <a:t>6. Nunca esperar recompens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2743200" cy="38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982960" cy="43102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1323720" y="99072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0000"/>
                </a:solidFill>
                <a:latin typeface="Comic Sans MS"/>
              </a:rPr>
              <a:t>Desfruta da vida... Sacode-te</a:t>
            </a:r>
            <a:r>
              <a:rPr b="1" i="1" lang="pt-PT" sz="3200" spc="-1" strike="noStrike">
                <a:solidFill>
                  <a:srgbClr val="ff0000"/>
                </a:solidFill>
                <a:latin typeface="Comic Sans MS"/>
              </a:rPr>
              <a:t>!!!</a:t>
            </a:r>
            <a:r>
              <a:rPr b="0" lang="pt-P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medusa2_160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68580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e gostaste deste PowerPoint envia-o aos teus Amigos e podes incluir-me na list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505320" y="2666880"/>
            <a:ext cx="2133360" cy="1981440"/>
          </a:xfrm>
          <a:prstGeom prst="rect">
            <a:avLst/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1944720" cy="2133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0"/>
          <p:cNvSpPr/>
          <p:nvPr/>
        </p:nvSpPr>
        <p:spPr>
          <a:xfrm>
            <a:off x="4876920" y="51814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Não te esqueç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pt-P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ACODE-TE</a:t>
            </a:r>
            <a:r>
              <a:rPr b="1" i="1" lang="pt-P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3"/>
          <a:stretch/>
        </p:blipFill>
        <p:spPr>
          <a:xfrm>
            <a:off x="2590920" y="380880"/>
            <a:ext cx="4483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09:52:05Z</dcterms:created>
  <dc:creator>user</dc:creator>
  <dc:description/>
  <dc:language>en-US</dc:language>
  <cp:lastModifiedBy>user</cp:lastModifiedBy>
  <dcterms:modified xsi:type="dcterms:W3CDTF">2010-08-12T09:52:30Z</dcterms:modified>
  <cp:revision>1</cp:revision>
  <dc:subject/>
  <dc:title>Diapositivo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