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MUTTLEY-EDIT.wav" ContentType="audio/x-wav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Maria_de_Vasconcelos_%20-%20_Can%C3%A7%C3%A3o_da_maria.wav" ContentType="audio/x-wav"/>
  <Override PartName="/ppt/media/image7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4A0-B2F8-4F0A-A5D2-08FCE516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B2B-D116-48D3-922A-AC586C15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8EE-B877-4333-A949-259F0048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77D-76CE-40B9-8F11-8F510ADA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AA6-DBEB-4723-8AAB-5924FF42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AF8-BFB9-49BE-9534-F8BFC566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1A5-AAEE-4258-91DA-B073CAE9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E0E-4DD0-41DF-A785-1F10BE74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CC2-DEEC-4D32-8A43-61F539E5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BE8-7FA8-4981-92D7-6E2DC6BB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F56-B423-4120-BA4E-532664E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D5B-6783-42AE-8C04-51DE7059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AD84-456A-46D2-B62A-1CBF61F10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audio" Target="../media/MUTTLEY-EDIT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audio" Target="../media/Maria_de_Vasconcelos_%20-%20_Can&#231;&#227;o_da_mari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1120680"/>
          <a:ext cx="8037720" cy="189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1120680"/>
                    <a:ext cx="803772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70280" y="4581000"/>
            <a:ext cx="53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BR" sz="3600" spc="-1" strike="noStrike">
                <a:solidFill>
                  <a:srgbClr val="000000"/>
                </a:solidFill>
                <a:latin typeface="Comic Sans MS"/>
              </a:rPr>
              <a:t>Dizem que é de Bocage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Narrow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549360"/>
          <a:ext cx="8294760" cy="137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549360"/>
                    <a:ext cx="829476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5160" y="4292640"/>
          <a:ext cx="9078840" cy="3284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0" y="4292640"/>
                    <a:ext cx="907884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640" y="1844280"/>
            <a:ext cx="649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Seja fino ou muito grosso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000" y="3428640"/>
            <a:ext cx="725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É  um  órgão  muito  quer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/>
    <p:sndAc>
      <p:stSnd>
        <p:snd r:embed="rId6" name="Maria_de_Vasconcelos_%20-%20_Can%C3%A7%C3%A3o_da_mari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620640"/>
          <a:ext cx="9080640" cy="166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0640"/>
                    <a:ext cx="908064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0" y="4221000"/>
          <a:ext cx="9144000" cy="292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21000"/>
                    <a:ext cx="91440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915560"/>
            <a:ext cx="643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É um só orgão nada ma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3480" y="3357000"/>
            <a:ext cx="583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esempenha  no  am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69480" y="475920"/>
            <a:ext cx="69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Quando uma dama apare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3640" y="1661400"/>
            <a:ext cx="66502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i-lo  a  pular  com  ard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36800" y="3357000"/>
            <a:ext cx="680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 é rapaz novo, estreme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69480" y="4758480"/>
            <a:ext cx="63468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 é velho, não tem vig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00" y="2349360"/>
          <a:ext cx="8324640" cy="312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349360"/>
                    <a:ext cx="83246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125520" y="2666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666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4280" y="27432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98160" y="263700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5480" y="404280"/>
            <a:ext cx="56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 seu nome não é fe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8560" y="1412640"/>
            <a:ext cx="53485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em sete letrinhas s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4292640"/>
            <a:ext cx="65988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em um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e um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no me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68040" y="5300280"/>
            <a:ext cx="685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omeça em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acaba em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8760" y="836280"/>
            <a:ext cx="67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unca se encontra sozin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0560" y="3644280"/>
            <a:ext cx="697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or uns outros orgãozinh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68760" y="2205000"/>
            <a:ext cx="67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Vive sempre acompanha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2720" y="5157720"/>
            <a:ext cx="59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Junto de si, lado a la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3500280"/>
          <a:ext cx="8324640" cy="312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500280"/>
                    <a:ext cx="83246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13000" y="38815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02600" y="3881520"/>
            <a:ext cx="27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Õ      E     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9480" y="549360"/>
            <a:ext cx="55191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 nome desses poré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3320" y="1628640"/>
            <a:ext cx="60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Não  oferece  confusõ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4400" y="2780640"/>
            <a:ext cx="595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em sete letras també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5229360"/>
            <a:ext cx="654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Tem um L, acaba em Õ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760" y="620280"/>
            <a:ext cx="72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800" spc="-1" strike="noStrike">
                <a:solidFill>
                  <a:srgbClr val="000000"/>
                </a:solidFill>
                <a:latin typeface="Times New Roman"/>
              </a:rPr>
              <a:t>Não pensem ser culpa minh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760" y="1844640"/>
            <a:ext cx="653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800" spc="-1" strike="noStrike">
                <a:solidFill>
                  <a:srgbClr val="000000"/>
                </a:solidFill>
                <a:latin typeface="Times New Roman"/>
              </a:rPr>
              <a:t>Para evitar mais questõ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920" y="3212640"/>
            <a:ext cx="616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s órgãos de que falei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49440" y="4941360"/>
            <a:ext cx="16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ão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42920" y="3645000"/>
          <a:ext cx="7391520" cy="133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645000"/>
                    <a:ext cx="73915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01800" y="554040"/>
          <a:ext cx="7650000" cy="2471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1800" y="554040"/>
                    <a:ext cx="765000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47640" y="5373720"/>
          <a:ext cx="6929640" cy="760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5373720"/>
                    <a:ext cx="6929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4:01:11Z</dcterms:created>
  <dc:creator>jotavend@ig.com.br</dc:creator>
  <dc:description/>
  <dc:language>en-US</dc:language>
  <cp:lastModifiedBy>Toni</cp:lastModifiedBy>
  <dcterms:modified xsi:type="dcterms:W3CDTF">2008-03-05T22:12:19Z</dcterms:modified>
  <cp:revision>75</cp:revision>
  <dc:subject>Apresentação.</dc:subject>
  <dc:title>Surpresa !!</dc:title>
</cp:coreProperties>
</file>