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2200" y="-36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4640" y="753840"/>
            <a:ext cx="4829400" cy="362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0080"/>
            <a:ext cx="29797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2200" y="9280080"/>
            <a:ext cx="2900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0E6-B32B-4349-86C7-2A2503DC40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B52-028F-4EB0-A804-2E574953BC8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E4E-ADE3-447D-9FA0-5B26817F35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CBA-4543-43FE-A2AA-21F62DE636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7481-9DD4-4FC9-AD4B-3847A8A2DC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68DE-3149-40FA-9DBD-023DC2B701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938-C292-4EAA-AE5C-E08DC1457D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230-D208-4915-B4E0-EC96B83987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77E-F63A-49C9-8BBE-2F78E37D8F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22560" y="9280440"/>
            <a:ext cx="2900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5A5-5ECE-4982-A4DD-5DB6D04FA4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035000" y="754200"/>
            <a:ext cx="4829400" cy="3622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41400" y="4602240"/>
            <a:ext cx="5019840" cy="43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750-3E29-4CD1-BAC2-A77DA1A4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D10-49CE-45CA-8759-E4FFBF3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1FA-E71A-4ABE-8046-19303421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62A-4F00-4218-8412-7E98DA49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04F-A885-46D2-AA8F-1104278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CC5-37D2-4D87-8CB8-69523D7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C42-7E3A-4CFF-AF18-F6C7EEC2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395-6BEE-4099-B88F-09CBCE9C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233-0A19-4D53-8DBA-98ABF22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9BF-D95B-46BD-BA26-85B06BC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B47-ADD9-4A29-80D8-DEDA673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B96-C701-4DDA-956A-B2260A4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420-87DC-4541-AB9A-B21BA0A7F9C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900000" y="1523880"/>
            <a:ext cx="19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3" descr=""/>
          <p:cNvPicPr/>
          <p:nvPr/>
        </p:nvPicPr>
        <p:blipFill>
          <a:blip r:embed="rId1"/>
          <a:stretch/>
        </p:blipFill>
        <p:spPr>
          <a:xfrm>
            <a:off x="34920" y="88920"/>
            <a:ext cx="3174840" cy="6616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6"/>
          <p:cNvSpPr/>
          <p:nvPr/>
        </p:nvSpPr>
        <p:spPr>
          <a:xfrm>
            <a:off x="2743200" y="838080"/>
            <a:ext cx="5791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IMPOR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80"/>
                </a:solidFill>
                <a:latin typeface="Arial"/>
                <a:ea typeface="Arial"/>
              </a:rPr>
              <a:t>POR FAVOR PRESTE ATENÇÃ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971800" y="454176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sto é muito importante e pode salvar a vida de uma pesso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8" descr=""/>
          <p:cNvPicPr/>
          <p:nvPr/>
        </p:nvPicPr>
        <p:blipFill>
          <a:blip r:embed="rId2"/>
          <a:stretch/>
        </p:blipFill>
        <p:spPr>
          <a:xfrm>
            <a:off x="-609480" y="3124080"/>
            <a:ext cx="2919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4"/>
          <p:cNvSpPr/>
          <p:nvPr/>
        </p:nvSpPr>
        <p:spPr>
          <a:xfrm>
            <a:off x="2286000" y="304920"/>
            <a:ext cx="646272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ava em casa e havia acabado de acordar as 05:30 hrs da manh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dia garantir que estava bem, pois tinha me  alimentado corretamente no dia anterior e dormido bast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evantai normalmente as 06:00hrs, fiz alongamentos, imediatamente um pouco atordoado para tomar banho, para trabalhar e tentando desfrutar daquele belo dia 29-06-2010 – terça fei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ogo, estranhamente estava tonto, não conseguia mais ter firmeza, equilíbrio físico e vocal, caí. Voltei a deitar e pedi que me furasse os dedos e me levassem com brevidade ao hospital. Havia sofrido um AVC (Acidente Vascular Cerebral) ironicamente ao acor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eu não soubesse reconhecer um AVC -  meu próprio AVC, que ironia - talvez hoje estivesse morto ou paraplé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4"/>
          <p:cNvSpPr/>
          <p:nvPr/>
        </p:nvSpPr>
        <p:spPr>
          <a:xfrm>
            <a:off x="2286000" y="304920"/>
            <a:ext cx="64627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agulha pode salvar a vida de um paciente com principios de derrame..., garantido por um médico chinês e dito por uma professora chin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u posso ser uma prova viv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uarde uma seringa ou uma agulha para fazer isto - é um método inconvencional para recuperar alguém de um derrame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ndo um derrame estiver a ocorrer fique calmo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emente de onde a vitima estiver, não a mova do lugar. Quando o derrame acontece, as veias capilares no cérebro vão-se gradualmente rompendo. Se a pessoa for movida os capilares vão se rom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tiver na sua casa uma seringa, melhor. Se não tiver, pode usar uma agulha de costura ou um alfine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4"/>
          <p:cNvSpPr/>
          <p:nvPr/>
        </p:nvSpPr>
        <p:spPr>
          <a:xfrm>
            <a:off x="2286000" y="304920"/>
            <a:ext cx="646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Esterilize, no fogo ou com álcool ou anti-séptico a agulha ou alfinete e depois dê uma furada em todos os dedos das mãos do pacient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ão há pontos específicos nos dedos para a  acupuntura, mas pode picar 1 milímetro perto da unha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 Pique até o sangue começar sair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o sangue não começar a sair, então aperte com os dedo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. Quando todos os dedos começarem a sangrar, espere alguns minutos e depois puxe as orelhas do paciente até ficarem vermelhas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. Pique cada um dos lóbulos das orelhas até começar a sair uma gota de sangue de cada lóbulo. Depois de alguns minutos a pessoa começará a recuperar os senti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8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4"/>
          <p:cNvSpPr/>
          <p:nvPr/>
        </p:nvSpPr>
        <p:spPr>
          <a:xfrm>
            <a:off x="2286000" y="304920"/>
            <a:ext cx="6462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pere até que recupere o estado normal e leve-o para o hospit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 for levado às pressas para o hospital, a viagem turbulenta vai fazer com que os vasos capilares no cérebro se rompam.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'Eu aprendi a tirar gotas de sangue para salvar vidas através de um médico de medicina tradicional chinesa. Ele chama-se Ha Bu Ting. Mais tarde tive experiência prática sobre o assunto e posso dizer que este método é 100% eficaz pois, aconteceu comigo.  Meu nome é Marcelo P Barbos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187280" y="609480"/>
            <a:ext cx="772812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Lembre-se também dos "3" Passos. Leia e aprend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Actualmente os médicos estabeleceram uma regra para reconhecê-lo mediante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três simples pergunta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1. Peça que a pessoa SOR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2. Peça que a pessoa LEVANTE AMBOS OS BRAÇ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3. Peça que a pessoa PRONUNCIE UMA FRASE SIMPLES (Coeren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                  </a:t>
            </a:r>
            <a:r>
              <a:rPr b="0" lang="pt-BR" sz="2200" spc="-1" strike="noStrike">
                <a:solidFill>
                  <a:srgbClr val="ff0080"/>
                </a:solidFill>
                <a:latin typeface="Arial"/>
                <a:ea typeface="Arial"/>
              </a:rPr>
              <a:t>(por exemplo . . . Hoje está um dia ensolarado)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Se ele ou ela apresentar dificuldades numa destas três questões, chame imediatamente o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SOCORRO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descreva os sintom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2050920" y="1773360"/>
            <a:ext cx="6458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Arial"/>
              </a:rPr>
              <a:t>Reconhecer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 neurologista afirma que se o chamarem dentro das  primeiras 3 horas, os efeitos de u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V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m ser revertidos totalmente. Afirma que é crucial diagnosticá-lo e prestar assistência ao paciente nas três horas subse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209680" y="822240"/>
            <a:ext cx="64659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Depois de descobrir que um grupo de voluntários que não são médicos podem identificar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facial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motora dos braços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 e a </a:t>
            </a:r>
            <a:r>
              <a:rPr b="0" lang="pt-BR" sz="2000" spc="-1" strike="noStrike">
                <a:solidFill>
                  <a:srgbClr val="ff0080"/>
                </a:solidFill>
                <a:latin typeface="Arial"/>
                <a:ea typeface="Arial"/>
              </a:rPr>
              <a:t>debilidade na fala</a:t>
            </a:r>
            <a:r>
              <a:rPr b="0" lang="pt-BR" sz="2000" spc="-1" strike="noStrike">
                <a:solidFill>
                  <a:srgbClr val="400080"/>
                </a:solidFill>
                <a:latin typeface="Arial"/>
                <a:ea typeface="Arial"/>
              </a:rPr>
              <a:t>, os investigadores apelam ao público em geral para que aprenda estas três perguntas. Uma maior divulgação deste teste pode facilitar um rápido diagnóstico e tratamento do AVC e evitar danos cerebr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aab5e"/>
                </a:solidFill>
                <a:latin typeface="Arial"/>
                <a:ea typeface="Arial"/>
              </a:rPr>
              <a:t>Um neurologista disse que se cada um de nós reenviar este e-mail a 10 pessoas, pelo menos uma vida, como a minha, pode ser sal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1523880"/>
            <a:ext cx="8229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1"/>
          <p:cNvSpPr/>
          <p:nvPr/>
        </p:nvSpPr>
        <p:spPr>
          <a:xfrm>
            <a:off x="2209680" y="161460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SEJA AM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E COMPARTILHE ESTE ARTI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COM O MÁXIMO DE AMIGOS POSSÍV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0080"/>
                </a:solidFill>
                <a:latin typeface="Arial"/>
                <a:ea typeface="Arial"/>
              </a:rPr>
              <a:t>poderá salvar vidas. Não é sp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8:34:24Z</dcterms:created>
  <dc:creator>RAC</dc:creator>
  <dc:description/>
  <dc:language>en-US</dc:language>
  <cp:lastModifiedBy>Marcelo</cp:lastModifiedBy>
  <cp:lastPrinted>2003-11-24T14:08:10Z</cp:lastPrinted>
  <dcterms:modified xsi:type="dcterms:W3CDTF">2010-07-12T20:56:55Z</dcterms:modified>
  <cp:revision>287</cp:revision>
  <dc:subject/>
  <dc:title>IMPORTANTE</dc:title>
</cp:coreProperties>
</file>