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2200" y="-360"/>
            <a:ext cx="29005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4640" y="753840"/>
            <a:ext cx="4829400" cy="362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0080"/>
            <a:ext cx="29797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2200" y="9280080"/>
            <a:ext cx="29005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2399-A568-4422-A9D4-15296808ED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4ACA-1720-4BFB-A8B9-51B66B3F001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3EE8-7EA8-4015-93F5-CBA86062412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3E31-7223-4A7E-A64C-6EBB278995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BC10-93E9-4B4A-806B-34ED84EDEB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08E6-74A5-4B68-B95E-7192B5CD5CD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9EBE-E948-4980-AB42-1EF9954499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C810-B359-4D7B-B253-566EAEF9596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010B-50DC-4688-B07C-B822A61D51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880C-82A9-4B0F-9F3C-D051A0755F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E33-4A4F-42DF-A37E-464F8AA3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0CC-1D8B-4B31-98FB-749FC3E3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02F-368D-4018-97EC-3A0FF66D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3CD-C08C-4313-BBA7-05D9D742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1E0-F18A-46E6-AF07-61BAB988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C35-EFE6-4A86-96F7-4D09B15B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500-619F-486C-920D-28688475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3FEA-DDFC-49BE-A9C9-EB373D9E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7CC-DC0E-4B65-B60E-65D53E07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360-6754-4B1B-981C-B471E4E1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0CC-4BCB-4064-A9F2-791CA6C2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995-0B0C-4C48-BCBB-610AD75B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0104-69F2-4D01-995A-99026098475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0"/>
          <p:cNvSpPr/>
          <p:nvPr/>
        </p:nvSpPr>
        <p:spPr>
          <a:xfrm>
            <a:off x="900000" y="1523880"/>
            <a:ext cx="1919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3" descr=""/>
          <p:cNvPicPr/>
          <p:nvPr/>
        </p:nvPicPr>
        <p:blipFill>
          <a:blip r:embed="rId1"/>
          <a:stretch/>
        </p:blipFill>
        <p:spPr>
          <a:xfrm>
            <a:off x="34920" y="88920"/>
            <a:ext cx="3174840" cy="6616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6"/>
          <p:cNvSpPr/>
          <p:nvPr/>
        </p:nvSpPr>
        <p:spPr>
          <a:xfrm>
            <a:off x="2743200" y="838080"/>
            <a:ext cx="57913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80"/>
                </a:solidFill>
                <a:latin typeface="Arial"/>
                <a:ea typeface="Arial"/>
              </a:rPr>
              <a:t>IMPORTA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80"/>
                </a:solidFill>
                <a:latin typeface="Arial"/>
                <a:ea typeface="Arial"/>
              </a:rPr>
              <a:t>POR FAVOR PRESTE ATENÇÃ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2971800" y="454176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Isto é muito importante e pode salvar a vida de uma pessoa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8" descr=""/>
          <p:cNvPicPr/>
          <p:nvPr/>
        </p:nvPicPr>
        <p:blipFill>
          <a:blip r:embed="rId2"/>
          <a:stretch/>
        </p:blipFill>
        <p:spPr>
          <a:xfrm>
            <a:off x="-609480" y="3124080"/>
            <a:ext cx="29196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4"/>
          <p:cNvSpPr/>
          <p:nvPr/>
        </p:nvSpPr>
        <p:spPr>
          <a:xfrm>
            <a:off x="2286000" y="304920"/>
            <a:ext cx="646272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tava em casa e havia acabado de acordar as 05:30 hrs da manhã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u podia garantir que estava bem, pois tinha me  alimentado corretamente no dia anterior e dormido basta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evantai normalmente as 06:00hrs, fiz alongamentos, imediatamente um pouco atordoado para tomar banho, para trabalhar e tentando desfrutar daquele belo dia 29-06-2010 – terça fei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ogo, estranhamente estava tonto, não conseguia mais ter firmeza, equilíbrio físico e vocal, caí. Voltei a deitar e pedi que me furasse os dedos e me levassem com brevidade ao hospital. Havia sofrido um AVC (Acidente Vascular Cerebral) ironicamente ao acord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 eu não soubesse reconhecer um AVC -  meu próprio AVC, que ironia - talvez hoje estivesse morto ou paraplég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4"/>
          <p:cNvSpPr/>
          <p:nvPr/>
        </p:nvSpPr>
        <p:spPr>
          <a:xfrm>
            <a:off x="2286000" y="304920"/>
            <a:ext cx="646272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ma agulha pode salvar a vida de um paciente com principios de derrame..., garantido por um médico chinês e dito por uma professora chin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u posso ser uma prova viva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Guarde uma seringa ou uma agulha para fazer isto - é um método inconvencional para recuperar alguém de um derrame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Quando um derrame estiver a ocorrer fique calmo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dependentemente de onde a vitima estiver, não a mova do lugar. Quando o derrame acontece, as veias capilares no cérebro vão-se gradualmente rompendo. Se a pessoa for movida os capilares vão se rom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 tiver na sua casa uma seringa, melhor. Se não tiver, pode usar uma agulha de costura ou um alfine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4"/>
          <p:cNvSpPr/>
          <p:nvPr/>
        </p:nvSpPr>
        <p:spPr>
          <a:xfrm>
            <a:off x="2286000" y="304920"/>
            <a:ext cx="6462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. Esterilize, no fogo ou com álcool ou anti-séptico a agulha ou alfinete e depois dê uma furada em todos os dedos das mãos do paciente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Não há pontos específicos nos dedos para a  acupuntura, mas pode picar 1 milímetro perto da unha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2. Pique até o sangue começar sair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 o sangue não começar a sair, então aperte com os dedos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3. Quando todos os dedos começarem a sangrar, espere alguns minutos e depois puxe as orelhas do paciente até ficarem vermelhas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4. Pique cada um dos lóbulos das orelhas até começar a sair uma gota de sangue de cada lóbulo. Depois de alguns minutos a pessoa começará a recuperar os sentid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4"/>
          <p:cNvSpPr/>
          <p:nvPr/>
        </p:nvSpPr>
        <p:spPr>
          <a:xfrm>
            <a:off x="2286000" y="304920"/>
            <a:ext cx="6462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pere até que recupere o estado normal e leve-o para o hospita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 for levado às pressas para o hospital, a viagem turbulenta vai fazer com que os vasos capilares no cérebro se rompam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'Eu aprendi a tirar gotas de sangue para salvar vidas através de um médico de medicina tradicional chinesa. Ele chama-se Ha Bu Ting. Mais tarde tive experiência prática sobre o assunto e posso dizer que este método é 100% eficaz pois, aconteceu comigo.  Meu nome é Marcelo P Barbos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15238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187280" y="609480"/>
            <a:ext cx="772812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Lembre-se também dos "3" Passos. Leia e apren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Actualmente os médicos estabeleceram uma regra para reconhecê-lo mediante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três simples perguntas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1. Peça que a pessoa SOR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2. Peça que a pessoa LEVANTE AMBOS OS BRAÇ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3. Peça que a pessoa PRONUNCIE UMA FRASE SIMPLES (Coeren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                  </a:t>
            </a: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(por exemplo . . . Hoje está um dia ensolarado)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Se ele ou ela apresentar dificuldades numa destas três questões, chame imediatamente o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SOCORRO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 e descreva os sintom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09480" y="15238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2050920" y="1773360"/>
            <a:ext cx="64580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  <a:ea typeface="Arial"/>
              </a:rPr>
              <a:t>Reconhecer u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V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m neurologista afirma que se o chamarem dentro das  primeiras 3 horas, os efeitos de u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VC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m ser revertidos totalmente. Afirma que é crucial diagnosticá-lo e prestar assistência ao paciente nas três horas subsequ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09480" y="15238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2209680" y="822240"/>
            <a:ext cx="646596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Depois de descobrir que um grupo de voluntários que não são médicos podem identificar a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debilidade facial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, a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debilidade motora dos braços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 e a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debilidade na fala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, os investigadores apelam ao público em geral para que aprenda estas três perguntas. Uma maior divulgação deste teste pode facilitar um rápido diagnóstico e tratamento do AVC e evitar danos cerebr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aab5e"/>
                </a:solidFill>
                <a:latin typeface="Arial"/>
                <a:ea typeface="Arial"/>
              </a:rPr>
              <a:t>Um neurologista disse que se cada um de nós reenviar este e-mail a 10 pessoas, pelo menos uma vida, como a minha, pode ser sal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09480" y="15238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1"/>
          <p:cNvSpPr/>
          <p:nvPr/>
        </p:nvSpPr>
        <p:spPr>
          <a:xfrm>
            <a:off x="2209680" y="1614600"/>
            <a:ext cx="6400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0080"/>
                </a:solidFill>
                <a:latin typeface="Arial"/>
                <a:ea typeface="Arial"/>
              </a:rPr>
              <a:t>SEJA AMI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0080"/>
                </a:solidFill>
                <a:latin typeface="Arial"/>
                <a:ea typeface="Arial"/>
              </a:rPr>
              <a:t>E COMPARTILHE ESTE ARTI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0080"/>
                </a:solidFill>
                <a:latin typeface="Arial"/>
                <a:ea typeface="Arial"/>
              </a:rPr>
              <a:t>COM O MÁXIMO DE AMIGOS POSSÍVE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0080"/>
                </a:solidFill>
                <a:latin typeface="Arial"/>
                <a:ea typeface="Arial"/>
              </a:rPr>
              <a:t>poderá salvar vidas. Não é sp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08:34:24Z</dcterms:created>
  <dc:creator>RAC</dc:creator>
  <dc:description/>
  <dc:language>en-US</dc:language>
  <cp:lastModifiedBy>Marcelo</cp:lastModifiedBy>
  <cp:lastPrinted>2003-11-24T14:08:10Z</cp:lastPrinted>
  <dcterms:modified xsi:type="dcterms:W3CDTF">2010-07-12T20:56:55Z</dcterms:modified>
  <cp:revision>287</cp:revision>
  <dc:subject/>
  <dc:title>IMPORTANTE</dc:title>
</cp:coreProperties>
</file>