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269-C3E4-4B9C-A920-569E033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F4B-3C66-4332-922A-2CA206CA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FA5-2AC8-49A5-9DB3-6753BC47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900-0362-4392-9197-56606283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836-D99B-42FB-8D8E-D2D1DE9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29-EA4C-4C3E-8040-15FE964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2A6-505F-4577-B56B-E8F119E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488-743C-4EB6-BD7F-3D040CF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A19-4D09-408C-BE3C-A59480D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588-E8FF-46BF-A9CC-E1C18C1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70F-00FA-4F43-9277-C46336B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BDD-3F53-485D-B736-8F1CE70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19E-909B-43B3-B914-4BE2681F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9066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 milagre do reto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812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802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364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56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71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571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57816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5508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7186680" cy="489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gora..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59500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..você não tem je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0280"/>
            <a:ext cx="55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iu,  como sorrir é fác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om dia pra você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062200">
            <a:off x="6228000" y="549000"/>
            <a:ext cx="3372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ntenha esse  sorriso, e envie este e-mail para um am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final, todo mundo precisa de um sorriso !!!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d@ C@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812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802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6564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39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6892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2000" y="11592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892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6784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8:01:52Z</dcterms:created>
  <dc:creator/>
  <dc:description/>
  <dc:language>en-US</dc:language>
  <cp:lastModifiedBy>O seu nome de utilizador</cp:lastModifiedBy>
  <dcterms:modified xsi:type="dcterms:W3CDTF">2006-11-08T18:10:39Z</dcterms:modified>
  <cp:revision>1</cp:revision>
  <dc:subject/>
  <dc:title/>
</cp:coreProperties>
</file>