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sorriso_wave.wav" ContentType="audio/x-wav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C45-1B63-459D-B545-DB7D8211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8FF-09BE-46EE-9463-A0A8EB16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156-1359-4434-B25D-A9A2F29E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B2E-41A5-4014-B0D9-5E1B6E69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077-A23E-49B8-9613-C4428033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26F-80F4-434E-AFF9-E53D91D5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F0D-AC1A-4939-9763-4F4ED90B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EF2-7E88-4663-B6D2-4EB8D1D3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C52-44B4-4814-98BC-FCE1DBFE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032-2035-4005-8703-6137B64D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43C3-85E7-4185-A83B-0A7EAB0E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A21-540B-452B-98CB-6B636436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00DB-8FAE-433E-9A6B-363154205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sorriso_wave.wav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sorriso_wav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290664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O milagre do reto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8128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1374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137440" cy="5816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80200" y="12384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7364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0990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72560" y="12384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7208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5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5165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571000" y="12384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7208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478944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571000" y="12384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578160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457200"/>
            <a:ext cx="3200400" cy="203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60280"/>
            <a:ext cx="550872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7186680" cy="489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8000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gora..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59500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...você não tem jei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sorriso_wa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17460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457200"/>
            <a:ext cx="3200400" cy="203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60280"/>
            <a:ext cx="55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Viu,  como sorrir é fác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om dia pra você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062200">
            <a:off x="6228000" y="549000"/>
            <a:ext cx="33721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antenha esse  sorriso, e envie este e-mail para um ami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final, todo mundo precisa de um sorriso !!!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d@ C@rr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sorriso_wav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286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8128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9840" cy="1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284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80200" y="12384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16564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45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4528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39000" y="12384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9608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66892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9608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2000" y="11592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630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68920" y="12384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6306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67840" y="12384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p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8:01:52Z</dcterms:created>
  <dc:creator/>
  <dc:description/>
  <dc:language>en-US</dc:language>
  <cp:lastModifiedBy>O seu nome de utilizador</cp:lastModifiedBy>
  <dcterms:modified xsi:type="dcterms:W3CDTF">2006-11-08T18:10:39Z</dcterms:modified>
  <cp:revision>1</cp:revision>
  <dc:subject/>
  <dc:title/>
</cp:coreProperties>
</file>