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ATT02934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9A0-798F-4E6E-9005-228FF2AB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B27-58ED-4298-A44A-FCB5232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1EE-19FA-4AFC-9A60-D32EAB98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6ED-6118-4055-A707-4D496B66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BF8-BE5A-438E-9E98-F48FF09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3D-173F-4749-859D-7979CB49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C09-A3A4-4254-BABE-DF3AFDC9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ABE-0AE7-4D78-82FF-D077C22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7F7-9E3B-4A43-93D0-8454651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CC4-6EC1-4E05-BCA0-F1E181C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F43-805B-4E8D-AE3A-C170FCF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913-61AE-47DD-9E30-A4DA6654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3C0-36FA-4A3A-88B8-C952AF83E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ATT02934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47920"/>
            <a:ext cx="60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 filha de um homem pediu a um sacerdote que fosse a sua casa rezar uma oração para o seu pai, que estava muito do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09564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ando o sacerdote chegou à residência, encontrou este pobre homem na sua cama com a cabeça levantada por um par de almof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121360"/>
            <a:ext cx="55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Havia uma cadeira ao lado da cama, pelo que o sacerdote pensou que o homem sabia que viria vê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  <p:sndAc>
      <p:stSnd>
        <p:snd r:embed="rId4" name="ATT0293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970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como podemos enviar contos e piadas através do correio electrónico... que se espalham como um incêndio voraz, mas quando enviamos mensagens sobre Deus, pensamos duas vezes antes de compartilhá-las com ou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93372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como a luxúria crua, vulgar e obscena passa livremente através do ciberspaço, mas o que fale de Jesus é suprimido nas escolas e nos lugares de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5415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Arial Black"/>
              </a:rPr>
              <a:t>É CURIOSO, NÃO É VERD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2986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se, quando acabares de ler esta mensagem, não a enviares a muitos dos que estão na tua lista de endereços, porque não estás certo do que eles pensam a respeito dela, e pior, do que eles vão pensar de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51166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É curioso quando nos preocupamos mais com o que as pessoas pensem de nós do que com o que Deus possa pensar de nós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098960"/>
            <a:ext cx="624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Senh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 Black"/>
              </a:rPr>
              <a:t>Fica connos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67000"/>
            <a:ext cx="5562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e tenhas um dia cheio de bênçãos, juntamente com os t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Além disso, convido-te a repetir esta oração em todo o lugar e todo o momento, quando precises de algo espe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4792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uponho que estava à minha espera?- disse-l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ão, quem é o senhor?- disse o homem enfer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6376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ou o sacerdote que a sua filha chamou para que rezassse com o senhor; quando entrei e reparei na cadeira vazia ao lado da sua cama, supus que o senhor sabia que eu viria visitá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5926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Ah sim, a C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Importa-se de fechar a porta?- disse o homem do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447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, surpreendido, fechou a p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81080"/>
            <a:ext cx="5715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homem enfermo disse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unca disse isto a ninguém, mas passei toda a minha vida sem saber como 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Quando estava na Igreja, escutava sempre, a propósito da oração, como se deve orar e os beneficios que tra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4864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...mas sempre… isto das orações; não sei.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Entra-me por um ouvido e sai-me pelo ou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447920"/>
            <a:ext cx="61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e qualquer forma, não faço ideia de como a fazer.  Então... Faz muito tempo que abandonei por completo a o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281304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Isto foi assim até há uns quatro anos, quando, conversando com o meu melhor amigo, ele me d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689360"/>
            <a:ext cx="56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José, isto da oração é simplesmente ter uma conversa com Jesus; sugiro--te, pois, que faças assi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4479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entas-te numa cadeira e colocas outra cadeira vazia em frente da tua; depois, com fé, olhas para Jesus sentado diante de t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7200"/>
            <a:ext cx="5410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Não é algo aloucado fazê-lo, pois Ele disse.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-“Eu estarei sempre convosco”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5464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Portanto, falas-Lhe e escuta-Lo, da mesma maneira como estás agora a fazer com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”Foi assim que fiz uma vez e agradou- -me, pelo que continuei a fazê-la umas duas horas diárias desde entã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743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Tenho sempre muito cuidado, não vá a minha filha ver-me... Pois internar-me-ia imediatamente num manicóm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4956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sentiu uma grande emoção ao escutar isto, e disse a José que era algo muito bom o que estava a fazer, e que nunca deixasse de o faz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Rezou imediatamente uma oração com ele.  Deu-lhe a bênção e foi para a sua paróq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7432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Dois dias depois, a filha de José chamou o sacerdote para lhe dizer que o seu pai tinha falec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03848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preguntou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Faleceu em Paz?-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213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Sim, quando saí da casa, por volta das duas da tarde, chamou-me e fui  vê-lo na sua c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41360"/>
            <a:ext cx="5943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Disse-me que me queria muito e deu-  -me um bei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Quando regressei de fazer umas compras, uma hora mais tarde, já o encontrei mo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37000"/>
            <a:ext cx="541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Mas há algo estranho na sua morte, pois, aparentemente, justamente antes de morrer, aproximou-se da cadeira que estava ao lado da sua cama e reclinou a cabeça sobre ela; foi assim que o encontr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21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-Que pensa o senhor que isto possa significa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678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-38160" y="0"/>
          <a:ext cx="547380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160" y="0"/>
                    <a:ext cx="54738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7928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3333ff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8900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7200" spc="-1" strike="noStrike">
                <a:solidFill>
                  <a:srgbClr val="000066"/>
                </a:solidFill>
                <a:latin typeface="Franklin Gothic Medium"/>
              </a:rPr>
              <a:t>A Cadeira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752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cc"/>
                </a:solidFill>
                <a:latin typeface="Arial"/>
              </a:rPr>
              <a:t>O sacerdote profundamente comovido, enxugou as lágrimas da emoção e respondeu-l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4416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0000"/>
                </a:solidFill>
                <a:latin typeface="Arial"/>
              </a:rPr>
              <a:t>-”Oxalá que todos nós pudéssemos ir dessa maneir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15:31Z</dcterms:created>
  <dc:creator>Jorge Sá Miguel</dc:creator>
  <dc:description/>
  <dc:language>en-US</dc:language>
  <cp:lastModifiedBy>Jorge Sá Miguel</cp:lastModifiedBy>
  <dcterms:modified xsi:type="dcterms:W3CDTF">2006-09-15T16:10:58Z</dcterms:modified>
  <cp:revision>10</cp:revision>
  <dc:subject/>
  <dc:title>Diapositivo 1</dc:title>
</cp:coreProperties>
</file>