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B50-55EC-4E7E-8517-B44C11C5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8D9-7612-4368-B4AC-C20EEB71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E53-59D4-4D38-9073-D33020DF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2D3-F693-4D6E-A601-203B75A6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F1D-F439-47F0-B72F-D8E9CC95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989-BEB5-4D2C-A468-FB89D31B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506-0938-4955-85F5-28EF9995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5DB-0975-4207-BF15-BAFA8AC5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BCC-9771-4F74-A060-812AC7C9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AC7-E771-49ED-8170-C178BA37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3B5-2E5E-49FA-B5B0-828E8577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E64-7FE8-4F2A-A1D5-A09F426D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0F51-8C6F-4FBB-A33B-D8376449859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ff00"/>
                </a:solidFill>
                <a:latin typeface="Arial"/>
              </a:rPr>
              <a:t>Um Presente</a:t>
            </a:r>
            <a:r>
              <a:rPr b="0" lang="pl-PL" sz="8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81080" y="3200040"/>
            <a:ext cx="502920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Arial"/>
              </a:rPr>
              <a:t>JULIAN BEEVER</a:t>
            </a: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 seus desen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í está</a:t>
            </a: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el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9120" y="1957320"/>
            <a:ext cx="5765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ff00"/>
                </a:solidFill>
                <a:latin typeface="Arial"/>
              </a:rPr>
              <a:t>COMO É POSSÍVEL</a:t>
            </a:r>
            <a:r>
              <a:rPr b="0" lang="pl-PL" sz="8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O mesmo desenho</a:t>
            </a:r>
            <a:br>
              <a:rPr sz="4000"/>
            </a:b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visto de outro âng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14680" y="195732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 agora os mais incrív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5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Um desenho de giz na calçada</a:t>
            </a: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8960" y="1957320"/>
            <a:ext cx="5626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3300"/>
                </a:solidFill>
                <a:latin typeface="Arial"/>
              </a:rPr>
              <a:t>Gostou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3300"/>
                </a:solidFill>
                <a:latin typeface="Arial"/>
              </a:rPr>
              <a:t>Então repassa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3300"/>
                </a:solidFill>
                <a:latin typeface="Arial"/>
              </a:rPr>
              <a:t>Vale a pena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Os demais desenhos também são feitos em giz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porém, quando vistos de certos ângulos, </a:t>
            </a:r>
            <a:r>
              <a:rPr b="0" lang="pl-PL" sz="5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pt-BR" sz="5400" spc="-1" strike="noStrike">
                <a:solidFill>
                  <a:srgbClr val="ffff00"/>
                </a:solidFill>
                <a:latin typeface="Arial"/>
              </a:rPr>
              <a:t>ão a </a:t>
            </a: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impressão</a:t>
            </a:r>
            <a:r>
              <a:rPr b="0" lang="pl-PL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de possuirem três dimensõ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3000"/>
            <a:ext cx="9144000" cy="129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23:47:39Z</dcterms:created>
  <dc:creator>Madejewska Ilonka</dc:creator>
  <dc:description/>
  <dc:language>en-US</dc:language>
  <cp:lastModifiedBy>Josielson Lira Matos</cp:lastModifiedBy>
  <dcterms:modified xsi:type="dcterms:W3CDTF">2006-06-25T17:13:14Z</dcterms:modified>
  <cp:revision>9</cp:revision>
  <dc:subject/>
  <dc:title>NIESPODZIANKA!!</dc:title>
</cp:coreProperties>
</file>