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531-CDDD-4B9C-8441-9CA8CBFE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71C-AC11-4C9A-9DB8-C34F971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7D4-2C9F-498E-B866-82A8645A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832-F1A7-4C66-AD73-7FDE0A6E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787-90C4-4BA0-9558-D399067F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8D3-4B28-4E87-84A5-6D38BEB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781-E567-4DBB-9797-BA51F7A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B20-A03F-4936-B754-E16B1AB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A3D-1207-488F-9F91-B0434DC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F61-B282-43FE-BE98-93FCEE9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F60-CFBF-4DC5-BB0C-4B18208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8B7-CAB4-40E3-AD83-E72C5503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3EE0-E522-4189-851D-D25EF5311F9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ff00"/>
                </a:solidFill>
                <a:latin typeface="Arial"/>
              </a:rPr>
              <a:t>Um Presente</a:t>
            </a:r>
            <a:r>
              <a:rPr b="0" lang="pl-PL" sz="8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1080" y="3200040"/>
            <a:ext cx="502920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Arial"/>
              </a:rPr>
              <a:t>JULIAN BEEVER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 seus desen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í está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9120" y="1957320"/>
            <a:ext cx="5765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00"/>
                </a:solidFill>
                <a:latin typeface="Arial"/>
              </a:rPr>
              <a:t>COMO É POSSÍVEL</a:t>
            </a:r>
            <a:r>
              <a:rPr b="0" lang="pl-PL" sz="8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O mesmo desenho</a:t>
            </a: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visto de outro â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 agora os mais incr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Um desenho de giz na calçada</a:t>
            </a: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8960" y="1957320"/>
            <a:ext cx="5626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Gostou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Então repassa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3300"/>
                </a:solidFill>
                <a:latin typeface="Arial"/>
              </a:rPr>
              <a:t>Vale a pen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Os demais desenhos também são feitos em giz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porém, quando vistos de certos ângulos, </a:t>
            </a:r>
            <a:r>
              <a:rPr b="0" lang="pl-PL" sz="5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pt-BR" sz="5400" spc="-1" strike="noStrike">
                <a:solidFill>
                  <a:srgbClr val="ffff00"/>
                </a:solidFill>
                <a:latin typeface="Arial"/>
              </a:rPr>
              <a:t>ão a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impressão</a:t>
            </a:r>
            <a:r>
              <a:rPr b="0" lang="pl-PL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de possuirem três dimensõ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3000"/>
            <a:ext cx="9144000" cy="12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3:47:39Z</dcterms:created>
  <dc:creator>Madejewska Ilonka</dc:creator>
  <dc:description/>
  <dc:language>en-US</dc:language>
  <cp:lastModifiedBy>Josielson Lira Matos</cp:lastModifiedBy>
  <dcterms:modified xsi:type="dcterms:W3CDTF">2006-06-25T17:13:14Z</dcterms:modified>
  <cp:revision>9</cp:revision>
  <dc:subject/>
  <dc:title>NIESPODZIANKA!!</dc:title>
</cp:coreProperties>
</file>