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01A-97B4-4264-BFF6-C62A09D0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8D5-F559-4843-897A-D1E1B300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0C5-9932-4294-A2D3-8D286DC1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C64-6FCB-4895-8FEC-FD6FAE3B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B27-CE9D-470E-8C72-B0ABC0BA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DF7-F96B-4B6D-BB8A-B7C054DF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87B-3299-4A2A-A721-1F71E8DE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88F-A727-465E-94D0-96B4DA53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2B0-9C1F-4CE4-A5C4-EE92A2F0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0DF-6659-421E-9BB7-AE40D634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EF3-3268-4FE2-A090-9B02C8E7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17B-3E12-4D45-B9E2-D5712DFE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E2B3-0DBD-4BD7-97A8-3BDD55BA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5400" spc="-1" strike="noStrike">
                <a:solidFill>
                  <a:srgbClr val="ffffff"/>
                </a:solidFill>
                <a:latin typeface="Monotype Corsiva"/>
              </a:rPr>
              <a:t>Πάμε καμιά κρουαζιέρα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ffffff"/>
                </a:solidFill>
                <a:latin typeface="Monotype Corsiva"/>
              </a:rPr>
              <a:t>Όποτε είναι πείτε μου να κανονίσω με τον Θόδωρο και την Γιάννα να το πάρουμε για κανένα Σ.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30:38Z</dcterms:created>
  <dc:creator>John Ioannides</dc:creator>
  <dc:description/>
  <dc:language>en-US</dc:language>
  <cp:lastModifiedBy>John Ioannides</cp:lastModifiedBy>
  <dcterms:modified xsi:type="dcterms:W3CDTF">2008-09-04T13:45:35Z</dcterms:modified>
  <cp:revision>2</cp:revision>
  <dc:subject/>
  <dc:title>Πάμε καμιά κρουαζιέρα;</dc:title>
</cp:coreProperties>
</file>