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125-54D0-44FA-98DD-E12A4D03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D9A-0353-4F7D-B5CE-B32E714B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E19-CD78-486F-8C7C-825B003A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5EE-41B9-436B-8D13-36F91A33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C1F-9730-42D9-BA12-A1C9E836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C31-71CB-4020-B71E-9515BFB4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1EA-1777-46C0-A361-33C8CA0F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1BD-DF21-4623-8349-30C6BEFF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30D-B4A7-4DB1-8721-E40F7194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A16-2F6B-4FC1-97CB-B577F632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5B5-21BC-4E71-B04F-A6BB0F19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6FD-BD57-4078-A69D-60EA99E1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CA94-BA20-4757-A6C3-1C248EE3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5400" spc="-1" strike="noStrike">
                <a:solidFill>
                  <a:srgbClr val="ffffff"/>
                </a:solidFill>
                <a:latin typeface="Monotype Corsiva"/>
              </a:rPr>
              <a:t>Πάμε καμιά κρουαζιέρα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ffffff"/>
                </a:solidFill>
                <a:latin typeface="Monotype Corsiva"/>
              </a:rPr>
              <a:t>Όποτε είναι πείτε μου να κανονίσω με τον Θόδωρο και την Γιάννα να το πάρουμε για κανένα Σ.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30:38Z</dcterms:created>
  <dc:creator>John Ioannides</dc:creator>
  <dc:description/>
  <dc:language>en-US</dc:language>
  <cp:lastModifiedBy>John Ioannides</cp:lastModifiedBy>
  <dcterms:modified xsi:type="dcterms:W3CDTF">2008-09-04T13:45:35Z</dcterms:modified>
  <cp:revision>2</cp:revision>
  <dc:subject/>
  <dc:title>Πάμε καμιά κρουαζιέρα;</dc:title>
</cp:coreProperties>
</file>