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quarela%20-%20Piano.wav" ContentType="audio/x-wav"/>
  <Override PartName="/ppt/media/image1.jpeg" ContentType="image/jpeg"/>
  <Override PartName="/ppt/media/Gargalhando%20-%20Crian%C3%A7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4375-3061-4F2B-9916-05654D8D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9F6-E5BF-4D83-9ED9-BE5FA6F3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5650-C3B2-4855-8745-EE8A6E69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CE9-7EA8-41AE-B5FA-105110F0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C1E1-077D-4744-A23A-CEF76199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0C7A-6779-4A7A-8B27-CA2C4A43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B170-06E9-447F-8DC3-BFB1751B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608F-B4A8-45B7-94B4-C5E48C11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0742-9FBA-43B0-AF15-F887CF3F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D3CB-B888-4A2C-ABB1-3D482D4D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BD5C-C380-40EB-9C92-D6A8475B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682-DA8F-4439-AC42-09E7654F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2513-E2CF-49C1-8C9A-586A90D8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395B-87BF-4821-9447-EB223777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D6CA-DEEF-4ACE-BA70-DDB2A9FE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FFBA-B870-4595-8099-986C34DA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6F9C-C5A5-46A9-A9B1-BCAFC327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DB4-BCE0-4FCC-91BB-1817596F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2A0-CEB3-4ECD-84DE-55BDD4F8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0B33-E3EB-4447-B704-0348DA34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7B31-80EF-48D7-9D8A-889E91DF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195-07DE-4812-AF18-4868C82E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BC0-1F6F-456C-970E-42092F2E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9F4-3650-41B1-AFE0-CE7FAB1E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3767-B7C2-400B-95F4-B0E430D5D0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E221-BBC7-4F8E-B518-9F753D6CD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quarela%20-%20Piano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argalhando%20-%20Crian&#231;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793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lha a confusão que uma conclusão  precipitada pode causar. Em um determinado país foi criado um programa de incentivo à natalidade, pois o número de habitantes estava caindo e a  proporção de idosos crescia assustadoramen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cessitando de mão-de-obra, o governo decretou uma lei que obrigava  os casais a terem um certo número de filhos. Previa também uma  tolerância  de  cinco  anos após o casamento, fim dos quais, o casal deveria  ter  pelo menos um pimpol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4428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RIPÉ?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4920" y="44280"/>
            <a:ext cx="910908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Ainda bem que sou discreta, e não quero ninguém nos olhan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Ótimo, eu também prefiro assim. Agora, se me der licença, eu preciso armar o tripé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1700" spc="-1" strike="noStrike">
                <a:solidFill>
                  <a:srgbClr val="ff0000"/>
                </a:solidFill>
                <a:latin typeface="Arial"/>
              </a:rPr>
              <a:t>Tripé?!!!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60280"/>
            <a:ext cx="9144000" cy="46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Sim madame, pois o negócio, além de pesado, depois de armado mede quase um metr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ULHER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desmaiou..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60280"/>
            <a:ext cx="9144000" cy="46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Sim madame, pois o negócio, além de pesado, depois de armado mede quase um metr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ULHER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desmaiou..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474920" y="5013360"/>
            <a:ext cx="6336720" cy="1844640"/>
            <a:chOff x="1474920" y="5013360"/>
            <a:chExt cx="6336720" cy="184464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3563640" y="5013360"/>
              <a:ext cx="1782360" cy="184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"/>
            <p:cNvGrpSpPr/>
            <p:nvPr/>
          </p:nvGrpSpPr>
          <p:grpSpPr>
            <a:xfrm>
              <a:off x="1474920" y="5840280"/>
              <a:ext cx="6336720" cy="370080"/>
              <a:chOff x="1474920" y="5840280"/>
              <a:chExt cx="6336720" cy="370080"/>
            </a:xfrm>
          </p:grpSpPr>
          <p:sp>
            <p:nvSpPr>
              <p:cNvPr id="136" name=""/>
              <p:cNvSpPr/>
              <p:nvPr/>
            </p:nvSpPr>
            <p:spPr>
              <a:xfrm>
                <a:off x="1474920" y="5842080"/>
                <a:ext cx="20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Repassado por Ênio,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364000" y="5840280"/>
                <a:ext cx="24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O seu amigo sorridente.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11924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os casais que no fim do prazo não conseguissem  ter  um filho, o governo destacaria um agente auxiliar, para orientá-los, para que a criança fosse gerad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ste cenário se deu o seguinte diálogo entre um casal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6828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Querido, completamos hoje 5 anos de casament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MARIDO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É... Querida e, infelizmente não tivemos um filho sequ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Será que eles vão mandar o tal agen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MARIDO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Não sei... Talvez mand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 se ele vi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MARIDO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Bem, eu não posso fazer n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 eu, menos ainda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MARIDO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Vou embora, já estou atrasado para o trabalh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62388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go após a saída do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MARIDO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bateram à porta: TOC, TOC, TOC!!!!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  MUL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abriu  e  encontrou  um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HOMEM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de  boa  aparência  à  esp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Tratava-se de um fotógrafo que saiu para atender um chamado de uma família que queria fotografar sua criança recém-nascida, mas que por engano, errara o endereço procurado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 o seguinte diálogo se segui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Bom dia! Eu sou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Ah, já sei! Pode entr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Obrigado. Seu esposo está em cas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Não. Ele foi trabalh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Presumo que esteja a par da minha vinda aqui?!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Sim, o meu marido também já está sabendo de tudo. E, eu concordo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Ótimo. Então vamos começ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476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Mas já? Tão rápido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Preciso ser breve, pois tenho ainda 16 casas para visitar, ainda hoj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Minha nossa! O senhor agüent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O segredo é que eu gosto do meu trabalho, me dá muito praze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Então vamos começar. Como faremos e onde você pref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Permita-me sugerir: - Uma no quarto, duas no tapete, duas no sofá e, uma em pé ao lado da mesinha do telef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1896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Serão necessárias tant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Bem, talvez possamos acertar na mosca já na primeira tentativ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O senhor já visitou alguma casa neste bairr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- Não, mas tenho comigo uma variedade de amostras do meu trabalho e... (mostrou algumas fotos de crianças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- Não são lindas?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Como são belos estes bebês! Foi o senhor mesmo quem fez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4920" y="44280"/>
            <a:ext cx="9109080" cy="70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m. Veja esta aqui, por  exemplo, foi conseguida na porta do supermerca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Que horror! O senhor não acha muito públi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 Sim, mas a mãe queria muita publicidad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Eu não teria coragem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Esta aqui foi em cima do ônibu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Cacilda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4920" y="44280"/>
            <a:ext cx="910908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Foi um dos serviços mais difíceis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já fiz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MULHER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aro, eu imagino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Esta foi feita no inverno, em um parque de Diversõ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Credo! Como o senhor conseguiu? Não sentiu fr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Não  foi  fácil!  Como  se  não bastasse a neve caindo, tinha uma multidão em volta.Quase não consegui acab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14:19:40Z</dcterms:created>
  <dc:creator>André Piazza</dc:creator>
  <dc:description/>
  <dc:language>en-US</dc:language>
  <cp:lastModifiedBy>Ênio Silva</cp:lastModifiedBy>
  <dcterms:modified xsi:type="dcterms:W3CDTF">2008-04-15T22:59:43Z</dcterms:modified>
  <cp:revision>7</cp:revision>
  <dc:subject/>
  <dc:title>Slide 1</dc:title>
</cp:coreProperties>
</file>