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quarela%20-%20Piano.wav" ContentType="audio/x-wav"/>
  <Override PartName="/ppt/media/image1.jpeg" ContentType="image/jpeg"/>
  <Override PartName="/ppt/media/Gargalhando%20-%20Crian%C3%A7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369-B428-4AAE-B908-61DE01E7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834-E1A8-4245-AA75-ED2AC1AD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85F-4075-49F3-B482-5B74479B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843-9C45-436C-900D-6E8333EF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6DAD-513A-4F27-87FE-488B8B61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19E0-729C-4205-BD00-B66057F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2F0-2CD3-41ED-B822-BDD68067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FB89-EE47-4A1E-A5A8-2C38F18C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C2C7-15EE-4C77-95D2-E10BB870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68C4-6F09-4ECC-9094-EA12AD0A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E6BD-54D6-4405-A2DC-179ED70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A8A-4498-4FBE-9C04-D1B8C94A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A0A4-1E3C-4862-9821-F04F29BE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0127-4B57-491E-BF11-19A01B72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88CD-F11E-4368-BC09-E3D13DA1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9AD8-B666-49F9-9A01-ED8B729E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C45A-A95C-4E2B-B772-3C88EC6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599-D3ED-4F70-81B3-28931BA9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27C-1B31-4362-BCEF-5A28CE2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073-C03C-47DE-B080-CA3C3C82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A69-2B31-4ACD-B3A0-F4B3E7E7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F25-750C-42B8-88C6-BF860AF0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028-E978-493A-9335-F9307ADE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B8D-2AF9-45E2-84D8-4F556E9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8F23-207D-422C-9660-0D7D16676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3551-4994-44F3-B86B-DE253E939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quarela%20-%20Pian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rgalhando%20-%20Crian&#231;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793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lha a confusão que uma conclusão  precipitada pode causar. Em um determinado país foi criado um programa de incentivo à natalidade, pois o número de habitantes estava caindo e a  proporção de idosos crescia assustadoramen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cessitando de mão-de-obra, o governo decretou uma lei que obrigava  os casais a terem um certo número de filhos. Previa também uma  tolerância  de  cinco  anos após o casamento, fim dos quais, o casal deveria  ter  pelo menos um pimpolh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42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RIPÉ?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920" y="44280"/>
            <a:ext cx="910908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Ainda bem que sou discreta, e não quero ninguém nos olhan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Ótimo, eu também prefiro assim. Agora, se me der licença, eu preciso armar o tripé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1700" spc="-1" strike="noStrike">
                <a:solidFill>
                  <a:srgbClr val="ff0000"/>
                </a:solidFill>
                <a:latin typeface="Arial"/>
              </a:rPr>
              <a:t>Tripé?!!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60280"/>
            <a:ext cx="914400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Sim madame, pois o negócio, além de pesado, depois de armado mede quase um met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ULHER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smaiou..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60280"/>
            <a:ext cx="914400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Sim madame, pois o negócio, além de pesado, depois de armado mede quase um metr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ULHER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smaiou..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74920" y="5013360"/>
            <a:ext cx="6336720" cy="1844640"/>
            <a:chOff x="1474920" y="5013360"/>
            <a:chExt cx="6336720" cy="18446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563640" y="5013360"/>
              <a:ext cx="1782360" cy="184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474920" y="5840280"/>
              <a:ext cx="6336720" cy="370080"/>
              <a:chOff x="1474920" y="5840280"/>
              <a:chExt cx="6336720" cy="370080"/>
            </a:xfrm>
          </p:grpSpPr>
          <p:sp>
            <p:nvSpPr>
              <p:cNvPr id="136" name=""/>
              <p:cNvSpPr/>
              <p:nvPr/>
            </p:nvSpPr>
            <p:spPr>
              <a:xfrm>
                <a:off x="1474920" y="5842080"/>
                <a:ext cx="20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Repassado por Ênio,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64000" y="5840280"/>
                <a:ext cx="24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O seu amigo sorridente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192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os casais que no fim do prazo não conseguissem  ter  um filho, o governo destacaria um agente auxiliar, para orientá-los, para que a criança fosse gerad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ste cenário se deu o seguinte diálogo entre um casa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682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Querido, completamos hoje 5 anos de casament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É... Querida e, infelizmente não tivemos um filho sequ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erá que eles vão mandar o tal ag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Não sei... Talvez mand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 se ele vi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em, eu não posso fazer n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E eu, menos ainda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ou embora, já estou atrasado para o trabalh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23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go após a saída do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MARIDO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bateram à porta: TOC, TOC, TOC!!!!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  MUL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abriu  e  encontrou  um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OME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de  boa  aparência  à  esp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Tratava-se de um fotógrafo que saiu para atender um chamado de uma família que queria fotografar sua criança recém-nascida, mas que por engano, errara o endereço procurado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 o seguinte diálogo se segui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Bom dia! Eu sou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Ah, já sei! Pode entr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Obrigado. Seu esposo está em ca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Não. Ele foi trabalh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Presumo que esteja a par da minha vinda aqui?!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Sim, o meu marido também já está sabendo de tudo. E, eu concordo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Ótimo. Então vamos começ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476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Mas já? Tão rápido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Preciso ser breve, pois tenho ainda 16 casas para visitar, ainda ho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Minha nossa! O senhor agüent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 segredo é que eu gosto do meu trabalho, me dá muito prazer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Então vamos começar. Como faremos e onde você pref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Permita-me sugerir: - Uma no quarto, duas no tapete, duas no sofá e, uma em pé ao lado da mesinha do telef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18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Serão necessárias tant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Bem, talvez possamos acertar na mosca já na primeira tentativ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O senhor já visitou alguma casa neste bairr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- Não, mas tenho comigo uma variedade de amostras do meu trabalho e... (mostrou algumas fotos de crianças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 Não são lindas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Como são belos estes bebês! Foi o senhor mesmo quem fez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920" y="44280"/>
            <a:ext cx="910908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m. Veja esta aqui, por  exemplo, foi conseguida na porta do supermerca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Que horror! O senhor não acha muito públ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 Sim, mas a mãe queria muita publicida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Eu não teria coragem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Esta aqui foi em cima do ônib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Cacilda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920" y="44280"/>
            <a:ext cx="91090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Foi um dos serviços mais difíceis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já fiz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aro, eu imagin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Esta foi feita no inverno, em um parque de Diversõ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MULHER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Credo! Como o senhor conseguiu? Não sentiu fr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HOMEM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Não  foi  fácil!  Como  se  não bastasse a neve caindo, tinha uma multidão em volta.Quase não consegui acab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19:40Z</dcterms:created>
  <dc:creator>André Piazza</dc:creator>
  <dc:description/>
  <dc:language>en-US</dc:language>
  <cp:lastModifiedBy>Ênio Silva</cp:lastModifiedBy>
  <dcterms:modified xsi:type="dcterms:W3CDTF">2008-04-15T22:59:43Z</dcterms:modified>
  <cp:revision>7</cp:revision>
  <dc:subject/>
  <dc:title>Slide 1</dc:title>
</cp:coreProperties>
</file>