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7D3-92A1-4F88-8DD0-07755916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940-A791-41EA-A949-B3DCDF68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0D9-5C41-4140-A7C5-2CCBC6A8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917-8537-4A18-A076-D6BC5681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C33-8AFE-4EE8-857B-58456792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584-C5A0-480B-94FC-35B67A69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C52-DCB3-4F45-BF35-3B37C0A4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1CF-2E65-4B44-825D-8FFA04C5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511-4404-415B-9AE8-D9882028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62E-A49A-4D05-B973-766B39C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402-A9CA-4E71-8043-A8FFFFF2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155-ECC6-4552-82C5-2204EB7B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99D8-B493-4ABD-A8A2-3B199151F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tar em Pek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82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4452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ancocho de vísc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ca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Y v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400" y="1981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rpión ne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86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sano de s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943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garr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6494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carrones mier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1600" y="22096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acranes m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67080" y="53341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huzos de Lagart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vueltas en h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2084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pas de sesos  de pe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57800" y="5334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stras, calamares y codillos de igu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971800" y="19224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acranes y cucarrones var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2876400" y="192240"/>
            <a:ext cx="111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acranes, grillos, y cucarrones mier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52280" y="-114480"/>
            <a:ext cx="9448560" cy="7086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3372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ballitos de 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62320" y="2286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piente y gusanos de seda después de ser a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m Apet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 veremos nas Olimpí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.Cara D’an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1765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s convido a jantar,  eu pago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0720" y="5105520"/>
            <a:ext cx="202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rellas de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aceite de tibu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04560" y="3392640"/>
            <a:ext cx="197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rco esp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mar</a:t>
            </a:r>
            <a:r>
              <a:rPr b="0" lang="es-ES_tradnl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380880" y="646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chugas de gallin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a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06556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lebras de r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33920" y="457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serpiente a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ser a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22600" y="6135840"/>
            <a:ext cx="71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ígados de perro con ver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9799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lmones de cabra con 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692360" y="1868400"/>
            <a:ext cx="76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hócolo con salsa de geng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20:23:32Z</dcterms:created>
  <dc:creator>Gaby</dc:creator>
  <dc:description/>
  <dc:language>en-US</dc:language>
  <cp:lastModifiedBy>vitalino</cp:lastModifiedBy>
  <dcterms:modified xsi:type="dcterms:W3CDTF">2008-04-13T16:08:27Z</dcterms:modified>
  <cp:revision>11</cp:revision>
  <dc:subject/>
  <dc:title>שקופית 1</dc:title>
</cp:coreProperties>
</file>