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82A2-F519-49BE-9897-588607DD8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2F41-6F1E-4140-A3DF-AB584D23B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5DA1-52C4-4F98-928C-4DC72EF63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230F-B93C-432C-A502-41EDB1EEE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B710-5DE8-40B2-A703-9F249DA35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9748-705A-49F5-B438-3D264FC97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23A7-1CB1-49BF-B2A6-67F816CEF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F4E7-BEEB-4569-8CA5-6BADD9D12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9305-96D5-4545-B33F-C2B8B419B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94D5-86E3-4FC8-B8AA-C34B354A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E2FC-F81D-4F24-BFCD-32600FAF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46A5-E941-4CD7-8E9D-2A4521E1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B53D7-E5B6-4E38-BE34-43F01C4BB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ntar em Pek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982080" y="6705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344520"/>
            <a:ext cx="281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ancocho de vísc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 caba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Y va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057400" y="19810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corpión neg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22860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usano de se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59436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igarra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43400" y="64944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carrones mierd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371600" y="220968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lacranes mo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267080" y="533412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huzos de Lagart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nvueltas en hue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42084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pas de sesos  de per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257800" y="533412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stras, calamares y codillos de igu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971800" y="19224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lacranes y cucarrones vari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-2876400" y="192240"/>
            <a:ext cx="1118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lacranes, grillos, y cucarrones mierd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-152280" y="-114480"/>
            <a:ext cx="9448560" cy="70869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133720" y="3049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aballitos de m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362320" y="22860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piente y gusanos de seda después de ser as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om Apetit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s veremos nas Olimpí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.Cara D’an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217656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Os convido a jantar,  eu pago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20720" y="5105520"/>
            <a:ext cx="2022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trellas de m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n aceite de tibur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904560" y="3392640"/>
            <a:ext cx="197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uerco espí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 mar</a:t>
            </a:r>
            <a:r>
              <a:rPr b="0" lang="es-ES_tradnl" sz="18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-380880" y="6462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echugas de gallina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pan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506556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ulebras de rí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733920" y="457200"/>
            <a:ext cx="2971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serpiente ant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ser as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722600" y="6135840"/>
            <a:ext cx="719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Hígados de perro con verdu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597996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ulmones de cabra con piment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-1692360" y="1868400"/>
            <a:ext cx="763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hócolo con salsa de gengi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8T20:23:32Z</dcterms:created>
  <dc:creator>Gaby</dc:creator>
  <dc:description/>
  <dc:language>en-US</dc:language>
  <cp:lastModifiedBy>vitalino</cp:lastModifiedBy>
  <dcterms:modified xsi:type="dcterms:W3CDTF">2008-04-13T16:08:27Z</dcterms:modified>
  <cp:revision>11</cp:revision>
  <dc:subject/>
  <dc:title>שקופית 1</dc:title>
</cp:coreProperties>
</file>