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486-13E3-41E5-AD0C-53DAA564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0DF-0DEE-43ED-B0DD-CBDBC91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F41-2474-4B1F-B170-8639C8A8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6BE-4752-41F7-9D0D-8B65ECE4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4EC-E717-4718-8336-8EB46DE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87C-E559-433D-876F-8790ABC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5FF-9139-4B45-B565-FC848588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45F-1EAB-4189-9084-0E245808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8EB-11EE-4D86-90C6-4914B2C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521-8BCA-4099-B0C0-71195AB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7DB-1E5C-4FFC-96EB-15F427D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A31-B43F-4B90-BE45-FCC1834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50E-F882-453F-94E5-AF569E73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embra  daquela sua bicicleta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É coisa do passado . .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1926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22648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27446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23805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15890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06729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24370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31101" descr=""/>
          <p:cNvPicPr/>
          <p:nvPr/>
        </p:nvPicPr>
        <p:blipFill>
          <a:blip r:embed="rId1"/>
          <a:stretch/>
        </p:blipFill>
        <p:spPr>
          <a:xfrm>
            <a:off x="205740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6:59:33Z</dcterms:created>
  <dc:creator>marquezini</dc:creator>
  <dc:description/>
  <dc:language>en-US</dc:language>
  <cp:lastModifiedBy>PETROBRAS S.A.</cp:lastModifiedBy>
  <dcterms:modified xsi:type="dcterms:W3CDTF">2005-03-29T11:36:48Z</dcterms:modified>
  <cp:revision>2</cp:revision>
  <dc:subject/>
  <dc:title>PowerPoint Presentation</dc:title>
</cp:coreProperties>
</file>