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B22-EE6B-42AF-8710-9EFE61F4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13E4-825A-45A3-8DAC-A94E7D0C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150-5613-432D-B49D-4C2E9968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CC1-1DC8-4C22-A430-751E4958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9E2-56E2-49DF-9F89-3762BB50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13DB-B0AE-494C-9B90-75C40BC4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0D8E-3CAD-4961-A8D9-4ED289BD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6C7-A5A4-45D7-86EC-C17CAF63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09D-B782-4047-895A-99B48A87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4F6-11C1-4F62-B9F0-909448CD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EA7-5639-4D79-989C-FC149D37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067-A763-42E2-B5AF-29815C40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CC5E-EE49-4224-8333-734181699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Lembra  daquela sua bicicleta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É coisa do passado . .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1926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22648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27446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23805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15890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06729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24370" descr="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31101" descr=""/>
          <p:cNvPicPr/>
          <p:nvPr/>
        </p:nvPicPr>
        <p:blipFill>
          <a:blip r:embed="rId1"/>
          <a:stretch/>
        </p:blipFill>
        <p:spPr>
          <a:xfrm>
            <a:off x="2057400" y="0"/>
            <a:ext cx="521352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6:59:33Z</dcterms:created>
  <dc:creator>marquezini</dc:creator>
  <dc:description/>
  <dc:language>en-US</dc:language>
  <cp:lastModifiedBy>PETROBRAS S.A.</cp:lastModifiedBy>
  <dcterms:modified xsi:type="dcterms:W3CDTF">2005-03-29T11:36:48Z</dcterms:modified>
  <cp:revision>2</cp:revision>
  <dc:subject/>
  <dc:title>PowerPoint Presentation</dc:title>
</cp:coreProperties>
</file>