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36C-D653-45F4-819D-5D35455A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C3E-1E35-48B0-86E7-7671DA23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F8A-EDD2-4C4B-B7CD-752A06EC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AB1-25D8-43B4-B590-B869750B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EF4-709D-47F5-A81E-BA8F368A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AEB-B90E-4660-A4F0-85B1CB29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786-135A-4A57-A571-65D385F3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FC3-4030-4503-ABE9-711C8EA5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F19-83A5-4DAD-8C42-15F9A693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8A7-CFCF-41AC-86A6-BCE0EE21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4EB-0EE9-4399-9CD2-918B326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929-8412-4E38-9883-B34B20A9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4419-4AC5-4749-9DBF-CB3FC8818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5800" y="522360"/>
            <a:ext cx="72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Handwriting"/>
              </a:rPr>
              <a:t>… </a:t>
            </a:r>
            <a:r>
              <a:rPr b="0" lang="fr-FR" sz="2800" spc="-1" strike="noStrike">
                <a:solidFill>
                  <a:srgbClr val="ffffff"/>
                </a:solidFill>
                <a:latin typeface="Lucida Handwriting"/>
              </a:rPr>
              <a:t>ou quand le ciel nous tombe sur la têt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61657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Handwriting"/>
              </a:rPr>
              <a:t>Musique : Mark  Knopfler : Canni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132000" y="40464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600" spc="-1" strike="noStrike">
                <a:solidFill>
                  <a:srgbClr val="ffffff"/>
                </a:solidFill>
                <a:latin typeface="Army Hollow Expanded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9:23:20Z</dcterms:created>
  <dc:creator>jantjebeton</dc:creator>
  <dc:description/>
  <dc:language>en-US</dc:language>
  <cp:lastModifiedBy>Jean Crustin</cp:lastModifiedBy>
  <dcterms:modified xsi:type="dcterms:W3CDTF">2008-02-16T19:48:47Z</dcterms:modified>
  <cp:revision>4</cp:revision>
  <dc:subject/>
  <dc:title>Dit kun je beter niet in de buurt hebben</dc:title>
</cp:coreProperties>
</file>