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explod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852-9CAF-4498-B922-A8DCBFB2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76DF-2336-404A-8F77-63F819D7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5C4-5056-412B-97B6-0E2F0067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5E1-1058-434F-9EFD-128C8684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0F7-4F04-4F9E-85C8-90135C8B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934-08A1-4FE0-8F4C-D4C906C0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A99E-B3A6-4E4D-9DAF-C929D76A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AF3-59DB-4BE3-A5CD-E9CD343C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C568-D672-4F83-A547-04526816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31E-1475-4A56-B132-553E666C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BF6-035A-4718-ACC8-CE0C22B8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1CEE-F192-48AC-986D-2BBFBA0D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BE21-DAD0-47A6-BD90-E57F07FAD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5800" y="522360"/>
            <a:ext cx="72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Lucida Handwriting"/>
              </a:rPr>
              <a:t>… </a:t>
            </a:r>
            <a:r>
              <a:rPr b="0" lang="fr-FR" sz="2800" spc="-1" strike="noStrike">
                <a:solidFill>
                  <a:srgbClr val="ffffff"/>
                </a:solidFill>
                <a:latin typeface="Lucida Handwriting"/>
              </a:rPr>
              <a:t>ou quand le ciel nous tombe sur la têt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6165720"/>
            <a:ext cx="41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Lucida Handwriting"/>
              </a:rPr>
              <a:t>Musique : Mark  Knopfler : Canni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132000" y="404640"/>
            <a:ext cx="32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9600" spc="-1" strike="noStrike">
                <a:solidFill>
                  <a:srgbClr val="ffffff"/>
                </a:solidFill>
                <a:latin typeface="Army Hollow Expanded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9:23:20Z</dcterms:created>
  <dc:creator>jantjebeton</dc:creator>
  <dc:description/>
  <dc:language>en-US</dc:language>
  <cp:lastModifiedBy>Jean Crustin</cp:lastModifiedBy>
  <dcterms:modified xsi:type="dcterms:W3CDTF">2008-02-16T19:48:47Z</dcterms:modified>
  <cp:revision>4</cp:revision>
  <dc:subject/>
  <dc:title>Dit kun je beter niet in de buurt hebben</dc:title>
</cp:coreProperties>
</file>