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Las%20gemelas.wav" ContentType="audio/x-wav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966-2A8A-4A12-A3CD-95E73F64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B5A-AA63-4D7D-A1E7-F0FC0C1E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0D0-801D-4322-874F-4DC8023B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EC9-6930-4DEA-AA3F-4ECE50CE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7AC-4CD3-4A6A-9ABF-E969A6D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518-0866-4357-854F-E271E005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A9F-5D19-407E-91CC-9B49CB4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81C-2AA3-41BF-89CF-2509A2BE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A3B-A420-4253-B972-E1ADDEFD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253-E90C-4FE5-89E5-6F02F5E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F55-54BD-42BE-A95C-5227B08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828-ED71-44C5-AEE5-12397D5C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C9EB-0BA8-410C-828B-52662F9F9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%20gemel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95640" y="3357720"/>
            <a:ext cx="1219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GITO</a:t>
            </a:r>
            <a:endParaRPr b="1" lang="en-US" sz="32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98920" y="765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Monu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5440" y="7650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superáve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5800" y="623736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c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Las%20gemel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94720" y="5950080"/>
            <a:ext cx="60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Por  mais fascinante que seja a lenda... o fenômeno aconteci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causas absolutamente natur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35120" y="189000"/>
            <a:ext cx="58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Grandes poetas criaram uma bela lenda: “A pedra que ca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Era Aurora acariciando com seus raios o mítico filho Memnon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este respondia à mãe emitindo um longo lamen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2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9960" y="2570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VALE DOS 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78800" y="18900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ituado entre as sinuosidades das montanhas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tém puro todo o seu fascínio misteri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05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utmósis I  decidiu dar sepultura ao seu corpo em um lugar secreto. Assim foi escavado um poço em forma de escadaria  íngreme... para o sepulcro. Mas o repouso do Faraó durou pouco... pois a história do Vale dos Reis é recheada de saques e roubos noturn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Não havia só ladrões em busca dos tesouros dos soberanos. Existiam também religioso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votos... que achavam que o morto não estava seguro naquele local... tiravam-no dali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epultar em outro lugar. Foi por isso... que Ramsés foi sepultado três ve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 saque dos sepulcros era uma profissão  passada de pai para filho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esde o século XIII a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8120" y="0"/>
            <a:ext cx="824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ão vários túmulos no Vale dos Reis. O mais fascinante pela riqueza da ourivesaria é 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hot-Ank-Amon. O sarcófago áureo do faraó que morreu com 18 anos... possui duz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quilos de ouro... incrustações de lápis-lazuli, turquesas e cornalina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20" y="6021360"/>
            <a:ext cx="90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 história desse faraó está repleta de lendas... que só fazem aumentar o encanto de seus mistér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ertas lendas brilham com uma luz tão intensa... que não se apaga ao longo dos séc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734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emplo de HATSHEPSUT –  a rainha mais protetora das artes que chefe militar... encomendou 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monumento fúnebre para seu pai Tutmósis I... e para si mesma. A obra revolucioná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irada para o oriente desfrutou ao máximo do espetacular leque de roch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73360" y="2205000"/>
            <a:ext cx="35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Templo consagrado ao deus Horus 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mais conservado em todo o Eg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nome do deus deriva da palav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HR que significa falc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5240" y="6206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D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74080" y="4149720"/>
            <a:ext cx="35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Na entrada do templo  está o mamm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lugar de parto). É o local onde Ho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imbolicamente nasce todos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ias... por isso... tornou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sagrado para todas as partur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 mulheres que desejam fil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44280" y="1890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KOM OMBO -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 morada de Sebeck – o deus crocodil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9960" y="6021360"/>
            <a:ext cx="76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templo tem um esquema singular... são duplos: um consagrado ao deus Sebeck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 criador do mundo e o outro a Ho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2200" y="5950080"/>
            <a:ext cx="78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BU SIMBEL – É onde estão os dois templos mais lindos e importantes do Eg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Foi arquitetado pelo faraó mais caprichoso da história... Ramsés II – o Gr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37440" y="5734080"/>
            <a:ext cx="74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Ramsés II construiu um imponente templo para ser adorado tal como os deus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 outro ao lado...  mais discreto...  para sua bela e predileta esp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Nefertari a quem ele divinizou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2637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2781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414036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995640" cy="270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5880" y="2997360"/>
            <a:ext cx="896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 fachada do grande templo... os santuários e demais compartimentos são de uma beleza de ti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 fôlego. Há nas paredes e nas cúpulas... uma quantidade expressiva de símbolos... com inú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ignificados. Várias cenas do cotidiano foram registradas nessas im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4440" y="5734080"/>
            <a:ext cx="835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Sob a direção de um escriba... milhares de escravos... e às vezes... regimentos de sold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eram destacados para erigir intrigantes construções em pedras... ainda h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surpreendentes... devido sua grandiosidade  e enca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83960" y="54936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 “milagre” do s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8640" y="5734080"/>
            <a:ext cx="835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uas vezes ao ano...  em 21/03 e 21/09... às 5h58m um raio de sol adentrava no templo 65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lcançando o sacrário dos deuses... e inundava de luz Amon-Ra...  Ramsés II... Harmaki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mas não chegava a tocar em Ptah... o deus da obscur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547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05280" y="5661000"/>
            <a:ext cx="68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Os templos de Abu Simbel foram um desafio para os arquitetos do faraó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 também para uma comissão da UNESCO (1960)... para salvá-lo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aparecimento nas águas do lago Nas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561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5000" y="5734080"/>
            <a:ext cx="89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Cinquenta e uma nações uniram-se para  salvar  esses templos... e a UNESCO recolheu 36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de dólares para o projeto. Um grupo internacional de cientistas fez um estudo completo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remoção dos monumentos... transferindo-os para quase 190 m acima do nível do 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734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Esse foi o mais fantástico trabalho de desmantelamento e reconstrução em nível de arqueolog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O templo foi transferido para um local seco e seguro. E o sol pontualmente voltou como há 3 mil anos... a acariciar os deuses... e a obra prima de Ramsés continuou a existir apesar de t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40000" y="620640"/>
            <a:ext cx="4486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viverearte.co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208240" y="5805360"/>
            <a:ext cx="48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Texto-fotos e formatação: rose.acaciana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Som: Las gemelas – Egi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 Narrow"/>
              </a:rPr>
              <a:t>09/0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6640" y="393372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São três PPSs sobre o Egi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“</a:t>
            </a: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Um dom do Nil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“</a:t>
            </a: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Monumentos insuperávei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“</a:t>
            </a:r>
            <a:r>
              <a:rPr b="1" lang="pt-BR" sz="1800" spc="-1" strike="noStrike">
                <a:solidFill>
                  <a:srgbClr val="ccff99"/>
                </a:solidFill>
                <a:latin typeface="Arial Narrow"/>
              </a:rPr>
              <a:t>Cairo – GISEH – centro do Islã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7840" y="2205000"/>
            <a:ext cx="64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 Narrow"/>
              </a:rPr>
              <a:t>Esta apresentação é um tributo aos guias dessa arrebatadora viag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 Narrow"/>
              </a:rPr>
              <a:t>Em especial ao Dr. Prof. Mahomed (História) da Universidade de Cai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ecff"/>
                </a:solidFill>
                <a:latin typeface="Arial Narrow"/>
              </a:rPr>
              <a:t>Obrigada... valioso mest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091040" y="3100320"/>
            <a:ext cx="961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M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83240" y="333360"/>
            <a:ext cx="11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UXOR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2200" y="6156360"/>
            <a:ext cx="284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A Tebas das cem porta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lí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400" y="6308640"/>
            <a:ext cx="83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A cada vitória...  erguiam-se ao venerado deus novos templos... e esculturas monumentai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60" y="333360"/>
            <a:ext cx="79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Foi  aqui que se destinou a capital dos faraós por longos séculos... no Império Egíp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59120" y="602136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É de arrepiar os dois colossos de granito com 16 m de altura cada um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localizados na entrada do templo...  representando o faraó sentado ao trono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8480" y="83664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Narrow"/>
              </a:rPr>
              <a:t>Grande Templo de Luxo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Narrow"/>
              </a:rPr>
              <a:t>Harem de A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9120" y="6021360"/>
            <a:ext cx="62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 Narrow"/>
              </a:rPr>
              <a:t>O templo de Luxor está unido ao de Karnak por uma longa avenid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00"/>
                </a:solidFill>
                <a:latin typeface="Arial Narrow"/>
              </a:rPr>
              <a:t>decorada por fileiras de esfinges com cabeças humanas.</a:t>
            </a:r>
            <a:r>
              <a:rPr b="0" lang="pt-BR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53200" y="333360"/>
            <a:ext cx="74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 Narrow"/>
              </a:rPr>
              <a:t>O local mais espetacular é a imponente sala hipostila... que desafia os séculos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7656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6021360"/>
            <a:ext cx="56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...parece uma floresta de colunas... cujas dimensõe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 jogos de sombra e de luz criam sensações extraordinári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ntre o Nilo e o Vale dos Reis surgem os Colossos de Memnon. São duas estátuas gigantescas que representam o faraó sentado ao trono... com as mãos apoiadas nos joel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o nascer do sol... uma dessas estátuas emitia um som vago e prolongado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 alguns nativos julgavam ouvir um canto triste mas harmonioso.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18:19:58Z</dcterms:created>
  <dc:creator>Rose</dc:creator>
  <dc:description/>
  <dc:language>en-US</dc:language>
  <cp:lastModifiedBy>Rose</cp:lastModifiedBy>
  <dcterms:modified xsi:type="dcterms:W3CDTF">2009-06-09T02:08:51Z</dcterms:modified>
  <cp:revision>12</cp:revision>
  <dc:subject/>
  <dc:title>Slide 1</dc:title>
</cp:coreProperties>
</file>