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Las%20gemelas.wav" ContentType="audio/x-wav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56D-CD0C-4FF3-815C-B9E994AD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7F1-45B5-4727-A386-D4801775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9AB-4302-41E2-998E-04586826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B37-B063-4838-913D-3225D6FD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709-3819-4EDB-A1E9-D28A56F5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2CF-7631-452A-A777-A865D858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3C5-EE20-4A38-9A23-05D6AEBA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5F1-6C5C-42F7-AF16-5AF9882D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99F-14C9-4BFB-8777-2377754A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589-FA5A-40C6-9A0A-0A2B0B9E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E69-F403-48FD-8F1C-5AAA2E16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06B-799F-4FBE-85F3-579E17EF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D4EE-3B9E-4A28-B47F-40D5874A4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%20gemela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95640" y="3357720"/>
            <a:ext cx="1219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GITO</a:t>
            </a:r>
            <a:endParaRPr b="1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98920" y="7650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Monu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45440" y="76500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superáveis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5800" y="623736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cl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Las%20gemela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94720" y="5950080"/>
            <a:ext cx="60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Por  mais fascinante que seja a lenda... o fenômeno acontecia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causas absolutamente natur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35120" y="189000"/>
            <a:ext cx="58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Grandes poetas criaram uma bela lenda: “A pedra que cant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Era Aurora acariciando com seus raios o mítico filho Memnon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este respondia à mãe emitindo um longo lament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82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9960" y="25704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VALE DOS R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78800" y="18900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ituado entre as sinuosidades das montanhas.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antém puro todo o seu fascínio misterio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Tutmósis I  decidiu dar sepultura ao seu corpo em um lugar secreto. Assim foi escavado um poço em forma de escadaria  íngreme... para o sepulcro. Mas o repouso do Faraó durou pouco... pois a história do Vale dos Reis é recheada de saques e roubos noturn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Não havia só ladrões em busca dos tesouros dos soberanos. Existiam também religioso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evotos... que achavam que o morto não estava seguro naquele local... tiravam-no dali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sepultar em outro lugar. Foi por isso... que Ramsés foi sepultado três vez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 saque dos sepulcros era uma profissão  passada de pai para filho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esde o século XIII a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8120" y="0"/>
            <a:ext cx="824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São vários túmulos no Vale dos Reis. O mais fascinante pela riqueza da ourivesaria é 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Thot-Ank-Amon. O sarcófago áureo do faraó que morreu com 18 anos... possui duz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quilos de ouro... incrustações de lápis-lazuli, turquesas e cornalinas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20" y="6021360"/>
            <a:ext cx="90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 história desse faraó está repleta de lendas... que só fazem aumentar o encanto de seus mistéri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ertas lendas brilham com uma luz tão intensa... que não se apaga ao longo dos sé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5734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Templo de HATSHEPSUT –  a rainha mais protetora das artes que chefe militar... encomendou 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monumento fúnebre para seu pai Tutmósis I... e para si mesma. A obra revolucioná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virada para o oriente desfrutou ao máximo do espetacular leque de roch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73360" y="2205000"/>
            <a:ext cx="35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Templo consagrado ao deus Horus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o mais conservado em todo o Egi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O nome do deus deriva da palav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HR que significa falc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75240" y="6206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D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74080" y="4149720"/>
            <a:ext cx="35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Na entrada do templo  está o mamm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(lugar de parto). É o local onde Hor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simbolicamente nasce todos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ias... por isso... tornou-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sagrado para todas as partur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 mulheres que desejam fil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44280" y="1890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KOM OMBO - </a:t>
            </a: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a morada de Sebeck – o deus crocodil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39960" y="6021360"/>
            <a:ext cx="76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O templo tem um esquema singular... são duplos: um consagrado ao deus Sebeck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o criador do mundo e o outro a Ho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2200" y="5950080"/>
            <a:ext cx="78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ABU SIMBEL – É onde estão os dois templos mais lindos e importantes do Egi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Foi arquitetado pelo faraó mais caprichoso da história... Ramsés II – o Gra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5632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37440" y="5734080"/>
            <a:ext cx="74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Ramsés II construiu um imponente templo para ser adorado tal como os deus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 outro ao lado...  mais discreto...  para sua bela e predileta esp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Nefertari a quem ele divinizou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2637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2781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4140360" cy="2781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995640" cy="270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5880" y="2997360"/>
            <a:ext cx="896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 fachada do grande templo... os santuários e demais compartimentos são de uma beleza de ti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 fôlego. Há nas paredes e nas cúpulas... uma quantidade expressiva de símbolos... com i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ignificados. Várias cenas do cotidiano foram registradas nessas im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24440" y="5734080"/>
            <a:ext cx="835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Sob a direção de um escriba... milhares de escravos... e às vezes... regimentos de sold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eram destacados para erigir intrigantes construções em pedras... ainda ho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surpreendentes... devido sua grandiosidade  e enca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83960" y="54936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 “milagre” do s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8640" y="5734080"/>
            <a:ext cx="835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uas vezes ao ano...  em 21/03 e 21/09... às 5h58m um raio de sol adentrava no templo 65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alcançando o sacrário dos deuses... e inundava de luz Amon-Ra...  Ramsés II... Harmakis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mas não chegava a tocar em Ptah... o deus da obscur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5475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05280" y="5661000"/>
            <a:ext cx="68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Os templos de Abu Simbel foram um desafio para os arquitetos do faraó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 também para uma comissão da UNESCO (1960)... para salvá-lo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esaparecimento nas águas do lago Nas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561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5000" y="5734080"/>
            <a:ext cx="89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Cinquenta e uma nações uniram-se para  salvar  esses templos... e a UNESCO recolheu 36 m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de dólares para o projeto. Um grupo internacional de cientistas fez um estudo completo par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remoção dos monumentos... transferindo-os para quase 190 m acima do nível do 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734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Esse foi o mais fantástico trabalho de desmantelamento e reconstrução em nível de arqueolog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O templo foi transferido para um local seco e seguro. E o sol pontualmente voltou como há 3 mil anos... a acariciar os deuses... e a obra prima de Ramsés continuou a existir apesar de tu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40000" y="620640"/>
            <a:ext cx="4486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ww.viverearte.com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2208240" y="5805360"/>
            <a:ext cx="48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Texto-fotos e formatação: rose.acaciana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Som: Las gemelas – Egi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09/06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6640" y="393372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São três PPSs sobre o Egi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“</a:t>
            </a: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Um dom do Nil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“</a:t>
            </a: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Monumentos insuperávei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“</a:t>
            </a: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Cairo – GISEH – centro do Islã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7840" y="2205000"/>
            <a:ext cx="646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ecff"/>
                </a:solidFill>
                <a:latin typeface="Arial Narrow"/>
              </a:rPr>
              <a:t>Esta apresentação é um tributo aos guias dessa arrebatadora viag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ecff"/>
                </a:solidFill>
                <a:latin typeface="Arial Narrow"/>
              </a:rPr>
              <a:t>Em especial ao Dr. Prof. Mahomed (História) da Universidade de Cai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ecff"/>
                </a:solidFill>
                <a:latin typeface="Arial Narrow"/>
              </a:rPr>
              <a:t>Obrigada... valioso mest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091040" y="3100320"/>
            <a:ext cx="9619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M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blinds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83240" y="333360"/>
            <a:ext cx="11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UXOR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2200" y="6156360"/>
            <a:ext cx="284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A Tebas das cem porta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lí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400" y="6308640"/>
            <a:ext cx="83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A cada vitória...  erguiam-se ao venerado deus novos templos... e esculturas monumentai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60" y="333360"/>
            <a:ext cx="79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Foi  aqui que se destinou a capital dos faraós por longos séculos... no Império Egíp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59120" y="602136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É de arrepiar os dois colossos de granito com 16 m de altura cada um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localizados na entrada do templo...  representando o faraó sentado ao trono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8480" y="83664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Narrow"/>
              </a:rPr>
              <a:t>Grande Templo de Luxo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Narrow"/>
              </a:rPr>
              <a:t>Harem de A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19120" y="6021360"/>
            <a:ext cx="62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Arial Narrow"/>
              </a:rPr>
              <a:t>O templo de Luxor está unido ao de Karnak por uma longa avenid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Arial Narrow"/>
              </a:rPr>
              <a:t>decorada por fileiras de esfinges com cabeças humanas.</a:t>
            </a:r>
            <a:r>
              <a:rPr b="0" lang="pt-BR" sz="1800" spc="-1" strike="noStrike">
                <a:solidFill>
                  <a:srgbClr val="0033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53200" y="333360"/>
            <a:ext cx="74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 Narrow"/>
              </a:rPr>
              <a:t>O local mais espetacular é a imponente sala hipostila... que desafia os séculos.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7656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6021360"/>
            <a:ext cx="56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...parece uma floresta de colunas... cujas dimensões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 jogos de sombra e de luz criam sensações extraordinári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4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ntre o Nilo e o Vale dos Reis surgem os Colossos de Memnon. São duas estátuas gigantescas que representam o faraó sentado ao trono... com as mãos apoiadas nos joelh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o nascer do sol... uma dessas estátuas emitia um som vago e prolongado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 alguns nativos julgavam ouvir um canto triste mas harmonioso.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18:19:58Z</dcterms:created>
  <dc:creator>Rose</dc:creator>
  <dc:description/>
  <dc:language>en-US</dc:language>
  <cp:lastModifiedBy>Rose</cp:lastModifiedBy>
  <dcterms:modified xsi:type="dcterms:W3CDTF">2009-06-09T02:08:51Z</dcterms:modified>
  <cp:revision>12</cp:revision>
  <dc:subject/>
  <dc:title>Slide 1</dc:title>
</cp:coreProperties>
</file>