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Musica%20Instrumt%2003.wav" ContentType="audio/x-wav"/>
  <Override PartName="/ppt/media/image1.jpeg" ContentType="image/jpeg"/>
  <Override PartName="/ppt/media/image2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6052-2A5A-4998-ACDE-0A381092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F637-3916-4BD5-818F-A45D6131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E23A-95CE-4C72-8AD6-CA6FE841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3F24-2330-4B94-946F-B80F7BF6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4278-A055-4368-BA52-28B7B9BB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762D-B695-4930-A92C-20BFC553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3897-047C-46D7-9ED8-A4500909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7CA4-72C4-4DB1-A254-05F85888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7B1F-0E15-4C34-BB6B-17AE38A7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F466-3734-4E98-A8D3-DDFE34E2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020A-2DEE-4EB0-B53D-A17EF6F1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225F-C5F1-4D73-89D9-A0ED51D7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B236-9CA1-4A3B-BDDC-05F5687DBD7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Musica%20Instrumt%2003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23516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660185"/>
                </a:solidFill>
                <a:latin typeface="Comic Sans MS"/>
              </a:rPr>
              <a:t>Quando um cozinheiro não tem o que fazer!!!</a:t>
            </a:r>
            <a:r>
              <a:rPr b="1" lang="es-ES" sz="7200" spc="-1" strike="noStrike">
                <a:solidFill>
                  <a:srgbClr val="996600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86200" y="6095880"/>
            <a:ext cx="1131840" cy="411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  <p:sndAc>
      <p:stSnd>
        <p:snd r:embed="rId3" name="Musica%20Instrumt%2003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01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25480" y="1542960"/>
            <a:ext cx="5693040" cy="3772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8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71680" y="523800"/>
            <a:ext cx="6200640" cy="5810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b1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04840" y="642960"/>
            <a:ext cx="6934320" cy="5572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00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41680" y="730080"/>
            <a:ext cx="3860640" cy="5397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49360" y="1676520"/>
            <a:ext cx="4445280" cy="3504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44760" y="730080"/>
            <a:ext cx="4254480" cy="5397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95280" y="5562720"/>
            <a:ext cx="64008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2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49360" y="1676520"/>
            <a:ext cx="4445280" cy="3504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a2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9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49360" y="1866960"/>
            <a:ext cx="4445280" cy="3124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445280" cy="31622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7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41680" y="730080"/>
            <a:ext cx="3860640" cy="5397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666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660185"/>
                </a:solidFill>
                <a:latin typeface="Comic Sans MS"/>
              </a:rPr>
              <a:t>...Faz isto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c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641680" y="730080"/>
            <a:ext cx="3860640" cy="5397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3d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49360" y="1835280"/>
            <a:ext cx="4445280" cy="3187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e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49360" y="1860480"/>
            <a:ext cx="4445280" cy="31370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41680" y="730080"/>
            <a:ext cx="3860640" cy="5397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2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349360" y="1644480"/>
            <a:ext cx="4445280" cy="35690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a4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49360" y="1854360"/>
            <a:ext cx="4445280" cy="3149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b4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49360" y="1676520"/>
            <a:ext cx="4445280" cy="3504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4800600"/>
            <a:ext cx="9144000" cy="685800"/>
          </a:xfrm>
          <a:prstGeom prst="rect">
            <a:avLst/>
          </a:prstGeom>
          <a:solidFill>
            <a:srgbClr val="40b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solidFill>
            <a:srgbClr val="40b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647800" y="730080"/>
            <a:ext cx="3848400" cy="5397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349360" y="1860480"/>
            <a:ext cx="4445280" cy="31370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23842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660185"/>
                </a:solidFill>
                <a:latin typeface="Comic Sans MS"/>
              </a:rPr>
              <a:t>Demais, né??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56360" y="5589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c0179"/>
                </a:solidFill>
                <a:latin typeface="Comic Sans MS"/>
              </a:rPr>
              <a:t>Beijos, Gl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split dir="in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796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6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605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09:58:47Z</dcterms:created>
  <dc:creator> Antonio Benavente</dc:creator>
  <dc:description/>
  <dc:language>en-US</dc:language>
  <cp:lastModifiedBy>.</cp:lastModifiedBy>
  <dcterms:modified xsi:type="dcterms:W3CDTF">2008-04-03T03:46:55Z</dcterms:modified>
  <cp:revision>3</cp:revision>
  <dc:subject/>
  <dc:title>Presentación de PowerPoint</dc:title>
</cp:coreProperties>
</file>