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Musica%20Instrumt%2003.wav" ContentType="audio/x-wav"/>
  <Override PartName="/ppt/media/image1.jpeg" ContentType="image/jpe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6EF-3B72-49A3-BF4C-FE8340E4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E03-ACB6-44FF-AE5B-73046FD5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704-97DE-4DF3-9C60-BD0D99EB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F06-E6E8-4904-931D-8906DB06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A92-7840-4F76-A735-8A6F53CC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1E7-C27B-423D-8CC4-57D634AA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E69-58F3-41FF-8695-E18BB8B3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811-EA5E-40A7-B84E-22B6EDDC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72D-6FFD-4AD1-AF72-A0C28AFF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85A-879C-4040-A609-52D71601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B6C-43AB-4839-92E4-025A65A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812-99F9-4261-91B3-E180D24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DF6-62D9-47DC-8472-CDB1BBBA584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Musica%20Instrumt%2003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3516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660185"/>
                </a:solidFill>
                <a:latin typeface="Comic Sans MS"/>
              </a:rPr>
              <a:t>Quando um cozinheiro não tem o que fazer!!!</a:t>
            </a:r>
            <a:r>
              <a:rPr b="1" lang="es-ES" sz="7200" spc="-1" strike="noStrike">
                <a:solidFill>
                  <a:srgbClr val="9966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86200" y="6095880"/>
            <a:ext cx="1131840" cy="411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  <p:sndAc>
      <p:stSnd>
        <p:snd r:embed="rId3" name="Musica%20Instrumt%200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1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25480" y="1542960"/>
            <a:ext cx="5693040" cy="3772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8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1680" y="523800"/>
            <a:ext cx="620064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b1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04840" y="642960"/>
            <a:ext cx="693432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00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41680" y="730080"/>
            <a:ext cx="386064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9360" y="1676520"/>
            <a:ext cx="444528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44760" y="730080"/>
            <a:ext cx="4254480" cy="5397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5562720"/>
            <a:ext cx="6400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9360" y="1676520"/>
            <a:ext cx="4445280" cy="3504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a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9360" y="1866960"/>
            <a:ext cx="4445280" cy="3124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44528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41680" y="730080"/>
            <a:ext cx="386064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66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660185"/>
                </a:solidFill>
                <a:latin typeface="Comic Sans MS"/>
              </a:rPr>
              <a:t>...Faz isto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c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41680" y="730080"/>
            <a:ext cx="386064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d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9360" y="1835280"/>
            <a:ext cx="4445280" cy="318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49360" y="1860480"/>
            <a:ext cx="4445280" cy="3137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41680" y="730080"/>
            <a:ext cx="386064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49360" y="1644480"/>
            <a:ext cx="4445280" cy="3569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a4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1854360"/>
            <a:ext cx="4445280" cy="3149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b4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49360" y="1676520"/>
            <a:ext cx="4445280" cy="3504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800600"/>
            <a:ext cx="9144000" cy="685800"/>
          </a:xfrm>
          <a:prstGeom prst="rect">
            <a:avLst/>
          </a:prstGeom>
          <a:solidFill>
            <a:srgbClr val="40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solidFill>
            <a:srgbClr val="40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47800" y="730080"/>
            <a:ext cx="384840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49360" y="1860480"/>
            <a:ext cx="4445280" cy="3137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238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660185"/>
                </a:solidFill>
                <a:latin typeface="Comic Sans MS"/>
              </a:rPr>
              <a:t>Demais, né?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5589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c0179"/>
                </a:solidFill>
                <a:latin typeface="Comic Sans MS"/>
              </a:rPr>
              <a:t>Beijos, Gl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6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605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9:58:47Z</dcterms:created>
  <dc:creator> Antonio Benavente</dc:creator>
  <dc:description/>
  <dc:language>en-US</dc:language>
  <cp:lastModifiedBy>.</cp:lastModifiedBy>
  <dcterms:modified xsi:type="dcterms:W3CDTF">2008-04-03T03:46:55Z</dcterms:modified>
  <cp:revision>3</cp:revision>
  <dc:subject/>
  <dc:title>Presentación de PowerPoint</dc:title>
</cp:coreProperties>
</file>