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3DC-671A-4AF6-BECC-BA79DB03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7D5-3485-498C-87C2-E594F102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EE4-F16D-4699-B41B-68958014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F0A-D32A-4C22-AEB2-7654BB16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87E-D847-4A26-841D-16EC3EA1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16-E746-4523-BEBC-7E0A9CC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99B-1B49-44EB-91F3-9637C24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E2A-F713-4A06-A6C7-C6D05425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ED1-6860-42FC-ABE9-2F721F6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697-54C7-47E1-A83A-E975F24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E42-5B95-4C40-9ADA-6C182EE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A23-EE97-4A02-9EDB-14C5859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53F0-FA05-433B-A6E0-933E71768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Num momento entrarás</a:t>
            </a:r>
            <a:br>
              <a:rPr sz="3600"/>
            </a:b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num mundo mágico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gora, olha fíxamente os meus olhos e concentra-te na t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Eu não te conheço a 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ão posso ver a que elegest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 porém sei exactamente a carta que está na t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800" spc="-1" strike="noStrike">
                <a:solidFill>
                  <a:srgbClr val="ffffff"/>
                </a:solidFill>
                <a:latin typeface="Times New Roman"/>
              </a:rPr>
              <a:t>Olha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A tua carta desapareceu.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urpreendido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Vemo-nos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Tens 7 dias de vida depois de teres visto esta mensagem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Se não a enviares para aqueles  que não acreditam em mim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É só um momento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erás testemunha de algo muito especia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erás testemunha 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e uma surpreendente ilusão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A Ilusão de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E a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pesar de este 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ser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programa normal, verá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que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Eu posso, através do monitor, ler os teus pensamentos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Na tua frente estão 6 cartas diferente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num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só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Não lhe toques nem faças click nel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u posso encontrar essa carta na tua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um momento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.</cp:lastModifiedBy>
  <dcterms:modified xsi:type="dcterms:W3CDTF">2008-01-29T12:44:39Z</dcterms:modified>
  <cp:revision>53</cp:revision>
  <dc:subject/>
  <dc:title>DC</dc:title>
</cp:coreProperties>
</file>