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1C7-1DB6-4692-957F-B4ED67D5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D79-C5FF-40BF-A2A3-EA03289B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7B1-BBC9-4115-89F1-9EE09F0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B34-C86F-46A4-A882-26BD3612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19A-A777-4DD4-8F5F-1E7828E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276-7C51-4E38-A7C6-936E9F22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D78-971B-4F5B-89A3-D2AF0840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61D-CE47-4180-8227-C91B150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0BA-E7FF-4532-823B-6A2E06B2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E25-F985-4AB6-9A1D-AD17CE09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011-F826-40AC-946C-B1AD71B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816-0C40-4D66-B517-523610B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C16-5D00-43A8-911E-80D389BF5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Num momento entrarás</a:t>
            </a:r>
            <a:br>
              <a:rPr sz="3600"/>
            </a:b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num mundo mágico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66ccff"/>
                </a:solidFill>
                <a:latin typeface="Times New Roman"/>
              </a:rPr>
              <a:t>Agora, olha fíxamente os meus olhos e concentra-te na tua carta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1000" y="2438280"/>
            <a:ext cx="429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Eu não te conheço a 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Não posso ver a que elegest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... porém sei exactamente a carta que está na tua men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800" spc="-1" strike="noStrike">
                <a:solidFill>
                  <a:srgbClr val="ffffff"/>
                </a:solidFill>
                <a:latin typeface="Times New Roman"/>
              </a:rPr>
              <a:t>Olha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A tua carta desapareceu.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26960" y="27874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Surpreendido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Vemo-nos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79440" y="254628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00200"/>
            <a:ext cx="397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Tens 7 dias de vida depois de teres visto esta mensagem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259092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cc0000"/>
                </a:solidFill>
                <a:latin typeface="Times New Roman"/>
              </a:rPr>
              <a:t>...Se não a enviares para aqueles  que não acreditam em mim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É só um momento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erás testemunha de algo muito especial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Serás testemunha 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De uma surpreendente ilusão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A Ilusão de</a:t>
            </a:r>
            <a:br>
              <a:rPr sz="4400"/>
            </a:b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David Copperfie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E a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pesar de este 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ser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programa normal, verá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que</a:t>
            </a:r>
            <a:r>
              <a:rPr b="0" i="1" lang="pt-P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Eu posso, através do monitor, ler os teus pensamentos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31436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Na tua frente estão 6 cartas diferente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num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só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Não lhe toques nem faças click nel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u posso encontrar essa carta na tua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Pensa um momento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.</cp:lastModifiedBy>
  <dcterms:modified xsi:type="dcterms:W3CDTF">2008-01-29T12:44:39Z</dcterms:modified>
  <cp:revision>53</cp:revision>
  <dc:subject/>
  <dc:title>DC</dc:title>
</cp:coreProperties>
</file>