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E1B-4D2F-45CD-9F80-BF0E58EF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8B6-F4A5-46EF-9DB6-CA9123E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D31-8A76-40E1-93A4-C65B84A0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D6C-49AE-4FE3-8F1E-E51410C5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E33-322B-4FF3-8AE1-39E96A29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588-8BD6-46C5-A858-1B3F39FB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9AD-CD06-4781-B9F6-1FD099AB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7BC-F5AA-4574-BFAA-A34794C6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181-B435-4B56-9BDC-2FEE3553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914-59F8-427A-A231-1E9FFBF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82F-C459-499B-84D9-C3EA6F0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7E1-E8B4-4434-ACFA-31525EF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A7B8-7299-41AB-A063-435F94C88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8400" y="2060640"/>
            <a:ext cx="7191000" cy="2227320"/>
          </a:xfrm>
          <a:prstGeom prst="rect">
            <a:avLst/>
          </a:prstGeom>
          <a:solidFill>
            <a:srgbClr val="ff33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omo não s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ssaltado via 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484360" y="3213000"/>
            <a:ext cx="1656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5811840"/>
            <a:ext cx="3097080" cy="6426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Alguém, supostamente, enviou-lhe um car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941720"/>
            <a:ext cx="424836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o 2 -  Ao abrir o e-mail, ele orienta-o a clicar n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e ser redireccionado à página do site de cartões. Neste caso  o fornecedor de serviços “mascarado” é 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0000" y="342900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229360"/>
            <a:ext cx="3024360" cy="1191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bserve que os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hacker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mascaram até mesmo o nome do e-mail do reme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07640" y="2133360"/>
            <a:ext cx="431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2708280"/>
            <a:ext cx="244800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link aponta para o fornecedor de serviço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mas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udo não passa de uma más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95280" y="299736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8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36000" y="1700280"/>
            <a:ext cx="176364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e que o endereço onde 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 direccionou foi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492360" y="981000"/>
            <a:ext cx="3672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720" y="3860640"/>
            <a:ext cx="1764000" cy="2288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udo nesta página é mascara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barra com o logótipo do Terra, os anúncios, et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826560" y="1267920"/>
            <a:ext cx="648180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4876560"/>
            <a:ext cx="373356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 clicar no botão acima em vez de aparecer o cartão, 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pede para ser executada uma instalaçã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e as instruções da página seguin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85080" cy="3843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1403280" y="33336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te muita atenção neste momento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438280"/>
            <a:ext cx="2691000" cy="3070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Observe que não é do 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743200"/>
            <a:ext cx="2772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800600"/>
            <a:ext cx="4495680" cy="1465560"/>
          </a:xfrm>
          <a:prstGeom prst="rect">
            <a:avLst/>
          </a:prstGeom>
          <a:solidFill>
            <a:srgbClr val="ff3300"/>
          </a:solidFill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e tipo de ficheiro é um espião. Se o abrir, quando tentar entrar em qualquer programa que lhe peça senha, ela será remetida automaticamente à pessoa  que lhe enviou esta armadil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48360" y="2708280"/>
            <a:ext cx="2014560" cy="20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300640"/>
            <a:ext cx="419112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unca abra ficheiros com extensões: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sc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ex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co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. Entre outros suspeitos, esses são os mais comuns e mais perig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95640" y="2743200"/>
            <a:ext cx="275724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3640" y="2276640"/>
            <a:ext cx="5545080" cy="2043720"/>
          </a:xfrm>
          <a:prstGeom prst="rect">
            <a:avLst/>
          </a:prstGeom>
          <a:solidFill>
            <a:srgbClr val="3333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Envie este e-mail a todos os seus amigos(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37:34Z</dcterms:created>
  <dc:creator>Aplicativos/Arquivos</dc:creator>
  <dc:description/>
  <dc:language>en-US</dc:language>
  <cp:lastModifiedBy>Homo Sapiens</cp:lastModifiedBy>
  <dcterms:modified xsi:type="dcterms:W3CDTF">2008-09-17T11:36:25Z</dcterms:modified>
  <cp:revision>28</cp:revision>
  <dc:subject/>
  <dc:title>Co</dc:title>
</cp:coreProperties>
</file>