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bomb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F47-9548-4140-A7AB-6FAC701E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AAE-7731-4C0D-BF97-EB6896A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560-AE5D-4449-8373-F46103FA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454-BB62-425B-B4DD-6CA63988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347-9E6D-4590-A603-0F50E3E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07B-DC9D-4F7D-94AB-6BA5C784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5DE-01EA-4657-A7CA-825CD5DA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F8D-4D59-482E-8B84-1C0D7F8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988-69D8-4207-A01E-4ECA2147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927-6948-4F28-B114-CF7A3DA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AE4-240E-447E-B3E8-8D528BE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455-9D57-430F-92CC-A0F4DEB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9BF-6910-4DB8-86EC-EBD03343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8400" y="2060640"/>
            <a:ext cx="7191000" cy="2227320"/>
          </a:xfrm>
          <a:prstGeom prst="rect">
            <a:avLst/>
          </a:prstGeom>
          <a:solidFill>
            <a:srgbClr val="ff33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omo não s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ssaltado via Inter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484360" y="3213000"/>
            <a:ext cx="1656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5811840"/>
            <a:ext cx="3097080" cy="642600"/>
          </a:xfrm>
          <a:prstGeom prst="rect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Alguém, supostamente, enviou-lhe um cart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941720"/>
            <a:ext cx="424836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o 2 -  Ao abrir o e-mail, ele orienta-o a clicar n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e ser redireccionado à página do site de cartões. Neste caso  o fornecedor de serviços “mascarado” é 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40000" y="342900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229360"/>
            <a:ext cx="3024360" cy="11912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Observe que os </a:t>
            </a:r>
            <a:r>
              <a:rPr b="1" i="1" lang="pt-BR" sz="1800" spc="-1" strike="noStrike">
                <a:solidFill>
                  <a:srgbClr val="ff3300"/>
                </a:solidFill>
                <a:latin typeface="Arial"/>
              </a:rPr>
              <a:t>hacker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mascaram até mesmo o nome do e-mail do reme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07640" y="2133360"/>
            <a:ext cx="4319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16720" y="2708280"/>
            <a:ext cx="244800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link aponta para o fornecedor de serviço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r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ma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udo não passa de uma más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95280" y="299736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78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36000" y="1700280"/>
            <a:ext cx="1763640" cy="1465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e que o endereço onde 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n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 direccionou foi ou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492360" y="981000"/>
            <a:ext cx="3672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3860640"/>
            <a:ext cx="1764000" cy="2288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udo nesta página é mascara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 barra com o logótipo do Terra, os anúncios, etc..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826560" y="1267920"/>
            <a:ext cx="6481800" cy="32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4876560"/>
            <a:ext cx="373356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o clicar no botão acima em vez de aparecer o cartão, 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pede para ser executada uma instalaçã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 as instruções da página seguin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185080" cy="38433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1403280" y="333360"/>
            <a:ext cx="638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ste muita atenção neste momento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438280"/>
            <a:ext cx="2691000" cy="3070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Observe que não é do T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743200"/>
            <a:ext cx="277200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800600"/>
            <a:ext cx="4495680" cy="1465560"/>
          </a:xfrm>
          <a:prstGeom prst="rect">
            <a:avLst/>
          </a:prstGeom>
          <a:solidFill>
            <a:srgbClr val="ff3300"/>
          </a:solidFill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e tipo de ficheiro é um espião. Se o abrir, quando tentar entrar em qualquer programa que lhe peça senha, ela será remetida automaticamente à pessoa  que lhe enviou esta armadil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148360" y="2708280"/>
            <a:ext cx="2014560" cy="20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300640"/>
            <a:ext cx="4191120" cy="11912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unca abra ficheiros com extensões: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scr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ex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, “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.co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”. Entre outros suspeitos, esses são os mais comuns e mais perigo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95640" y="2743200"/>
            <a:ext cx="275724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2276640"/>
            <a:ext cx="5545080" cy="2043720"/>
          </a:xfrm>
          <a:prstGeom prst="rect">
            <a:avLst/>
          </a:prstGeom>
          <a:solidFill>
            <a:srgbClr val="3333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Envie este e-mail a todos os seus amigos(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37:34Z</dcterms:created>
  <dc:creator>Aplicativos/Arquivos</dc:creator>
  <dc:description/>
  <dc:language>en-US</dc:language>
  <cp:lastModifiedBy>Homo Sapiens</cp:lastModifiedBy>
  <dcterms:modified xsi:type="dcterms:W3CDTF">2008-09-17T11:36:25Z</dcterms:modified>
  <cp:revision>28</cp:revision>
  <dc:subject/>
  <dc:title>Co</dc:title>
</cp:coreProperties>
</file>