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Lawrence%20de%20Arabia%20(Maurice%20Jarre)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A72-3613-4487-9AAC-D977B027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45F-1785-410D-BC92-2024C4B1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71B-6AF3-4DD4-A843-E552734F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AB1-BE6C-4177-865E-F874DCC5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C37-CD10-4B48-82DE-6166EEAD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CFC-C843-4169-A1A1-A6C051BA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F1F-5674-4FF0-A439-48554F1E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83F-A2E0-4CAF-9E19-FE3B774D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BE2-C8FE-4596-A857-C4713893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058-98CD-4501-94C2-3D7CB40F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F9F-4EB7-461A-87DA-4F766D69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B3F-FAAC-4EC6-BD73-EC7B8A32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8B3B-8BBB-4F67-8081-0FFC4535394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wrence%20de%20Arabia%20(Maurice%20Jarre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012800" y="15228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© 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</a:rPr>
              <a:t>JMascaró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37148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2"/>
          <p:cNvSpPr/>
          <p:nvPr/>
        </p:nvSpPr>
        <p:spPr>
          <a:xfrm>
            <a:off x="6084720" y="6093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Comic Sans MS"/>
              </a:rPr>
              <a:t>Avanzar con el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a-E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3"/>
          <p:cNvSpPr/>
          <p:nvPr/>
        </p:nvSpPr>
        <p:spPr>
          <a:xfrm>
            <a:off x="244080" y="6021360"/>
            <a:ext cx="430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Webdings"/>
                <a:ea typeface="Webdings"/>
              </a:rPr>
              <a:t></a:t>
            </a:r>
            <a:r>
              <a:rPr b="1" lang="ca-ES" sz="2000" spc="-1" strike="noStrike">
                <a:solidFill>
                  <a:srgbClr val="3333cc"/>
                </a:solidFill>
                <a:latin typeface="Comic Sans MS"/>
              </a:rPr>
              <a:t>Música: Lawrence de Arab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5"/>
          <p:cNvSpPr/>
          <p:nvPr/>
        </p:nvSpPr>
        <p:spPr>
          <a:xfrm>
            <a:off x="1170360" y="4979160"/>
            <a:ext cx="7035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0" bIns="889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Times New Roman"/>
              </a:rPr>
              <a:t>Uma bonita entrevista com um tuareg realiz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ÍCTOR-M. AMELA a: MOUSSA AG ASSARID)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6" descr="Tuareg"/>
          <p:cNvPicPr/>
          <p:nvPr/>
        </p:nvPicPr>
        <p:blipFill>
          <a:blip r:embed="rId1"/>
          <a:stretch/>
        </p:blipFill>
        <p:spPr>
          <a:xfrm>
            <a:off x="684360" y="692280"/>
            <a:ext cx="7993080" cy="3960720"/>
          </a:xfrm>
          <a:prstGeom prst="rect">
            <a:avLst/>
          </a:prstGeom>
          <a:ln w="0">
            <a:noFill/>
          </a:ln>
        </p:spPr>
      </p:pic>
      <p:sp>
        <p:nvSpPr>
          <p:cNvPr id="47" name="WordArt 37"/>
          <p:cNvSpPr txBox="1"/>
          <p:nvPr/>
        </p:nvSpPr>
        <p:spPr>
          <a:xfrm>
            <a:off x="5651640" y="98100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uare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08000" y="211680"/>
            <a:ext cx="9036000" cy="74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es apenas iam buscar suas mala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Sim! Era isso. Também vi cartazes de mulheres nuas.  Me perguntei: porque essa falta de respeito para com a mulhe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pois, no Íbis Hotel, vi a primeira torneira da minha vida, vi a água correndo e senti vontade de chorar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Que abundância! Que desperdício! Não?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Todos os dias da minha vida consistiam-se em procurar água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ando vejo as fontes ornamentais aquí e acolá, continuo sentindo por dentro uma dor tão intensa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108000" y="3504240"/>
            <a:ext cx="9036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tângulo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anto assim?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Sim! No começo dos anos 90 houve uma grande seca. Morreramos animais e nós adoecemos. Eu tinha uns 12 anos e minha mãe morreu. Ela era tudo para mim! Me contava histórias e ensinou-me a contá-las muito bem. Ela me ensinou a ser eu mes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35280"/>
            <a:ext cx="9261360" cy="66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O que sucedeu com sua família?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venci meu pai que me deixasse ir à escola. Quase todo 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inhava 15km. Até que um dia o professor me arranjou 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ugar para dormir e uma senhora me dava o que comer, q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 passava em frente à sua ca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endi que essa ajuda vinha de minha mãe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onde surgiu esse desejo de estudar?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s dois anos antes, havia passado pelo nosso acampamento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ally Paris-Dakar, e uma jornalista deixou cair um livro de su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ochila. Eu o apanhei e lhe entreguei. Ela me deu o mesm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sente. Era um exemplar do Pequeno Príncipe e eu 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eti que um dia conseguiria lê-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0" y="150480"/>
            <a:ext cx="9042480" cy="74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E conseguiu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m! Foi assim que consegui uma bolsa de estudos na França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Um Tuareg na universidade!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h, o que mais sinto falta aqui é o leite de camela... E o calor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ogueira, e de andar com os pés descalços na areia qu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á nós olhamos as estrelas todas as noites e cada estrela 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ferente das outras como cada cabra é difer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qui, à noite, você olha para T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-15840" y="218520"/>
            <a:ext cx="9159840" cy="70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Sim! E o que vc acha pior aqui?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Vocês tem tudo, mas não acham suficiente. Vocês se queix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a França passam a vida reclamando! Aprisionam-se pelo re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a vida à uma dívida bancária, num desejo de possuir tu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apidamente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 deserto não há congestionamentos. e você sabe por quê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rque lá ninguém quer ultrapassar ninguém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Conte-me um momento de extrema felicidade no seu deserto distante.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odo dia, duas horas antes do pôr do sol: a temperatura abaix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s ainda não chegou o frio, e os homens e os animai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entamente voltam para o acampamento e seus perfis s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cortados em um céu cor de rosa, azul, vermelho, amarelo, verde..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0" y="336960"/>
            <a:ext cx="9144000" cy="66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ascinante, na verdade... 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um momento mágico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ntramos todos na cabana e colocamos o chá para ferv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ntamo-nos em silêncio, a ouvir a ebuliçã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calma invade todos nós, e o nosso coração bate ao rit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o barulho da fervura..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Que paz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1579680" y="620280"/>
            <a:ext cx="6019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0" bIns="8892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Aquí vocês tem relógi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18880" y="5270400"/>
            <a:ext cx="797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lá temos </a:t>
            </a:r>
            <a:r>
              <a:rPr b="0" lang="es-ES" sz="8800" spc="-1" strike="noStrike">
                <a:solidFill>
                  <a:srgbClr val="ffffff"/>
                </a:solidFill>
                <a:latin typeface="Arial"/>
              </a:rPr>
              <a:t>tempo.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95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Tuareg"/>
          <p:cNvPicPr/>
          <p:nvPr/>
        </p:nvPicPr>
        <p:blipFill>
          <a:blip r:embed="rId1"/>
          <a:stretch/>
        </p:blipFill>
        <p:spPr>
          <a:xfrm>
            <a:off x="684360" y="981000"/>
            <a:ext cx="7993080" cy="3456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71640" y="0"/>
            <a:ext cx="560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Team MT"/>
              </a:rPr>
              <a:t>VOCÊ TEM O RELÓGIO, EU TENHO O TEMP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57120" y="4653000"/>
            <a:ext cx="84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eam MT"/>
              </a:rPr>
              <a:t>NA NOSSA VIDA O TEMPO NÃO DEVE SER APENAS O MARCADO NO RELÓG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eam MT"/>
              </a:rPr>
              <a:t>QUANTAS VEZES NOS NOSSOS DIAS NOS FALTA “O TEMPO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11280" y="0"/>
            <a:ext cx="669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O tempo é como um 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Você não pode tocar a mesma água duas vez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porque a água que passou, não passará de no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Aproveite cada momento da vida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ENCONTRE TEMPO PARA V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0" y="4500720"/>
            <a:ext cx="91440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Se você vive dizendo como você está ocupado, então você nunca estará liv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Se você vive dizendo que você não tem tempo, então você nunca terá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Se você vive dizendo o que vai fazer amanhã, esse amanhã nunca chega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611280" y="33336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Aproveite cada momento da vid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Se você não usar o seu tempo durante o dia, você é o perded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É impossível voltar atrá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-1440" y="5286240"/>
            <a:ext cx="865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Valorize cada momento vivido, e esse tesouro terá muito mais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se você compartilhá-lo com alguém especial,  especial o su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para vc gastar com ele o seu tempo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e lembre-se que o tempo não espera por ningué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3240" y="915840"/>
            <a:ext cx="94266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ão sei minha idade. Nasci no Deserto do Saara, sem documento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3240" y="874800"/>
            <a:ext cx="94266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aixaDeTexto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Nasci em um acampamento dos nômades tuaregs entre Timbuctu e Gao, ao norte de Mali, Fui pastor de camelos, cabras, cordeiros e vacas de meu pai. Hoje estudo gestão na Universidade de Montpelli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3240" y="184320"/>
            <a:ext cx="9426600" cy="70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ou solteiro. Defendo aos pastores tuare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u muçulmano, sem fanat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Que turbante tão formoso!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É uma fina tela de algodão: permite tapar o rosto no deserto, e continuar a ver e respirar através d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0" y="-237240"/>
            <a:ext cx="9144000" cy="70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É de um azul belíssimo…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ós, os tuaregs, somos chamados de homens azuis por iss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 tecido solta alguma tinta e nossa pele adquire tons azulados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omo conseguem esse tom de azul anil?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 uma planta chamada índigo, mesclada com outros pigmentos naturais. Para os tuaregs o azul é a cor do mundo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que?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É a cor dominante: é a cor do céu, do teto de nossa c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-80280"/>
            <a:ext cx="9144000" cy="70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m são os tuaregs?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uareg significa “abandonados”, porque somos um velho povo nômade do deserto, solitários e orgulhosos: “Senhores do Deserto, é como nos chamam. Nossa etnia é a amasigh (bereber), e o nosso alfabeto, o tifina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antos s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Uns três milhões, e a maioria permanece nôm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s a população diminue. “É preciso que um povo desapareça, para que saibamos que ele existiu!” Apregoava um sábio. Eu luto para preservar esse povo.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A que se dedicam?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Pastoremos rebanhos de camelos, cabras, cordeiros, vacas e asnos num reino de imensidão e de silên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1680" y="-17640"/>
            <a:ext cx="9112320" cy="74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 deserto é realmente tão silencioso?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Quando se está sozinho naquele silêncio, ouve-se o batimento do próprio coração. Não há lugar melhor para se estar sozinho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ais recordações de sua infância vc conserva com maior nitidez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Desperto com a luz do sol e ali estão as cabras de meu pai. Elas nos dão leite e carne, nós a levamos onde há água e pasto… Assim fizeram meu bizavô, meu avô e meu pai… e e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Não havia outra coisa no mundo além disso. E eu era muito feliz com isso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179280" y="-41760"/>
            <a:ext cx="9079200" cy="77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fato! Não parece muito estimulan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Mas é muito! Aos sete anos já te deixam afastar-se do acampamento para que aprendas coisas importantes: farejar o ar, escutar, apurar a vista, orientar-se pelo sol e as estrelas… E a deixar-se levar pelo camelo, se vc se perder. Ele te levará onde há águ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aber isso é valioso, sem dúvida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i tudo é simples e profu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istem muito poucas coisas. E cada uma tem um enorme valor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34920" y="47520"/>
            <a:ext cx="9198000" cy="74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Então esse mundo e aquele são muito diferentes, não?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Ali cada pequena coisa te proporciona felicid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da toque é valorizado. Sentimos uma enorme alegria pelo simples fato de nos tocarmos e estarmos juntos. Ali ninguém sonha com chegar a ser, porque cada um já o é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 que mais o chocou em sua primeira viagem à Europa?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er as pessoas correndo pelo aeroporto. No deserto só se corre quando vem uma tempestade de areia. Me assustei. É claro!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8:56:03Z</dcterms:created>
  <dc:creator>Mascaro</dc:creator>
  <dc:description/>
  <dc:language>en-US</dc:language>
  <cp:lastModifiedBy>Usuário do Windows</cp:lastModifiedBy>
  <dcterms:modified xsi:type="dcterms:W3CDTF">2010-05-11T18:34:34Z</dcterms:modified>
  <cp:revision>82</cp:revision>
  <dc:subject/>
  <dc:title>Presentación de PowerPoint</dc:title>
</cp:coreProperties>
</file>