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1.gif" ContentType="image/gif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23.gif" ContentType="image/gif"/>
  <Override PartName="/ppt/media/image13.gif" ContentType="image/gif"/>
  <Override PartName="/ppt/media/image27.png" ContentType="image/png"/>
  <Override PartName="/ppt/media/image4.gif" ContentType="image/gif"/>
  <Override PartName="/ppt/media/m%20c%20Chorinho%20-%20Frevo%20da%20lira.wav" ContentType="audio/x-wav"/>
  <Override PartName="/ppt/media/image28.png" ContentType="image/png"/>
  <Override PartName="/ppt/media/image30.jpeg" ContentType="image/jpeg"/>
  <Override PartName="/ppt/media/image32.jpeg" ContentType="image/jpeg"/>
  <Override PartName="/ppt/media/image33.gif" ContentType="image/gif"/>
  <Override PartName="/ppt/media/image36.png" ContentType="image/png"/>
  <Override PartName="/ppt/media/image34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38.gif" ContentType="image/gif"/>
  <Override PartName="/ppt/media/image44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29.jpeg" ContentType="image/jpeg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11.png" ContentType="image/png"/>
  <Override PartName="/ppt/media/image2.gif" ContentType="image/gif"/>
  <Override PartName="/ppt/media/image19.jpeg" ContentType="image/jpeg"/>
  <Override PartName="/ppt/media/image42.jpeg" ContentType="image/jpeg"/>
  <Override PartName="/ppt/media/image35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01A-1189-478C-944D-EDE6B7F5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425-2757-4664-B178-143ECC4F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E55-6F1E-4C9D-97E7-6244E74E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61F-FDA1-49F1-8275-F8F00A40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563-7AAF-4EA0-813C-1BD8E05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F1E-0FF3-4EC3-ADFD-6C86F6B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BF5-081E-4735-9994-5CFBEC8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B56-9248-421B-B6DB-DD729966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A77-B1DB-4AEC-AD7A-C48FAF4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F1F-2B7D-45C1-A58F-928F8CA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25E-AFF6-4981-ACF2-F6C0379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2E5-1463-46AF-8047-E7109BF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F57D-FAB3-4B40-8A8E-1BEE2386AF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png"/><Relationship Id="rId18" Type="http://schemas.openxmlformats.org/officeDocument/2006/relationships/audio" Target="../media/m%20c%20Chorinho%20-%20Frevo%20da%20lira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jpe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jpe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846000">
            <a:off x="2701440" y="1943280"/>
            <a:ext cx="420696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SINTOMA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5560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8420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66960" y="6337440"/>
            <a:ext cx="5477040" cy="9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703680" y="6575400"/>
            <a:ext cx="5476680" cy="9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633888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6578640"/>
            <a:ext cx="5477040" cy="9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66960" y="258840"/>
            <a:ext cx="5477040" cy="9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666960" y="48564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rot="16200000">
            <a:off x="-2436480" y="2691000"/>
            <a:ext cx="5477040" cy="950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69800" y="237960"/>
            <a:ext cx="311400" cy="5704200"/>
            <a:chOff x="469800" y="237960"/>
            <a:chExt cx="311400" cy="5704200"/>
          </a:xfrm>
        </p:grpSpPr>
        <p:pic>
          <p:nvPicPr>
            <p:cNvPr id="53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-2220840" y="2928600"/>
              <a:ext cx="54770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-2004840" y="3155760"/>
              <a:ext cx="5477040" cy="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8229600" y="888840"/>
            <a:ext cx="649440" cy="5969160"/>
            <a:chOff x="8229600" y="888840"/>
            <a:chExt cx="649440" cy="5969160"/>
          </a:xfrm>
        </p:grpSpPr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 rot="16200000">
              <a:off x="6092640" y="4071600"/>
              <a:ext cx="54770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 rot="16200000">
              <a:off x="5810400" y="3823920"/>
              <a:ext cx="54766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 rot="16200000">
              <a:off x="5538600" y="3579480"/>
              <a:ext cx="547704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880920" y="4838760"/>
            <a:ext cx="1170000" cy="135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7320" y="5857920"/>
            <a:ext cx="371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cc"/>
                </a:solidFill>
                <a:latin typeface="Kristen ITC"/>
              </a:rPr>
              <a:t>Mùsica : Frevo da L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040" y="658800"/>
            <a:ext cx="21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cc"/>
                </a:solidFill>
                <a:latin typeface="Arial"/>
              </a:rPr>
              <a:t>neydecastello@uol.com.b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78840" y="64620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gency FB"/>
              </a:rPr>
              <a:t>C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8" name="m%20c%20Chorinho%20-%20Frevo%20da%20li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66880" y="846000"/>
            <a:ext cx="2332080" cy="516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60600" y="600120"/>
            <a:ext cx="4746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33cc"/>
                </a:solidFill>
                <a:latin typeface="Kristen IT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Veja que interessante... A partir de uma certa idade , não importa qual seja ela , todos nós apresentamos vários destes </a:t>
            </a:r>
            <a:br>
              <a:rPr sz="2400"/>
            </a:b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 esses sintomas .</a:t>
            </a:r>
            <a:r>
              <a:rPr b="1" lang="pt-BR" sz="2400" spc="-1" strike="noStrike">
                <a:solidFill>
                  <a:srgbClr val="0033cc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Kristen ITC"/>
              </a:rPr>
              <a:t> </a:t>
            </a:r>
            <a:r>
              <a:rPr b="1" lang="pt-BR" sz="1800" spc="-1" strike="noStrike">
                <a:solidFill>
                  <a:srgbClr val="0033cc"/>
                </a:solidFill>
                <a:latin typeface="Kristen ITC"/>
              </a:rPr>
              <a:t>(Principalmente o último)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46840" y="217440"/>
            <a:ext cx="5718960" cy="5796720"/>
            <a:chOff x="3246840" y="217440"/>
            <a:chExt cx="5718960" cy="5796720"/>
          </a:xfrm>
        </p:grpSpPr>
        <p:grpSp>
          <p:nvGrpSpPr>
            <p:cNvPr id="66" name=""/>
            <p:cNvGrpSpPr/>
            <p:nvPr/>
          </p:nvGrpSpPr>
          <p:grpSpPr>
            <a:xfrm>
              <a:off x="3246840" y="217440"/>
              <a:ext cx="5703840" cy="310680"/>
              <a:chOff x="3246840" y="217440"/>
              <a:chExt cx="5703840" cy="310680"/>
            </a:xfrm>
          </p:grpSpPr>
          <p:pic>
            <p:nvPicPr>
              <p:cNvPr id="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4000" y="21744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840" y="43308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8655120" y="310680"/>
              <a:ext cx="310680" cy="5703480"/>
              <a:chOff x="8655120" y="310680"/>
              <a:chExt cx="310680" cy="5703480"/>
            </a:xfrm>
          </p:grpSpPr>
          <p:pic>
            <p:nvPicPr>
              <p:cNvPr id="70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5964120" y="300132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6179760" y="322812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" name=""/>
          <p:cNvGrpSpPr/>
          <p:nvPr/>
        </p:nvGrpSpPr>
        <p:grpSpPr>
          <a:xfrm>
            <a:off x="300600" y="933120"/>
            <a:ext cx="5703480" cy="5775120"/>
            <a:chOff x="300600" y="933120"/>
            <a:chExt cx="5703480" cy="5775120"/>
          </a:xfrm>
        </p:grpSpPr>
        <p:grpSp>
          <p:nvGrpSpPr>
            <p:cNvPr id="73" name=""/>
            <p:cNvGrpSpPr/>
            <p:nvPr/>
          </p:nvGrpSpPr>
          <p:grpSpPr>
            <a:xfrm>
              <a:off x="300600" y="6397560"/>
              <a:ext cx="5703480" cy="310680"/>
              <a:chOff x="300600" y="6397560"/>
              <a:chExt cx="5703480" cy="310680"/>
            </a:xfrm>
          </p:grpSpPr>
          <p:pic>
            <p:nvPicPr>
              <p:cNvPr id="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400" y="639756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0600" y="661320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"/>
            <p:cNvGrpSpPr/>
            <p:nvPr/>
          </p:nvGrpSpPr>
          <p:grpSpPr>
            <a:xfrm>
              <a:off x="318960" y="933120"/>
              <a:ext cx="310680" cy="5703480"/>
              <a:chOff x="318960" y="933120"/>
              <a:chExt cx="310680" cy="5703480"/>
            </a:xfrm>
          </p:grpSpPr>
          <p:pic>
            <p:nvPicPr>
              <p:cNvPr id="77" name="" descr="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2371680" y="362376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156040" y="385056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2800" y="565200"/>
            <a:ext cx="1822320" cy="1887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640" y="1019520"/>
            <a:ext cx="60008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33cc"/>
                </a:solidFill>
                <a:latin typeface="Kristen ITC"/>
              </a:rPr>
              <a:t>O QUE ESTÁ FALTANDO : </a:t>
            </a:r>
            <a:r>
              <a:rPr b="1" i="1" lang="pt-BR" sz="1200" spc="-1" strike="noStrike">
                <a:solidFill>
                  <a:srgbClr val="0033cc"/>
                </a:solidFill>
                <a:latin typeface="Kristen ITC"/>
              </a:rPr>
              <a:t>ácidos graxos essenciais e vitaminas.</a:t>
            </a:r>
            <a:br>
              <a:rPr sz="1200"/>
            </a:br>
            <a:r>
              <a:rPr b="0" i="1" lang="pt-BR" sz="1200" spc="-1" strike="noStrike">
                <a:solidFill>
                  <a:srgbClr val="0033cc"/>
                </a:solidFill>
                <a:latin typeface="Kristen ITC"/>
              </a:rPr>
              <a:t>ONDE OBTER: semente de linhaça, cenoura e salmão - além de suplementos específicos.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9880" y="1123920"/>
            <a:ext cx="42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1- Dificuldade em perder 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54400" y="-33120"/>
            <a:ext cx="2761920" cy="3123720"/>
            <a:chOff x="5954400" y="-33120"/>
            <a:chExt cx="2761920" cy="3123720"/>
          </a:xfrm>
        </p:grpSpPr>
        <p:grpSp>
          <p:nvGrpSpPr>
            <p:cNvPr id="83" name=""/>
            <p:cNvGrpSpPr/>
            <p:nvPr/>
          </p:nvGrpSpPr>
          <p:grpSpPr>
            <a:xfrm>
              <a:off x="5954400" y="1104480"/>
              <a:ext cx="2761920" cy="1986120"/>
              <a:chOff x="5954400" y="1104480"/>
              <a:chExt cx="2761920" cy="1986120"/>
            </a:xfrm>
          </p:grpSpPr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 rot="499800">
                <a:off x="7382160" y="1191600"/>
                <a:ext cx="1272960" cy="9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 rot="1976400">
                <a:off x="6100560" y="1615320"/>
                <a:ext cx="1802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 rot="21384000">
              <a:off x="6731280" y="22680"/>
              <a:ext cx="183708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3156120" y="4013280"/>
            <a:ext cx="65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2- Retenção de líq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46240" y="3311640"/>
            <a:ext cx="1990800" cy="19177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90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94" name="" descr="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6" name=""/>
          <p:cNvGrpSpPr/>
          <p:nvPr/>
        </p:nvGrpSpPr>
        <p:grpSpPr>
          <a:xfrm>
            <a:off x="5680800" y="3704400"/>
            <a:ext cx="3198960" cy="3195000"/>
            <a:chOff x="5680800" y="3704400"/>
            <a:chExt cx="3198960" cy="3195000"/>
          </a:xfrm>
        </p:grpSpPr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 rot="20143800">
              <a:off x="5827680" y="4304880"/>
              <a:ext cx="16984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 rot="333000">
              <a:off x="7306920" y="3765240"/>
              <a:ext cx="1333800" cy="14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 rot="896400">
              <a:off x="6522840" y="4892400"/>
              <a:ext cx="2166840" cy="17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711360" y="5424480"/>
            <a:ext cx="704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 QUE ESTÁ FALTANDO: </a:t>
            </a:r>
            <a:r>
              <a:rPr b="1" i="1" lang="en-US" sz="1200" spc="-1" strike="noStrike">
                <a:solidFill>
                  <a:srgbClr val="0033cc"/>
                </a:solidFill>
                <a:latin typeface="Kristen ITC"/>
              </a:rPr>
              <a:t>na verdade um desequilíbrio entre o potássio, fósforo e sódio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NDE OBTER: água de côco, azeitona, pêssego, ameixa, figo, amêndoa, nozes,acelga, coentro e os suple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350"/>
                            </p:stCondLst>
                            <p:childTnLst>
                              <p:par>
                                <p:cTn id="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35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8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8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450"/>
                            </p:stCondLst>
                            <p:childTnLst>
                              <p:par>
                                <p:cTn id="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21432600">
            <a:off x="402840" y="528480"/>
            <a:ext cx="2552760" cy="24814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457960" y="483120"/>
            <a:ext cx="3361320" cy="2675520"/>
            <a:chOff x="5457960" y="483120"/>
            <a:chExt cx="3361320" cy="267552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 rot="20875800">
              <a:off x="6844320" y="650880"/>
              <a:ext cx="1800360" cy="18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5457960" y="1144440"/>
              <a:ext cx="145260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6762240" y="2279160"/>
              <a:ext cx="1266840" cy="87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085760" y="4648320"/>
            <a:ext cx="47023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 QUE ESTÁ FALTANDO : </a:t>
            </a:r>
            <a:r>
              <a:rPr b="1" lang="pt-BR" sz="1200" spc="-1" strike="noStrike">
                <a:solidFill>
                  <a:srgbClr val="0033cc"/>
                </a:solidFill>
                <a:latin typeface="Kristen ITC"/>
              </a:rPr>
              <a:t>potássio e magnésio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NDE OBTER : banana, cevada, milho, manga, pêssego, acerola, laranja e ág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flipH="1">
            <a:off x="2239560" y="3257640"/>
            <a:ext cx="1916280" cy="205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55920" y="324972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Kristen ITC"/>
              </a:rPr>
              <a:t>4 . CÃIMBRA, DOR DE CABE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8200" y="1035000"/>
            <a:ext cx="45720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Kristen ITC"/>
              </a:rPr>
              <a:t>3. COMPULSÃO POR DOC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 QUE ESTÁ FALTANDO :</a:t>
            </a:r>
            <a:r>
              <a:rPr b="1" i="1" lang="pt-BR" sz="1200" spc="-1" strike="noStrike">
                <a:solidFill>
                  <a:srgbClr val="0033cc"/>
                </a:solidFill>
                <a:latin typeface="Kristen ITC"/>
              </a:rPr>
              <a:t> cromo</a:t>
            </a: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.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NDE OBTER: cereais integrais, nozes, centeio, banana, espinafre,cenoura +suplementos..</a:t>
            </a:r>
            <a:br>
              <a:rPr sz="1200"/>
            </a:b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 rot="20803200">
            <a:off x="5166720" y="4101840"/>
            <a:ext cx="501480" cy="15955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12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"/>
          <p:cNvGrpSpPr/>
          <p:nvPr/>
        </p:nvGrpSpPr>
        <p:grpSpPr>
          <a:xfrm>
            <a:off x="5780520" y="4138560"/>
            <a:ext cx="3182040" cy="2576160"/>
            <a:chOff x="5780520" y="4138560"/>
            <a:chExt cx="3182040" cy="2576160"/>
          </a:xfrm>
        </p:grpSpPr>
        <p:pic>
          <p:nvPicPr>
            <p:cNvPr id="119" name="" descr=""/>
            <p:cNvPicPr/>
            <p:nvPr/>
          </p:nvPicPr>
          <p:blipFill>
            <a:blip r:embed="rId11"/>
            <a:stretch/>
          </p:blipFill>
          <p:spPr>
            <a:xfrm rot="21428400">
              <a:off x="5805000" y="4410000"/>
              <a:ext cx="154116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2"/>
            <a:stretch/>
          </p:blipFill>
          <p:spPr>
            <a:xfrm>
              <a:off x="7259400" y="4138560"/>
              <a:ext cx="1703160" cy="14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3"/>
            <a:stretch/>
          </p:blipFill>
          <p:spPr>
            <a:xfrm rot="19770000">
              <a:off x="6154560" y="5249520"/>
              <a:ext cx="2035080" cy="101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5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45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150"/>
                            </p:stCondLst>
                            <p:childTnLst>
                              <p:par>
                                <p:cTn id="1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15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65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65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1100"/>
                            </p:stCondLst>
                            <p:childTnLst>
                              <p:par>
                                <p:cTn id="1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16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80920" y="279360"/>
            <a:ext cx="6605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Kristen ITC"/>
              </a:rPr>
              <a:t> </a:t>
            </a:r>
            <a:br>
              <a:rPr sz="1800"/>
            </a:b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Kristen ITC"/>
              </a:rPr>
              <a:t>5. DESCONFORTO INTESTINAL, GASES, INCHAÇO ABD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 QUE ESTÁ FALTANDO : lactobacilos vivos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NDE OBTER: coalhada, iogurte, missô, yakult e similares.</a:t>
            </a:r>
            <a:br>
              <a:rPr sz="1200"/>
            </a:b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041720"/>
            <a:ext cx="2819520" cy="217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300600">
            <a:off x="6783480" y="1177920"/>
            <a:ext cx="1700280" cy="260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577200">
            <a:off x="6141600" y="2482920"/>
            <a:ext cx="625680" cy="4698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71640" y="1459080"/>
            <a:ext cx="1963440" cy="1955160"/>
            <a:chOff x="971640" y="1459080"/>
            <a:chExt cx="1963440" cy="195516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971640" y="1459080"/>
              <a:ext cx="102132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1937880" y="2318760"/>
              <a:ext cx="997200" cy="10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1944720" y="4202280"/>
            <a:ext cx="49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33cc"/>
                </a:solidFill>
                <a:uFillTx/>
                <a:latin typeface="Kristen ITC"/>
              </a:rPr>
              <a:t>6 – Falta de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 rot="978000">
            <a:off x="6314760" y="5130360"/>
            <a:ext cx="1361880" cy="12398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814720" y="3967200"/>
            <a:ext cx="1446120" cy="1128240"/>
            <a:chOff x="5814720" y="3967200"/>
            <a:chExt cx="1446120" cy="1128240"/>
          </a:xfrm>
        </p:grpSpPr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 rot="1248600">
              <a:off x="5915160" y="4115160"/>
              <a:ext cx="970920" cy="7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 rot="2761800">
              <a:off x="6643080" y="4372560"/>
              <a:ext cx="447480" cy="66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220920" y="5114880"/>
            <a:ext cx="576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 QUE ESTÁ FALTANDO: acetil colina, inositol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NDE OBTER: lecitina de soja, gema de ovo + suplementos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36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3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1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7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700"/>
                            </p:stCondLst>
                            <p:childTnLst>
                              <p:par>
                                <p:cTn id="1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550"/>
                            </p:stCondLst>
                            <p:childTnLst>
                              <p:par>
                                <p:cTn id="1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5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5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50"/>
                            </p:stCondLst>
                            <p:childTnLst>
                              <p:par>
                                <p:cTn id="20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9550"/>
                            </p:stCondLst>
                            <p:childTnLst>
                              <p:par>
                                <p:cTn id="2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5640" y="331920"/>
            <a:ext cx="2824200" cy="223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9800" y="1795320"/>
            <a:ext cx="2119320" cy="986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7960" y="671400"/>
            <a:ext cx="582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7. HIPOTIREOIDISMO (PROVOCA GANHO DE PESO SEM CAUSA APARENT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cc"/>
                </a:solidFill>
                <a:latin typeface="Kristen ITC"/>
              </a:rPr>
              <a:t>O QUE ESTÁ FALTANDO</a:t>
            </a: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 : iodo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NDE OBTER: algas marinhas, cenoura, óleo, pêra, abacaxi, peixes de água salgada e sal marinho.</a:t>
            </a: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 rot="20540400">
            <a:off x="2220480" y="5055840"/>
            <a:ext cx="1211400" cy="958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73760" y="2887560"/>
            <a:ext cx="1870200" cy="36813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811320" y="1591200"/>
            <a:ext cx="1658160" cy="1755000"/>
            <a:chOff x="3811320" y="1591200"/>
            <a:chExt cx="1658160" cy="1755000"/>
          </a:xfrm>
        </p:grpSpPr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 rot="20847000">
              <a:off x="4888800" y="2522160"/>
              <a:ext cx="520920" cy="6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 rot="596400">
              <a:off x="3938760" y="1679400"/>
              <a:ext cx="1161000" cy="157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7083360" y="417600"/>
            <a:ext cx="146232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3352680" y="4024440"/>
            <a:ext cx="2921040" cy="2260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91840" y="3195720"/>
            <a:ext cx="4883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Kristen ITC"/>
              </a:rPr>
              <a:t> </a:t>
            </a:r>
            <a:br>
              <a:rPr sz="1800"/>
            </a:b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8. CABELOS QUEBRADIÇOS E UNHAS FRAC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cc"/>
                </a:solidFill>
                <a:latin typeface="Arial"/>
              </a:rPr>
              <a:t>O QUE ESTÁ FALTANDO: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colágeno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ONDE OBTER: peixes, ovos, carnes magras, gelatina + suple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54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5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150"/>
                            </p:stCondLst>
                            <p:childTnLst>
                              <p:par>
                                <p:cTn id="2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9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9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9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1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100"/>
                            </p:stCondLst>
                            <p:childTnLst>
                              <p:par>
                                <p:cTn id="2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65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3800" y="160200"/>
            <a:ext cx="2975040" cy="3807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6480" y="3971880"/>
            <a:ext cx="54417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1400"/>
            </a:b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10. COLESTEROL E TRIGLICERÍDEOS A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200" spc="-1" strike="noStrike">
                <a:solidFill>
                  <a:srgbClr val="0033cc"/>
                </a:solidFill>
                <a:latin typeface="Arial"/>
              </a:rPr>
              <a:t>O QUE ESTÁ FALTANDO: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Ômega 3 e 6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ONDE OBTER: sardinha, salmão, abacate, aze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267600" y="3063960"/>
            <a:ext cx="2388960" cy="34639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201840" y="4757760"/>
            <a:ext cx="3479040" cy="1533600"/>
            <a:chOff x="3201840" y="4757760"/>
            <a:chExt cx="3479040" cy="153360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 rot="19579800">
              <a:off x="5469840" y="4923000"/>
              <a:ext cx="95904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3201840" y="5110560"/>
              <a:ext cx="146376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 rot="361200">
              <a:off x="4627440" y="5038920"/>
              <a:ext cx="876240" cy="120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 rot="523800">
            <a:off x="6303960" y="609120"/>
            <a:ext cx="2479680" cy="185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92520" y="633240"/>
            <a:ext cx="4052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Arial"/>
              </a:rPr>
              <a:t>9. FRAQUEZA , INDISPOSIÇÃO, MAL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</a:rPr>
              <a:t>O QUE ESTÁ FALTANDO :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 vitaminas 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Arial"/>
              </a:rPr>
              <a:t>A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Arial"/>
              </a:rPr>
              <a:t>C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, e 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Arial"/>
              </a:rPr>
              <a:t>E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 além de ferro.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ONDE OBTER: verduras, frutas, carnes magras e suple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70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74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5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15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4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400"/>
                            </p:stCondLst>
                            <p:childTnLst>
                              <p:par>
                                <p:cTn id="3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5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550"/>
                            </p:stCondLst>
                            <p:childTnLst>
                              <p:par>
                                <p:cTn id="3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450"/>
                            </p:stCondLst>
                            <p:childTnLst>
                              <p:par>
                                <p:cTn id="3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23040" y="1206360"/>
            <a:ext cx="3135240" cy="4675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70120" y="2933640"/>
            <a:ext cx="3781080" cy="341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0800" y="636480"/>
            <a:ext cx="81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11-DESÂNIMO , APATIA , TRISTEZA , RAIVA , INSATISF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08200" y="158904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33cc"/>
                </a:solidFill>
                <a:uFillTx/>
                <a:latin typeface="Kristen ITC"/>
              </a:rPr>
              <a:t>DINHEIRO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Kristen ITC"/>
              </a:rPr>
              <a:t> </a:t>
            </a: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  meu amigo (a)   </a:t>
            </a:r>
            <a:r>
              <a:rPr b="1" lang="pt-BR" sz="1200" spc="-1" strike="noStrike" u="sng">
                <a:solidFill>
                  <a:srgbClr val="0033cc"/>
                </a:solidFill>
                <a:uFillTx/>
                <a:latin typeface="Kristen ITC"/>
              </a:rPr>
              <a:t>D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9240" y="4902120"/>
            <a:ext cx="456084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DE OBT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do eu descobrir, informare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57520" y="58435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Quando eu descobrir te conto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8480" y="2408400"/>
            <a:ext cx="33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Kristen ITC"/>
              </a:rPr>
              <a:t>Onde obt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6920" y="642132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ydecastello@uol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85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8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89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1" name=""/>
          <p:cNvSpPr/>
          <p:nvPr/>
        </p:nvSpPr>
        <p:spPr>
          <a:xfrm>
            <a:off x="0" y="11160"/>
            <a:ext cx="35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12/05/2009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neydecastello@uol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5120" y="1598760"/>
            <a:ext cx="216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cc"/>
                </a:solidFill>
                <a:latin typeface="Kristen ITC"/>
              </a:rPr>
              <a:t>O que está faltando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800"/>
                            </p:stCondLst>
                            <p:childTnLst>
                              <p:par>
                                <p:cTn id="3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800"/>
                            </p:stCondLst>
                            <p:childTnLst>
                              <p:par>
                                <p:cTn id="3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6800"/>
                            </p:stCondLst>
                            <p:childTnLst>
                              <p:par>
                                <p:cTn id="3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98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40:53Z</dcterms:created>
  <dc:creator>aAA</dc:creator>
  <dc:description/>
  <dc:language>en-US</dc:language>
  <cp:lastModifiedBy>Utilizador</cp:lastModifiedBy>
  <dcterms:modified xsi:type="dcterms:W3CDTF">2009-07-29T22:13:16Z</dcterms:modified>
  <cp:revision>11</cp:revision>
  <dc:subject/>
  <dc:title>Slide 1</dc:title>
</cp:coreProperties>
</file>