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png" ContentType="image/png"/>
  <Override PartName="/ppt/media/image1.gif" ContentType="image/gif"/>
  <Override PartName="/ppt/media/image21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23.gif" ContentType="image/gif"/>
  <Override PartName="/ppt/media/image13.gif" ContentType="image/gif"/>
  <Override PartName="/ppt/media/image27.png" ContentType="image/png"/>
  <Override PartName="/ppt/media/image4.gif" ContentType="image/gif"/>
  <Override PartName="/ppt/media/m%20c%20Chorinho%20-%20Frevo%20da%20lira.wav" ContentType="audio/x-wav"/>
  <Override PartName="/ppt/media/image28.png" ContentType="image/png"/>
  <Override PartName="/ppt/media/image30.jpeg" ContentType="image/jpeg"/>
  <Override PartName="/ppt/media/image32.jpeg" ContentType="image/jpeg"/>
  <Override PartName="/ppt/media/image33.gif" ContentType="image/gif"/>
  <Override PartName="/ppt/media/image36.png" ContentType="image/png"/>
  <Override PartName="/ppt/media/image34.png" ContentType="image/png"/>
  <Override PartName="/ppt/media/image37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38.gif" ContentType="image/gif"/>
  <Override PartName="/ppt/media/image44.png" ContentType="image/png"/>
  <Override PartName="/ppt/media/image45.png" ContentType="image/png"/>
  <Override PartName="/ppt/media/image6.jpeg" ContentType="image/jpeg"/>
  <Override PartName="/ppt/media/image10.png" ContentType="image/png"/>
  <Override PartName="/ppt/media/image29.jpeg" ContentType="image/jpeg"/>
  <Override PartName="/ppt/media/image9.gif" ContentType="image/gif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11.png" ContentType="image/png"/>
  <Override PartName="/ppt/media/image2.gif" ContentType="image/gif"/>
  <Override PartName="/ppt/media/image19.jpeg" ContentType="image/jpeg"/>
  <Override PartName="/ppt/media/image42.jpeg" ContentType="image/jpeg"/>
  <Override PartName="/ppt/media/image35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753-F5EB-49B2-BA1A-6B1300E1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795-BACA-47A4-912F-3143BFB9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9FA-6377-42AE-9CF6-5AD417F8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877-46F5-4189-9C19-8A27210B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9C0-46E7-460C-88C1-47232758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4FB-7EF0-4CE0-949C-F417E307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C83-3DBB-42DC-8E5D-0943EA18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5C3-9C87-4FF4-8E35-4CEF970E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594-E680-4102-9AE0-FF633586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261-71EB-4135-86E5-BA2EC20A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753-3749-4B3B-A7D7-479919A3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5BD-754C-49D2-BF02-3EDA5B84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A505-B3EB-432D-B89E-594AB49A796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3.png"/><Relationship Id="rId18" Type="http://schemas.openxmlformats.org/officeDocument/2006/relationships/audio" Target="../media/m%20c%20Chorinho%20-%20Frevo%20da%20lira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image" Target="../media/image18.jpe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jpe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846000">
            <a:off x="2701440" y="1943280"/>
            <a:ext cx="4206960" cy="26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SINTOMA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55600"/>
            <a:ext cx="5477040" cy="95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84200"/>
            <a:ext cx="5477040" cy="9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666960" y="6337440"/>
            <a:ext cx="5477040" cy="9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703680" y="6575400"/>
            <a:ext cx="5476680" cy="9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6338880"/>
            <a:ext cx="5477040" cy="95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6578640"/>
            <a:ext cx="5477040" cy="9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666960" y="258840"/>
            <a:ext cx="5477040" cy="9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666960" y="485640"/>
            <a:ext cx="5477040" cy="95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 rot="16200000">
            <a:off x="-2436480" y="2691000"/>
            <a:ext cx="5477040" cy="950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469800" y="237960"/>
            <a:ext cx="311400" cy="5704200"/>
            <a:chOff x="469800" y="237960"/>
            <a:chExt cx="311400" cy="5704200"/>
          </a:xfrm>
        </p:grpSpPr>
        <p:pic>
          <p:nvPicPr>
            <p:cNvPr id="53" name="" descr=""/>
            <p:cNvPicPr/>
            <p:nvPr/>
          </p:nvPicPr>
          <p:blipFill>
            <a:blip r:embed="rId12"/>
            <a:stretch/>
          </p:blipFill>
          <p:spPr>
            <a:xfrm rot="16200000">
              <a:off x="-2220840" y="2928600"/>
              <a:ext cx="54770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3"/>
            <a:stretch/>
          </p:blipFill>
          <p:spPr>
            <a:xfrm rot="16200000">
              <a:off x="-2004840" y="3155760"/>
              <a:ext cx="5477040" cy="9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8229600" y="888840"/>
            <a:ext cx="649440" cy="5969160"/>
            <a:chOff x="8229600" y="888840"/>
            <a:chExt cx="649440" cy="5969160"/>
          </a:xfrm>
        </p:grpSpPr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 rot="16200000">
              <a:off x="6092640" y="4071600"/>
              <a:ext cx="54770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 rot="16200000">
              <a:off x="5810400" y="3823920"/>
              <a:ext cx="54766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6"/>
            <a:stretch/>
          </p:blipFill>
          <p:spPr>
            <a:xfrm rot="16200000">
              <a:off x="5538600" y="3579480"/>
              <a:ext cx="547704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880920" y="4838760"/>
            <a:ext cx="1170000" cy="1351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7320" y="5857920"/>
            <a:ext cx="371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cc"/>
                </a:solidFill>
                <a:latin typeface="Kristen ITC"/>
              </a:rPr>
              <a:t>Mùsica : Frevo da Li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4040" y="658800"/>
            <a:ext cx="21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cc"/>
                </a:solidFill>
                <a:latin typeface="Arial"/>
              </a:rPr>
              <a:t>neydecastello@uol.com.b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78840" y="64620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gency FB"/>
              </a:rPr>
              <a:t>CL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8" name="m%20c%20Chorinho%20-%20Frevo%20da%20li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66880" y="846000"/>
            <a:ext cx="2332080" cy="516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60600" y="600120"/>
            <a:ext cx="4746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33cc"/>
                </a:solidFill>
                <a:latin typeface="Kristen IT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BR" sz="2400" spc="-1" strike="noStrike">
                <a:solidFill>
                  <a:srgbClr val="0033cc"/>
                </a:solidFill>
                <a:latin typeface="Kristen IT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cc"/>
                </a:solidFill>
                <a:latin typeface="Kristen ITC"/>
              </a:rPr>
              <a:t>Veja que interessante... A partir de uma certa idade , não importa qual seja ela , todos nós apresentamos vários destes </a:t>
            </a:r>
            <a:br>
              <a:rPr sz="2400"/>
            </a:br>
            <a:r>
              <a:rPr b="1" i="1" lang="pt-BR" sz="2400" spc="-1" strike="noStrike">
                <a:solidFill>
                  <a:srgbClr val="0033cc"/>
                </a:solidFill>
                <a:latin typeface="Kristen ITC"/>
              </a:rPr>
              <a:t> esses sintomas .</a:t>
            </a:r>
            <a:r>
              <a:rPr b="1" lang="pt-BR" sz="2400" spc="-1" strike="noStrike">
                <a:solidFill>
                  <a:srgbClr val="0033cc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Kristen ITC"/>
              </a:rPr>
              <a:t> </a:t>
            </a:r>
            <a:r>
              <a:rPr b="1" lang="pt-BR" sz="1800" spc="-1" strike="noStrike">
                <a:solidFill>
                  <a:srgbClr val="0033cc"/>
                </a:solidFill>
                <a:latin typeface="Kristen ITC"/>
              </a:rPr>
              <a:t>(Principalmente o último)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246840" y="217440"/>
            <a:ext cx="5718960" cy="5796720"/>
            <a:chOff x="3246840" y="217440"/>
            <a:chExt cx="5718960" cy="5796720"/>
          </a:xfrm>
        </p:grpSpPr>
        <p:grpSp>
          <p:nvGrpSpPr>
            <p:cNvPr id="66" name=""/>
            <p:cNvGrpSpPr/>
            <p:nvPr/>
          </p:nvGrpSpPr>
          <p:grpSpPr>
            <a:xfrm>
              <a:off x="3246840" y="217440"/>
              <a:ext cx="5703840" cy="310680"/>
              <a:chOff x="3246840" y="217440"/>
              <a:chExt cx="5703840" cy="310680"/>
            </a:xfrm>
          </p:grpSpPr>
          <p:pic>
            <p:nvPicPr>
              <p:cNvPr id="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74000" y="21744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6840" y="43308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8655120" y="310680"/>
              <a:ext cx="310680" cy="5703480"/>
              <a:chOff x="8655120" y="310680"/>
              <a:chExt cx="310680" cy="5703480"/>
            </a:xfrm>
          </p:grpSpPr>
          <p:pic>
            <p:nvPicPr>
              <p:cNvPr id="70" name="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5964120" y="300132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6179760" y="322812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" name=""/>
          <p:cNvGrpSpPr/>
          <p:nvPr/>
        </p:nvGrpSpPr>
        <p:grpSpPr>
          <a:xfrm>
            <a:off x="300600" y="933120"/>
            <a:ext cx="5703480" cy="5775120"/>
            <a:chOff x="300600" y="933120"/>
            <a:chExt cx="5703480" cy="5775120"/>
          </a:xfrm>
        </p:grpSpPr>
        <p:grpSp>
          <p:nvGrpSpPr>
            <p:cNvPr id="73" name=""/>
            <p:cNvGrpSpPr/>
            <p:nvPr/>
          </p:nvGrpSpPr>
          <p:grpSpPr>
            <a:xfrm>
              <a:off x="300600" y="6397560"/>
              <a:ext cx="5703480" cy="310680"/>
              <a:chOff x="300600" y="6397560"/>
              <a:chExt cx="5703480" cy="310680"/>
            </a:xfrm>
          </p:grpSpPr>
          <p:pic>
            <p:nvPicPr>
              <p:cNvPr id="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400" y="639756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00600" y="661320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"/>
            <p:cNvGrpSpPr/>
            <p:nvPr/>
          </p:nvGrpSpPr>
          <p:grpSpPr>
            <a:xfrm>
              <a:off x="318960" y="933120"/>
              <a:ext cx="310680" cy="5703480"/>
              <a:chOff x="318960" y="933120"/>
              <a:chExt cx="310680" cy="5703480"/>
            </a:xfrm>
          </p:grpSpPr>
          <p:pic>
            <p:nvPicPr>
              <p:cNvPr id="77" name="" descr="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2371680" y="362376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2156040" y="3850560"/>
                <a:ext cx="5476680" cy="95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12800" y="565200"/>
            <a:ext cx="1822320" cy="1887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7640" y="1019520"/>
            <a:ext cx="600084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000"/>
            </a:b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33cc"/>
                </a:solidFill>
                <a:latin typeface="Kristen ITC"/>
              </a:rPr>
              <a:t>O QUE ESTÁ FALTANDO : </a:t>
            </a:r>
            <a:r>
              <a:rPr b="1" i="1" lang="pt-BR" sz="1200" spc="-1" strike="noStrike">
                <a:solidFill>
                  <a:srgbClr val="0033cc"/>
                </a:solidFill>
                <a:latin typeface="Kristen ITC"/>
              </a:rPr>
              <a:t>ácidos graxos essenciais e vitaminas.</a:t>
            </a:r>
            <a:br>
              <a:rPr sz="1200"/>
            </a:br>
            <a:r>
              <a:rPr b="0" i="1" lang="pt-BR" sz="1200" spc="-1" strike="noStrike">
                <a:solidFill>
                  <a:srgbClr val="0033cc"/>
                </a:solidFill>
                <a:latin typeface="Kristen ITC"/>
              </a:rPr>
              <a:t>ONDE OBTER: semente de linhaça, cenoura e salmão - além de suplementos específicos.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39880" y="1123920"/>
            <a:ext cx="42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Kristen ITC"/>
              </a:rPr>
              <a:t>1- Dificuldade em perder p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954400" y="-33120"/>
            <a:ext cx="2761920" cy="3123720"/>
            <a:chOff x="5954400" y="-33120"/>
            <a:chExt cx="2761920" cy="3123720"/>
          </a:xfrm>
        </p:grpSpPr>
        <p:grpSp>
          <p:nvGrpSpPr>
            <p:cNvPr id="83" name=""/>
            <p:cNvGrpSpPr/>
            <p:nvPr/>
          </p:nvGrpSpPr>
          <p:grpSpPr>
            <a:xfrm>
              <a:off x="5954400" y="1104480"/>
              <a:ext cx="2761920" cy="1986120"/>
              <a:chOff x="5954400" y="1104480"/>
              <a:chExt cx="2761920" cy="1986120"/>
            </a:xfrm>
          </p:grpSpPr>
          <p:pic>
            <p:nvPicPr>
              <p:cNvPr id="84" name="" descr=""/>
              <p:cNvPicPr/>
              <p:nvPr/>
            </p:nvPicPr>
            <p:blipFill>
              <a:blip r:embed="rId2"/>
              <a:stretch/>
            </p:blipFill>
            <p:spPr>
              <a:xfrm rot="499800">
                <a:off x="7382160" y="1191600"/>
                <a:ext cx="1272960" cy="93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3"/>
              <a:stretch/>
            </p:blipFill>
            <p:spPr>
              <a:xfrm rot="1976400">
                <a:off x="6100560" y="1615320"/>
                <a:ext cx="1802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 rot="21384000">
              <a:off x="6731280" y="22680"/>
              <a:ext cx="1837080" cy="165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3156120" y="4013280"/>
            <a:ext cx="65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Kristen ITC"/>
              </a:rPr>
              <a:t>2- Retenção de líq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46240" y="3311640"/>
            <a:ext cx="1990800" cy="19177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0" y="921960"/>
            <a:ext cx="6003360" cy="5924160"/>
            <a:chOff x="0" y="921960"/>
            <a:chExt cx="6003360" cy="5924160"/>
          </a:xfrm>
        </p:grpSpPr>
        <p:grpSp>
          <p:nvGrpSpPr>
            <p:cNvPr id="90" name=""/>
            <p:cNvGrpSpPr/>
            <p:nvPr/>
          </p:nvGrpSpPr>
          <p:grpSpPr>
            <a:xfrm>
              <a:off x="0" y="6527520"/>
              <a:ext cx="6003360" cy="318600"/>
              <a:chOff x="0" y="6527520"/>
              <a:chExt cx="6003360" cy="318600"/>
            </a:xfrm>
          </p:grpSpPr>
          <p:pic>
            <p:nvPicPr>
              <p:cNvPr id="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9040" y="652752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674856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" name=""/>
            <p:cNvGrpSpPr/>
            <p:nvPr/>
          </p:nvGrpSpPr>
          <p:grpSpPr>
            <a:xfrm>
              <a:off x="19800" y="921960"/>
              <a:ext cx="326880" cy="5850720"/>
              <a:chOff x="19800" y="921960"/>
              <a:chExt cx="326880" cy="5850720"/>
            </a:xfrm>
          </p:grpSpPr>
          <p:pic>
            <p:nvPicPr>
              <p:cNvPr id="94" name="" descr="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2738880" y="368064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2512080" y="391356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6" name=""/>
          <p:cNvGrpSpPr/>
          <p:nvPr/>
        </p:nvGrpSpPr>
        <p:grpSpPr>
          <a:xfrm>
            <a:off x="5680800" y="3704400"/>
            <a:ext cx="3198960" cy="3195000"/>
            <a:chOff x="5680800" y="3704400"/>
            <a:chExt cx="3198960" cy="3195000"/>
          </a:xfrm>
        </p:grpSpPr>
        <p:pic>
          <p:nvPicPr>
            <p:cNvPr id="97" name="" descr=""/>
            <p:cNvPicPr/>
            <p:nvPr/>
          </p:nvPicPr>
          <p:blipFill>
            <a:blip r:embed="rId10"/>
            <a:stretch/>
          </p:blipFill>
          <p:spPr>
            <a:xfrm rot="20143800">
              <a:off x="5827680" y="4304880"/>
              <a:ext cx="169848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1"/>
            <a:stretch/>
          </p:blipFill>
          <p:spPr>
            <a:xfrm rot="333000">
              <a:off x="7306920" y="3765240"/>
              <a:ext cx="1333800" cy="14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2"/>
            <a:stretch/>
          </p:blipFill>
          <p:spPr>
            <a:xfrm rot="896400">
              <a:off x="6522840" y="4892400"/>
              <a:ext cx="2166840" cy="17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711360" y="5424480"/>
            <a:ext cx="704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Kristen ITC"/>
              </a:rPr>
              <a:t>O QUE ESTÁ FALTANDO: </a:t>
            </a:r>
            <a:r>
              <a:rPr b="1" i="1" lang="en-US" sz="1200" spc="-1" strike="noStrike">
                <a:solidFill>
                  <a:srgbClr val="0033cc"/>
                </a:solidFill>
                <a:latin typeface="Kristen ITC"/>
              </a:rPr>
              <a:t>na verdade um desequilíbrio entre o potássio, fósforo e sódio.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Kristen ITC"/>
              </a:rPr>
              <a:t>ONDE OBTER: água de côco, azeitona, pêssego, ameixa, figo, amêndoa, nozes,acelga, coentro e os suplem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70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350"/>
                            </p:stCondLst>
                            <p:childTnLst>
                              <p:par>
                                <p:cTn id="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350"/>
                            </p:stCondLst>
                            <p:childTnLst>
                              <p:par>
                                <p:cTn id="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8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800"/>
                            </p:stCondLst>
                            <p:childTnLst>
                              <p:par>
                                <p:cTn id="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450"/>
                            </p:stCondLst>
                            <p:childTnLst>
                              <p:par>
                                <p:cTn id="8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21432600">
            <a:off x="402840" y="528480"/>
            <a:ext cx="2552760" cy="24814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457960" y="483120"/>
            <a:ext cx="3361320" cy="2675520"/>
            <a:chOff x="5457960" y="483120"/>
            <a:chExt cx="3361320" cy="267552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 rot="20875800">
              <a:off x="6844320" y="650880"/>
              <a:ext cx="1800360" cy="18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5457960" y="1144440"/>
              <a:ext cx="145260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4"/>
            <a:stretch/>
          </p:blipFill>
          <p:spPr>
            <a:xfrm>
              <a:off x="6762240" y="2279160"/>
              <a:ext cx="1266840" cy="87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1085760" y="4648320"/>
            <a:ext cx="47023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O QUE ESTÁ FALTANDO : </a:t>
            </a:r>
            <a:r>
              <a:rPr b="1" lang="pt-BR" sz="1200" spc="-1" strike="noStrike">
                <a:solidFill>
                  <a:srgbClr val="0033cc"/>
                </a:solidFill>
                <a:latin typeface="Kristen ITC"/>
              </a:rPr>
              <a:t>potássio e magnésio</a:t>
            </a: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ONDE OBTER : banana, cevada, milho, manga, pêssego, acerola, laranja e ág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flipH="1">
            <a:off x="2239560" y="3257640"/>
            <a:ext cx="1916280" cy="2050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55920" y="3249720"/>
            <a:ext cx="38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33cc"/>
                </a:solidFill>
                <a:uFillTx/>
                <a:latin typeface="Kristen ITC"/>
              </a:rPr>
              <a:t>4 . CÃIMBRA, DOR DE CABE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08200" y="1035000"/>
            <a:ext cx="457200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0033cc"/>
                </a:solidFill>
                <a:uFillTx/>
                <a:latin typeface="Kristen ITC"/>
              </a:rPr>
              <a:t>3. COMPULSÃO POR DOC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O QUE ESTÁ FALTANDO :</a:t>
            </a:r>
            <a:r>
              <a:rPr b="1" i="1" lang="pt-BR" sz="1200" spc="-1" strike="noStrike">
                <a:solidFill>
                  <a:srgbClr val="0033cc"/>
                </a:solidFill>
                <a:latin typeface="Kristen ITC"/>
              </a:rPr>
              <a:t> cromo</a:t>
            </a: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.</a:t>
            </a: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ONDE OBTER: cereais integrais, nozes, centeio, banana, espinafre,cenoura +suplementos..</a:t>
            </a:r>
            <a:br>
              <a:rPr sz="1200"/>
            </a:br>
            <a:r>
              <a:rPr b="1" lang="pt-BR" sz="1800" spc="-1" strike="noStrike">
                <a:solidFill>
                  <a:srgbClr val="0033cc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 flipH="1" rot="20803200">
            <a:off x="5166720" y="4101840"/>
            <a:ext cx="501480" cy="159552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0" y="921960"/>
            <a:ext cx="6003360" cy="5924160"/>
            <a:chOff x="0" y="921960"/>
            <a:chExt cx="6003360" cy="5924160"/>
          </a:xfrm>
        </p:grpSpPr>
        <p:grpSp>
          <p:nvGrpSpPr>
            <p:cNvPr id="112" name=""/>
            <p:cNvGrpSpPr/>
            <p:nvPr/>
          </p:nvGrpSpPr>
          <p:grpSpPr>
            <a:xfrm>
              <a:off x="0" y="6527520"/>
              <a:ext cx="6003360" cy="318600"/>
              <a:chOff x="0" y="6527520"/>
              <a:chExt cx="6003360" cy="318600"/>
            </a:xfrm>
          </p:grpSpPr>
          <p:pic>
            <p:nvPicPr>
              <p:cNvPr id="1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39040" y="652752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674856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"/>
            <p:cNvGrpSpPr/>
            <p:nvPr/>
          </p:nvGrpSpPr>
          <p:grpSpPr>
            <a:xfrm>
              <a:off x="19800" y="921960"/>
              <a:ext cx="326880" cy="5850720"/>
              <a:chOff x="19800" y="921960"/>
              <a:chExt cx="326880" cy="5850720"/>
            </a:xfrm>
          </p:grpSpPr>
          <p:pic>
            <p:nvPicPr>
              <p:cNvPr id="116" name="" descr="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2738880" y="368064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10"/>
              <a:stretch/>
            </p:blipFill>
            <p:spPr>
              <a:xfrm rot="16200000">
                <a:off x="-2512080" y="391356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8" name=""/>
          <p:cNvGrpSpPr/>
          <p:nvPr/>
        </p:nvGrpSpPr>
        <p:grpSpPr>
          <a:xfrm>
            <a:off x="5780520" y="4138560"/>
            <a:ext cx="3182040" cy="2576160"/>
            <a:chOff x="5780520" y="4138560"/>
            <a:chExt cx="3182040" cy="2576160"/>
          </a:xfrm>
        </p:grpSpPr>
        <p:pic>
          <p:nvPicPr>
            <p:cNvPr id="119" name="" descr=""/>
            <p:cNvPicPr/>
            <p:nvPr/>
          </p:nvPicPr>
          <p:blipFill>
            <a:blip r:embed="rId11"/>
            <a:stretch/>
          </p:blipFill>
          <p:spPr>
            <a:xfrm rot="21428400">
              <a:off x="5805000" y="4410000"/>
              <a:ext cx="1541160" cy="10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2"/>
            <a:stretch/>
          </p:blipFill>
          <p:spPr>
            <a:xfrm>
              <a:off x="7259400" y="4138560"/>
              <a:ext cx="1703160" cy="14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3"/>
            <a:stretch/>
          </p:blipFill>
          <p:spPr>
            <a:xfrm rot="19770000">
              <a:off x="6154560" y="5249520"/>
              <a:ext cx="2035080" cy="1019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5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450"/>
                            </p:stCondLst>
                            <p:childTnLst>
                              <p:par>
                                <p:cTn id="1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150"/>
                            </p:stCondLst>
                            <p:childTnLst>
                              <p:par>
                                <p:cTn id="1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150"/>
                            </p:stCondLst>
                            <p:childTnLst>
                              <p:par>
                                <p:cTn id="1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65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65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1100"/>
                            </p:stCondLst>
                            <p:childTnLst>
                              <p:par>
                                <p:cTn id="14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160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80920" y="279360"/>
            <a:ext cx="6605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Kristen ITC"/>
              </a:rPr>
              <a:t> </a:t>
            </a:r>
            <a:br>
              <a:rPr sz="1800"/>
            </a:br>
            <a:r>
              <a:rPr b="1" i="1" lang="pt-BR" sz="1800" spc="-1" strike="noStrike" u="sng">
                <a:solidFill>
                  <a:srgbClr val="0033cc"/>
                </a:solidFill>
                <a:uFillTx/>
                <a:latin typeface="Kristen ITC"/>
              </a:rPr>
              <a:t>5. DESCONFORTO INTESTINAL, GASES, INCHAÇO ABD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O QUE ESTÁ FALTANDO : lactobacilos vivos</a:t>
            </a: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ONDE OBTER: coalhada, iogurte, missô, yakult e similares.</a:t>
            </a:r>
            <a:br>
              <a:rPr sz="1200"/>
            </a:br>
            <a:r>
              <a:rPr b="1" lang="pt-BR" sz="1800" spc="-1" strike="noStrike">
                <a:solidFill>
                  <a:srgbClr val="0033cc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4041720"/>
            <a:ext cx="2819520" cy="2176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 rot="300600">
            <a:off x="6783480" y="1177920"/>
            <a:ext cx="1700280" cy="2603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577200">
            <a:off x="6141600" y="2482920"/>
            <a:ext cx="625680" cy="4698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971640" y="1459080"/>
            <a:ext cx="1963440" cy="1955160"/>
            <a:chOff x="971640" y="1459080"/>
            <a:chExt cx="1963440" cy="1955160"/>
          </a:xfrm>
        </p:grpSpPr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971640" y="1459080"/>
              <a:ext cx="102132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1937880" y="2318760"/>
              <a:ext cx="997200" cy="10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1944720" y="4202280"/>
            <a:ext cx="49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33cc"/>
                </a:solidFill>
                <a:uFillTx/>
                <a:latin typeface="Kristen ITC"/>
              </a:rPr>
              <a:t>6 – Falta de Mem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 rot="978000">
            <a:off x="6314760" y="5130360"/>
            <a:ext cx="1361880" cy="12398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5814720" y="3967200"/>
            <a:ext cx="1446120" cy="1128240"/>
            <a:chOff x="5814720" y="3967200"/>
            <a:chExt cx="1446120" cy="1128240"/>
          </a:xfrm>
        </p:grpSpPr>
        <p:pic>
          <p:nvPicPr>
            <p:cNvPr id="132" name="" descr=""/>
            <p:cNvPicPr/>
            <p:nvPr/>
          </p:nvPicPr>
          <p:blipFill>
            <a:blip r:embed="rId7"/>
            <a:stretch/>
          </p:blipFill>
          <p:spPr>
            <a:xfrm rot="1248600">
              <a:off x="5915160" y="4115160"/>
              <a:ext cx="970920" cy="7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8"/>
            <a:stretch/>
          </p:blipFill>
          <p:spPr>
            <a:xfrm rot="2761800">
              <a:off x="6643080" y="4372560"/>
              <a:ext cx="447480" cy="66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3220920" y="5114880"/>
            <a:ext cx="5764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Kristen ITC"/>
              </a:rPr>
              <a:t>O QUE ESTÁ FALTANDO: acetil colina, inositol.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Kristen ITC"/>
              </a:rPr>
              <a:t>ONDE OBTER: lecitina de soja, gema de ovo + suplementos.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921960"/>
            <a:ext cx="6003360" cy="5924160"/>
            <a:chOff x="0" y="921960"/>
            <a:chExt cx="6003360" cy="5924160"/>
          </a:xfrm>
        </p:grpSpPr>
        <p:grpSp>
          <p:nvGrpSpPr>
            <p:cNvPr id="136" name=""/>
            <p:cNvGrpSpPr/>
            <p:nvPr/>
          </p:nvGrpSpPr>
          <p:grpSpPr>
            <a:xfrm>
              <a:off x="0" y="6527520"/>
              <a:ext cx="6003360" cy="318600"/>
              <a:chOff x="0" y="6527520"/>
              <a:chExt cx="6003360" cy="318600"/>
            </a:xfrm>
          </p:grpSpPr>
          <p:pic>
            <p:nvPicPr>
              <p:cNvPr id="13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39040" y="652752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674856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" name=""/>
            <p:cNvGrpSpPr/>
            <p:nvPr/>
          </p:nvGrpSpPr>
          <p:grpSpPr>
            <a:xfrm>
              <a:off x="19800" y="921960"/>
              <a:ext cx="326880" cy="5850720"/>
              <a:chOff x="19800" y="921960"/>
              <a:chExt cx="326880" cy="5850720"/>
            </a:xfrm>
          </p:grpSpPr>
          <p:pic>
            <p:nvPicPr>
              <p:cNvPr id="140" name="" descr=""/>
              <p:cNvPicPr/>
              <p:nvPr/>
            </p:nvPicPr>
            <p:blipFill>
              <a:blip r:embed="rId11"/>
              <a:stretch/>
            </p:blipFill>
            <p:spPr>
              <a:xfrm rot="16200000">
                <a:off x="-2738880" y="368064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12"/>
              <a:stretch/>
            </p:blipFill>
            <p:spPr>
              <a:xfrm rot="16200000">
                <a:off x="-2512080" y="391356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70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700"/>
                            </p:stCondLst>
                            <p:childTnLst>
                              <p:par>
                                <p:cTn id="1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550"/>
                            </p:stCondLst>
                            <p:childTnLst>
                              <p:par>
                                <p:cTn id="1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05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050"/>
                            </p:stCondLst>
                            <p:childTnLst>
                              <p:par>
                                <p:cTn id="1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55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7550"/>
                            </p:stCondLst>
                            <p:childTnLst>
                              <p:par>
                                <p:cTn id="20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9550"/>
                            </p:stCondLst>
                            <p:childTnLst>
                              <p:par>
                                <p:cTn id="2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85640" y="331920"/>
            <a:ext cx="2824200" cy="2236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49800" y="1795320"/>
            <a:ext cx="2119320" cy="986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47960" y="671400"/>
            <a:ext cx="5824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Kristen ITC"/>
              </a:rPr>
              <a:t>7. HIPOTIREOIDISMO (PROVOCA GANHO DE PESO SEM CAUSA APARENT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cc"/>
                </a:solidFill>
                <a:latin typeface="Kristen ITC"/>
              </a:rPr>
              <a:t>O QUE ESTÁ FALTANDO</a:t>
            </a:r>
            <a:r>
              <a:rPr b="0" lang="en-US" sz="1200" spc="-1" strike="noStrike">
                <a:solidFill>
                  <a:srgbClr val="0033cc"/>
                </a:solidFill>
                <a:latin typeface="Kristen ITC"/>
              </a:rPr>
              <a:t> : iodo.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Kristen ITC"/>
              </a:rPr>
              <a:t>ONDE OBTER: algas marinhas, cenoura, óleo, pêra, abacaxi, peixes de água salgada e sal marinho.</a:t>
            </a:r>
            <a:br>
              <a:rPr sz="1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 rot="20540400">
            <a:off x="2220480" y="5055840"/>
            <a:ext cx="1211400" cy="958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773760" y="2887560"/>
            <a:ext cx="1870200" cy="368136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811320" y="1591200"/>
            <a:ext cx="1658160" cy="1755000"/>
            <a:chOff x="3811320" y="1591200"/>
            <a:chExt cx="1658160" cy="1755000"/>
          </a:xfrm>
        </p:grpSpPr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 rot="20847000">
              <a:off x="4888800" y="2522160"/>
              <a:ext cx="520920" cy="6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 rot="596400">
              <a:off x="3938760" y="1679400"/>
              <a:ext cx="1161000" cy="157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7083360" y="417600"/>
            <a:ext cx="1462320" cy="1344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3352680" y="4024440"/>
            <a:ext cx="2921040" cy="2260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91840" y="3195720"/>
            <a:ext cx="48837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33cc"/>
                </a:solidFill>
                <a:latin typeface="Kristen ITC"/>
              </a:rPr>
              <a:t> </a:t>
            </a:r>
            <a:br>
              <a:rPr sz="1800"/>
            </a:b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Kristen ITC"/>
              </a:rPr>
              <a:t>8. CABELOS QUEBRADIÇOS E UNHAS FRAC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cc"/>
                </a:solidFill>
                <a:latin typeface="Arial"/>
              </a:rPr>
              <a:t>O QUE ESTÁ FALTANDO: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 colágeno.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ONDE OBTER: peixes, ovos, carnes magras, gelatina + suple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921960"/>
            <a:ext cx="6003360" cy="5924160"/>
            <a:chOff x="0" y="921960"/>
            <a:chExt cx="6003360" cy="5924160"/>
          </a:xfrm>
        </p:grpSpPr>
        <p:grpSp>
          <p:nvGrpSpPr>
            <p:cNvPr id="154" name=""/>
            <p:cNvGrpSpPr/>
            <p:nvPr/>
          </p:nvGrpSpPr>
          <p:grpSpPr>
            <a:xfrm>
              <a:off x="0" y="6527520"/>
              <a:ext cx="6003360" cy="318600"/>
              <a:chOff x="0" y="6527520"/>
              <a:chExt cx="6003360" cy="318600"/>
            </a:xfrm>
          </p:grpSpPr>
          <p:pic>
            <p:nvPicPr>
              <p:cNvPr id="15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39040" y="652752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674856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"/>
            <p:cNvGrpSpPr/>
            <p:nvPr/>
          </p:nvGrpSpPr>
          <p:grpSpPr>
            <a:xfrm>
              <a:off x="19800" y="921960"/>
              <a:ext cx="326880" cy="5850720"/>
              <a:chOff x="19800" y="921960"/>
              <a:chExt cx="326880" cy="5850720"/>
            </a:xfrm>
          </p:grpSpPr>
          <p:pic>
            <p:nvPicPr>
              <p:cNvPr id="158" name="" descr=""/>
              <p:cNvPicPr/>
              <p:nvPr/>
            </p:nvPicPr>
            <p:blipFill>
              <a:blip r:embed="rId11"/>
              <a:stretch/>
            </p:blipFill>
            <p:spPr>
              <a:xfrm rot="16200000">
                <a:off x="-2738880" y="368064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12"/>
              <a:stretch/>
            </p:blipFill>
            <p:spPr>
              <a:xfrm rot="16200000">
                <a:off x="-2512080" y="391356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cover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15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150"/>
                            </p:stCondLst>
                            <p:childTnLst>
                              <p:par>
                                <p:cTn id="2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9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9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900"/>
                            </p:stCondLst>
                            <p:childTnLst>
                              <p:par>
                                <p:cTn id="2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71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9100"/>
                            </p:stCondLst>
                            <p:childTnLst>
                              <p:par>
                                <p:cTn id="2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3650"/>
                            </p:stCondLst>
                            <p:childTnLst>
                              <p:par>
                                <p:cTn id="2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23800" y="160200"/>
            <a:ext cx="2975040" cy="3807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6480" y="3971880"/>
            <a:ext cx="544176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 </a:t>
            </a:r>
            <a:br>
              <a:rPr sz="1400"/>
            </a:b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10. COLESTEROL E TRIGLICERÍDEOS AL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en-US" sz="1200" spc="-1" strike="noStrike">
                <a:solidFill>
                  <a:srgbClr val="0033cc"/>
                </a:solidFill>
                <a:latin typeface="Arial"/>
              </a:rPr>
              <a:t>O QUE ESTÁ FALTANDO: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 Ômega 3 e 6.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ONDE OBTER: sardinha, salmão, abacate, azeit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267600" y="3063960"/>
            <a:ext cx="2388960" cy="34639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3201840" y="4757760"/>
            <a:ext cx="3479040" cy="1533600"/>
            <a:chOff x="3201840" y="4757760"/>
            <a:chExt cx="3479040" cy="153360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 rot="19579800">
              <a:off x="5469840" y="4923000"/>
              <a:ext cx="95904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3201840" y="5110560"/>
              <a:ext cx="1463760" cy="9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 rot="361200">
              <a:off x="4627440" y="5038920"/>
              <a:ext cx="876240" cy="120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 rot="523800">
            <a:off x="6303960" y="609120"/>
            <a:ext cx="2479680" cy="1854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792520" y="633240"/>
            <a:ext cx="40528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pt-BR" sz="1800" spc="-1" strike="noStrike" u="sng">
                <a:solidFill>
                  <a:srgbClr val="0033cc"/>
                </a:solidFill>
                <a:uFillTx/>
                <a:latin typeface="Arial"/>
              </a:rPr>
              <a:t>9. FRAQUEZA , INDISPOSIÇÃO, MAL HU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cc"/>
                </a:solidFill>
                <a:latin typeface="Arial"/>
              </a:rPr>
              <a:t>O QUE ESTÁ FALTANDO :</a:t>
            </a: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 vitaminas </a:t>
            </a:r>
            <a:r>
              <a:rPr b="0" lang="pt-BR" sz="1200" spc="-1" strike="noStrike" u="sng">
                <a:solidFill>
                  <a:srgbClr val="0033cc"/>
                </a:solidFill>
                <a:uFillTx/>
                <a:latin typeface="Arial"/>
              </a:rPr>
              <a:t>A</a:t>
            </a: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pt-BR" sz="1200" spc="-1" strike="noStrike" u="sng">
                <a:solidFill>
                  <a:srgbClr val="0033cc"/>
                </a:solidFill>
                <a:uFillTx/>
                <a:latin typeface="Arial"/>
              </a:rPr>
              <a:t>C</a:t>
            </a: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, e </a:t>
            </a:r>
            <a:r>
              <a:rPr b="0" lang="pt-BR" sz="1200" spc="-1" strike="noStrike" u="sng">
                <a:solidFill>
                  <a:srgbClr val="0033cc"/>
                </a:solidFill>
                <a:uFillTx/>
                <a:latin typeface="Arial"/>
              </a:rPr>
              <a:t>E</a:t>
            </a: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 além de ferro.</a:t>
            </a: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ONDE OBTER: verduras, frutas, carnes magras e suplem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921960"/>
            <a:ext cx="6003360" cy="5924160"/>
            <a:chOff x="0" y="921960"/>
            <a:chExt cx="6003360" cy="5924160"/>
          </a:xfrm>
        </p:grpSpPr>
        <p:grpSp>
          <p:nvGrpSpPr>
            <p:cNvPr id="170" name=""/>
            <p:cNvGrpSpPr/>
            <p:nvPr/>
          </p:nvGrpSpPr>
          <p:grpSpPr>
            <a:xfrm>
              <a:off x="0" y="6527520"/>
              <a:ext cx="6003360" cy="318600"/>
              <a:chOff x="0" y="6527520"/>
              <a:chExt cx="6003360" cy="318600"/>
            </a:xfrm>
          </p:grpSpPr>
          <p:pic>
            <p:nvPicPr>
              <p:cNvPr id="17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39040" y="652752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674856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19800" y="921960"/>
              <a:ext cx="326880" cy="5850720"/>
              <a:chOff x="19800" y="921960"/>
              <a:chExt cx="326880" cy="5850720"/>
            </a:xfrm>
          </p:grpSpPr>
          <p:pic>
            <p:nvPicPr>
              <p:cNvPr id="174" name="" descr=""/>
              <p:cNvPicPr/>
              <p:nvPr/>
            </p:nvPicPr>
            <p:blipFill>
              <a:blip r:embed="rId9"/>
              <a:stretch/>
            </p:blipFill>
            <p:spPr>
              <a:xfrm rot="16200000">
                <a:off x="-2738880" y="368064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10"/>
              <a:stretch/>
            </p:blipFill>
            <p:spPr>
              <a:xfrm rot="16200000">
                <a:off x="-2512080" y="391356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cover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15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15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400"/>
                            </p:stCondLst>
                            <p:childTnLst>
                              <p:par>
                                <p:cTn id="3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400"/>
                            </p:stCondLst>
                            <p:childTnLst>
                              <p:par>
                                <p:cTn id="3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5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4550"/>
                            </p:stCondLst>
                            <p:childTnLst>
                              <p:par>
                                <p:cTn id="3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450"/>
                            </p:stCondLst>
                            <p:childTnLst>
                              <p:par>
                                <p:cTn id="3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23040" y="1206360"/>
            <a:ext cx="3135240" cy="4675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70120" y="2933640"/>
            <a:ext cx="3781080" cy="3419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50800" y="636480"/>
            <a:ext cx="81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Kristen ITC"/>
              </a:rPr>
              <a:t>11-DESÂNIMO , APATIA , TRISTEZA , RAIVA , INSATISF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08200" y="1589040"/>
            <a:ext cx="47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33cc"/>
                </a:solidFill>
                <a:uFillTx/>
                <a:latin typeface="Kristen ITC"/>
              </a:rPr>
              <a:t>DINHEIRO</a:t>
            </a:r>
            <a:r>
              <a:rPr b="0" lang="pt-BR" sz="1200" spc="-1" strike="noStrike" u="sng">
                <a:solidFill>
                  <a:srgbClr val="0033cc"/>
                </a:solidFill>
                <a:uFillTx/>
                <a:latin typeface="Kristen ITC"/>
              </a:rPr>
              <a:t> </a:t>
            </a:r>
            <a:r>
              <a:rPr b="0" lang="pt-BR" sz="1200" spc="-1" strike="noStrike">
                <a:solidFill>
                  <a:srgbClr val="0033cc"/>
                </a:solidFill>
                <a:latin typeface="Kristen ITC"/>
              </a:rPr>
              <a:t>  meu amigo (a)   </a:t>
            </a:r>
            <a:r>
              <a:rPr b="1" lang="pt-BR" sz="1200" spc="-1" strike="noStrike" u="sng">
                <a:solidFill>
                  <a:srgbClr val="0033cc"/>
                </a:solidFill>
                <a:uFillTx/>
                <a:latin typeface="Kristen ITC"/>
              </a:rPr>
              <a:t>DINH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9240" y="4902120"/>
            <a:ext cx="456084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DE OBT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do eu descobrir, informare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57520" y="5843520"/>
            <a:ext cx="53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cc"/>
                </a:solidFill>
                <a:latin typeface="Kristen ITC"/>
              </a:rPr>
              <a:t>Quando eu descobrir te conto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8480" y="2408400"/>
            <a:ext cx="33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33cc"/>
                </a:solidFill>
                <a:latin typeface="Kristen ITC"/>
              </a:rPr>
              <a:t>Onde obte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6920" y="6421320"/>
            <a:ext cx="33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ydecastello@uol.com.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921960"/>
            <a:ext cx="6003360" cy="5924160"/>
            <a:chOff x="0" y="921960"/>
            <a:chExt cx="6003360" cy="5924160"/>
          </a:xfrm>
        </p:grpSpPr>
        <p:grpSp>
          <p:nvGrpSpPr>
            <p:cNvPr id="185" name=""/>
            <p:cNvGrpSpPr/>
            <p:nvPr/>
          </p:nvGrpSpPr>
          <p:grpSpPr>
            <a:xfrm>
              <a:off x="0" y="6527520"/>
              <a:ext cx="6003360" cy="318600"/>
              <a:chOff x="0" y="6527520"/>
              <a:chExt cx="6003360" cy="318600"/>
            </a:xfrm>
          </p:grpSpPr>
          <p:pic>
            <p:nvPicPr>
              <p:cNvPr id="1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9040" y="652752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6748560"/>
                <a:ext cx="5764320" cy="9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8" name=""/>
            <p:cNvGrpSpPr/>
            <p:nvPr/>
          </p:nvGrpSpPr>
          <p:grpSpPr>
            <a:xfrm>
              <a:off x="19800" y="921960"/>
              <a:ext cx="326880" cy="5850720"/>
              <a:chOff x="19800" y="921960"/>
              <a:chExt cx="326880" cy="5850720"/>
            </a:xfrm>
          </p:grpSpPr>
          <p:pic>
            <p:nvPicPr>
              <p:cNvPr id="189" name="" descr=""/>
              <p:cNvPicPr/>
              <p:nvPr/>
            </p:nvPicPr>
            <p:blipFill>
              <a:blip r:embed="rId5"/>
              <a:stretch/>
            </p:blipFill>
            <p:spPr>
              <a:xfrm rot="16200000">
                <a:off x="-2738880" y="368064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6"/>
              <a:stretch/>
            </p:blipFill>
            <p:spPr>
              <a:xfrm rot="16200000">
                <a:off x="-2512080" y="3913560"/>
                <a:ext cx="56178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1" name=""/>
          <p:cNvSpPr/>
          <p:nvPr/>
        </p:nvSpPr>
        <p:spPr>
          <a:xfrm>
            <a:off x="0" y="11160"/>
            <a:ext cx="35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12/05/2009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neydecastello@uol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65120" y="1598760"/>
            <a:ext cx="216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cc"/>
                </a:solidFill>
                <a:latin typeface="Kristen ITC"/>
              </a:rPr>
              <a:t>O que está faltando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0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1800"/>
                            </p:stCondLst>
                            <p:childTnLst>
                              <p:par>
                                <p:cTn id="3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3800"/>
                            </p:stCondLst>
                            <p:childTnLst>
                              <p:par>
                                <p:cTn id="3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2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6800"/>
                            </p:stCondLst>
                            <p:childTnLst>
                              <p:par>
                                <p:cTn id="37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98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9:40:53Z</dcterms:created>
  <dc:creator>aAA</dc:creator>
  <dc:description/>
  <dc:language>en-US</dc:language>
  <cp:lastModifiedBy>Utilizador</cp:lastModifiedBy>
  <dcterms:modified xsi:type="dcterms:W3CDTF">2009-07-29T22:13:16Z</dcterms:modified>
  <cp:revision>11</cp:revision>
  <dc:subject/>
  <dc:title>Slide 1</dc:title>
</cp:coreProperties>
</file>