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The%20Dark%20Night%20Of%20The%20Soul.wav" ContentType="audio/x-wav"/>
  <Override PartName="/ppt/media/image5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D1C-BA66-4AF5-8C08-38E2671F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4AB-A210-466C-9025-55E20E4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34B-D316-4737-BDA0-A84CF3AA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B5E-8A04-4044-B60A-83618095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FFE3-8D76-4426-86C7-EC04A594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E89D-5320-428B-A701-8D801A51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B101-01F9-4385-A34B-32F3AC4F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C3A4-A28F-4C5B-AE28-28EC0879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9E1D-BF05-4207-A69A-9AAB1D83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2273-39C6-4016-B7DE-ED7750E4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D927-CE24-44D8-B14C-A6EF15D4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22C-E459-4389-9718-8A6BCF3A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26AB-A6A2-46C0-9423-E9317F1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23E3-83F5-4D09-AFFC-CF2040CD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B63E-0A78-4F91-9961-60A266F1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C669-B9DB-4312-9804-7BCFD981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F5FE-DF5F-4754-96E8-ABA40EA5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885-CE31-4EE6-A683-CDAD943B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F5A-D532-455B-90E3-757D0115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5AB-E6A2-40AD-B96D-3A6D0716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646-F581-458E-8CE9-235821AC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8DE-9B0B-47A1-A27D-FE698E5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C8A-DCA9-41E3-9D82-1EA0E46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427-94C5-469C-9182-A1959F1A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88BC-2ECC-4365-BEFF-2975A3C00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F654-B01F-40AC-99F7-391387C9D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The%20Dark%20Night%20Of%20The%20Sou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1304"/>
                </a:solidFill>
                <a:latin typeface="Times New Roman"/>
              </a:rPr>
              <a:t>Diário de um cão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808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101080" y="5445000"/>
            <a:ext cx="647640" cy="81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92360" y="1628640"/>
            <a:ext cx="2448000" cy="863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844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oper Black"/>
              </a:rPr>
              <a:t>Tás bem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9280" y="2852640"/>
            <a:ext cx="2233800" cy="9367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306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Rockwell"/>
              </a:rPr>
              <a:t>Tou amigão</a:t>
            </a:r>
            <a:r>
              <a:rPr b="1" lang="pt-PT" sz="12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Rockwel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3" name="The%20Dark%20Night%20Of%20The%20Sou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5556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5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Já nada é igual... Moro na varanda. Sinto-me muito só. Minha família já não me quer! Às vezes esquecem que tenho fome e sede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Quando chove, não tenho teto que me abrigue..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501336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31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6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me desceram da varanda. Estou certo de que minha família me perdoou. Eu fiquei tão contente que pulava com gosto. Meu rabo parecia um ventilador. Além disso, vão levar-me a passear em sua companhia! …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84720" y="508464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71629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Nos direcionamos para a rodovia e, de repente, pararam o automóvel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Abriram a porta e eu desci feliz, pensando que passaríamos nosso dia no campo.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Não compreendo porque fecharam a porta e se foram. </a:t>
            </a:r>
            <a:r>
              <a:rPr b="1" i="1" lang="en-US" sz="3200" spc="-1" strike="noStrike">
                <a:solidFill>
                  <a:srgbClr val="221304"/>
                </a:solidFill>
                <a:latin typeface="Times New Roman"/>
              </a:rPr>
              <a:t>"Ouçam, Esperem!"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lati... se esqueceram de mim... Corri atrás do carro com todas as minhas forças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nha angústia crescia ao perceber que quase perdia o fôlego e eles não paravam. Haviam me esquecido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76720" y="573408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48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7 mese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Procurei em vão achar o caminho de volta ao lar. Estou e sinto-me perdido! No meu caminho existem pessoas de bom coração que me olham com tristeza e me dão algum alimento. Eu lhes agradeço com o meu olhar, desde o fundo de minh'alma. Eu gostaria que me adotassem: seria leal como ninguém!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as somente dizem: </a:t>
            </a:r>
            <a:r>
              <a:rPr b="0" i="1" lang="en-US" sz="3200" spc="-1" strike="noStrike">
                <a:solidFill>
                  <a:srgbClr val="221304"/>
                </a:solidFill>
                <a:latin typeface="Times New Roman"/>
              </a:rPr>
              <a:t>"pobre cãozinho, deve ter-se perdido."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08360" y="573408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549000"/>
            <a:ext cx="700884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8 mese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Um dia destes, passei perto de uma escola e vi muitas crianças e jovens como meus "irmãozinhos". Aproximei-me e um grupo deles, rindo, me jogou uma chuva de pedras "para ver quem tinha melhor pontaria". Uma dessas pedras feriu-me o olho e desde então, não enxergo com ele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19 mese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Parece mentira</a:t>
            </a:r>
            <a:r>
              <a:rPr b="0" lang="en-US" sz="1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!?!  Quando estava mais bonito, tinham compaixão de mim. Já estou muito fraco; meu aspecto mudou. Perdi o meu olho e as pessoas me mostram a vassoura quando pretendo deitar-me numa pequena sombra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27640" y="5157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20 mese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Quase não posso mover-me! Hoje, ao tentar atravessar a rua por onde passam os carros, um me jogou! Eu estava no lugar seguro chamado "calçada", mas nunca esquecerei o olhar de satisfação do condutor, que até se vangloriou por acertar-me. Quisera que me tivesse matado! Mas só me deslocou as cadeiras! A dor é terrível! …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5661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18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143000"/>
            <a:ext cx="664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nhas patas traseiras não me obedecem e, com dificuldade,     arrastei-me até a relva, na beira do caminho.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8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2952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Faz dez dias que estou embaixo do sol, da chuva, do frio, sem comer.   Já não posso mexer-me! A dor é insuportável! Sinto-me muito mal; fiquei num lugar úmido e parece que até o meu pelo esta caindo...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4149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700416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Algumas pessoas passam e nem me vêem; outras dizem: </a:t>
            </a:r>
            <a:r>
              <a:rPr b="1" i="1" lang="en-US" sz="3200" spc="-1" strike="noStrike">
                <a:solidFill>
                  <a:srgbClr val="221304"/>
                </a:solidFill>
                <a:latin typeface="Times New Roman"/>
              </a:rPr>
              <a:t>"não chegue perto!!".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Já estou quase inconsciente. </a:t>
            </a:r>
            <a:br>
              <a:rPr sz="3200"/>
            </a:br>
            <a:br>
              <a:rPr sz="18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as alguma força estranha me faz abrir os olhos. A doçura de sua voz me fez reagir. </a:t>
            </a:r>
            <a:r>
              <a:rPr b="1" i="1" lang="en-US" sz="3200" spc="-1" strike="noStrike">
                <a:solidFill>
                  <a:srgbClr val="221304"/>
                </a:solidFill>
                <a:latin typeface="Times New Roman"/>
              </a:rPr>
              <a:t>"Pobre cãozinho, olha como te deixaram",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dizia... 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Junto com ela estava um senhor de avental branco. Começou a tocar-me e disse: </a:t>
            </a:r>
            <a:r>
              <a:rPr b="1" i="1" lang="en-US" sz="3200" spc="-1" strike="noStrike">
                <a:solidFill>
                  <a:srgbClr val="221304"/>
                </a:solidFill>
                <a:latin typeface="Times New Roman"/>
              </a:rPr>
              <a:t>"Sinto muito senhora, mas este cão já não tem remédio". É melhor que pare de sofrer"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40360" y="573408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69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-7668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ª semana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completei uma semana de vida. Que alegria ter chegado a este mundo!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2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1699920"/>
            <a:ext cx="662472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A gentil dama, com as lágrimas rolando pelo rosto, concordou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mo pude, mexi o rabo e olhei-a, agradecendo-lhe que me ajudasse a descansar. Somente senti a picada da injeção e dormi para sempre, pensando em porque tive que nascer se ninguém me queria..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635280" y="5373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11430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Ajude a abrir a consciência dos ignorantes e, assim, poder acabar    com os maus tratos aos animais, especialmente com o problema de   cães de rua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80000" y="400536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9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657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Repasse este e-mail a quantas mais pessoas puder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Não custa nada !!!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Se repassar uma piada é fácil,          não custa passar esta mensagem…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4869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720" y="549360"/>
            <a:ext cx="324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Times New Roman"/>
              </a:rPr>
              <a:t>Obrigado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5472360" cy="4361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3640" y="549360"/>
            <a:ext cx="3313080" cy="934920"/>
          </a:xfrm>
          <a:prstGeom prst="wedgeRoundRectCallout">
            <a:avLst>
              <a:gd name="adj1" fmla="val -14111"/>
              <a:gd name="adj2" fmla="val 233189"/>
              <a:gd name="adj3" fmla="val 16667"/>
            </a:avLst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-38124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º mês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Minha mamãe cuida muito bem de mim. É uma mãe exemplar!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6000" y="3429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6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629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2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me separaram de minha mamãe. Ela estava muito inquieta e, com seu olhar, disse-me adeus. Espero que a minha nova "família humana" cuide tão bem de mim como ela o fez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4292640"/>
            <a:ext cx="87660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1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204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4 meses: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Cresci rápido; tudo me chama a atenção. Há várias crianças na casa e para mim são como “irmãozinhos”. Somos muito brincalhões, eles me puxam o rabo e eu os mordo de brincadeira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80000" y="458136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8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-457200"/>
            <a:ext cx="6933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5 meses: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me deram uma bronca. Minha dona me bateu porque fiz "pipi" dentro de casa. Mas nunca me haviam ensinado onde deveria fazê-lo. Além do que, durmo no hall de entrada. Não deu para aguentar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46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8 meses:</a:t>
            </a:r>
            <a:br>
              <a:rPr sz="3600"/>
            </a:br>
            <a:br>
              <a:rPr sz="3600"/>
            </a:br>
            <a:r>
              <a:rPr b="0" lang="en-US" sz="3000" spc="-1" strike="noStrike">
                <a:solidFill>
                  <a:srgbClr val="221304"/>
                </a:solidFill>
                <a:latin typeface="Times New Roman"/>
              </a:rPr>
              <a:t>- Sou um cão feliz! Tenho o calor de um lar; sinto-me tão seguro, tão protegido... Acho que a minha família humana me ama e me consente muitas coisas. O pátio é todinho para mim e, às vezes, me excedo, cavando na terra como meus antepassados, os lobos quando escondiam a comida. Nunca me educam.</a:t>
            </a:r>
            <a:br>
              <a:rPr sz="3000"/>
            </a:br>
            <a:r>
              <a:rPr b="0" lang="en-US" sz="3000" spc="-1" strike="noStrike">
                <a:solidFill>
                  <a:srgbClr val="221304"/>
                </a:solidFill>
                <a:latin typeface="Times New Roman"/>
              </a:rPr>
              <a:t>Deve ser correto tudo o que faço!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2360" y="530064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3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13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2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completo um ano. Sou um cão adulto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eus donos dizem que cresci mais do que eles esperavam. Que orgulho devem ter de mim!!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4365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8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7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13 meses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- Hoje me acorrentaram e fico quase sem poder movimentar-me até onde tem um raio de sol ou quando quero alguma sombra.</a:t>
            </a:r>
            <a:br>
              <a:rPr sz="32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Dizem que vão me observar e que sou um ingrato. Não compreendo nada do que está acontecendo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32720" y="5157720"/>
            <a:ext cx="876240" cy="8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7:43:53Z</dcterms:created>
  <dc:creator>Bia</dc:creator>
  <dc:description/>
  <dc:language>en-US</dc:language>
  <cp:lastModifiedBy>toze</cp:lastModifiedBy>
  <dcterms:modified xsi:type="dcterms:W3CDTF">2007-11-01T20:26:27Z</dcterms:modified>
  <cp:revision>3</cp:revision>
  <dc:subject/>
  <dc:title>Diário de um cão</dc:title>
</cp:coreProperties>
</file>