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The%20Dark%20Night%20Of%20The%20Soul.wav" ContentType="audio/x-wav"/>
  <Override PartName="/ppt/media/image5.wmf" ContentType="image/x-wm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CC5-FC4A-4884-A51C-024B0130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9BBE-69D7-4FC6-BAA5-0EF6B13A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0F2C-A14A-41CB-9B3A-C7C08FD7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505A-EEA9-4C02-B61E-5DCDC314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6FB5-40CE-4655-ABED-602AF39A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CAEC-CBAB-464C-B296-4A84A79C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E634-5DAA-415B-8C3C-7C670D78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375D-1C16-4355-B471-95070F22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6C61-BDD4-4D83-9043-5FF52BE4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5367-F419-42F6-937B-B5907D94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72B2-79DA-4E1B-848C-E531161C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6CC7-C6E2-4FA6-B234-DD407184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C29B-8FDC-4D61-8F3A-3201BF97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B2AB-11A3-49BC-AAAE-ECCF8B3A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BD09-1338-4DB7-8CDB-71B0C07F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867C-4FBB-4524-976E-49458AB5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81C6-29DC-457D-837E-06D70F6B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CB03-9711-452B-B01F-29AB5F9C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064C-4AFD-4933-9D0D-4D64F1BB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AC6-1FBE-467B-BE17-DA3230D4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582-3624-414A-86A1-820CD8C5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91FE-FDA5-484D-9EF2-16D597A4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57B-220C-47BC-B8C5-9D21AB9E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1281-6C9F-42F6-80D5-869404EB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57F7-1DB1-47FB-957E-4DF79F466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DEC2-4C94-4FA5-B474-456448054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audio" Target="../media/The%20Dark%20Night%20Of%20The%20Soul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21304"/>
                </a:solidFill>
                <a:latin typeface="Times New Roman"/>
              </a:rPr>
              <a:t>Diário de um cão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553080" cy="4808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101080" y="5445000"/>
            <a:ext cx="647640" cy="819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692360" y="1628640"/>
            <a:ext cx="2448000" cy="8636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1844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oper Black"/>
              </a:rPr>
              <a:t>Tás bem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59280" y="2852640"/>
            <a:ext cx="2233800" cy="93672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32360" y="3068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Rockwell"/>
              </a:rPr>
              <a:t>Tou amigão</a:t>
            </a:r>
            <a:r>
              <a:rPr b="1" lang="pt-PT" sz="12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Rockwel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  <p:sndAc>
      <p:stSnd>
        <p:snd r:embed="rId3" name="The%20Dark%20Night%20Of%20The%20Sou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5556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15 meses: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- Já nada é igual... Moro na varanda. Sinto-me muito só. Minha família já não me quer! Às vezes esquecem que tenho fome e sede.</a:t>
            </a: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Quando chove, não tenho teto que me abrigue..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716360" y="501336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31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019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          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16 meses: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- Hoje me desceram da varanda. Estou certo de que minha família me perdoou. Eu fiquei tão contente que pulava com gosto. Meu rabo parecia um ventilador. Além disso, vão levar-me a passear em sua companhia! …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284720" y="508464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620280"/>
            <a:ext cx="71629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Nos direcionamos para a rodovia e, de repente, pararam o automóvel.</a:t>
            </a: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Abriram a porta e eu desci feliz, pensando que passaríamos nosso dia no campo.</a:t>
            </a:r>
            <a:br>
              <a:rPr sz="3200"/>
            </a:br>
            <a:br>
              <a:rPr sz="16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Não compreendo porque fecharam a porta e se foram. </a:t>
            </a:r>
            <a:r>
              <a:rPr b="1" i="1" lang="en-US" sz="3200" spc="-1" strike="noStrike">
                <a:solidFill>
                  <a:srgbClr val="221304"/>
                </a:solidFill>
                <a:latin typeface="Times New Roman"/>
              </a:rPr>
              <a:t>"Ouçam, Esperem!"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 lati... se esqueceram de mim... Corri atrás do carro com todas as minhas forças.</a:t>
            </a: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Minha angústia crescia ao perceber que quase perdia o fôlego e eles não paravam. Haviam me esquecido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076720" y="573408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48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                        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17 meses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- Procurei em vão achar o caminho de volta ao lar. Estou e sinto-me perdido! No meu caminho existem pessoas de bom coração que me olham com tristeza e me dão algum alimento. Eu lhes agradeço com o meu olhar, desde o fundo de minh'alma. Eu gostaria que me adotassem: seria leal como ninguém!</a:t>
            </a: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Mas somente dizem: </a:t>
            </a:r>
            <a:r>
              <a:rPr b="0" i="1" lang="en-US" sz="3200" spc="-1" strike="noStrike">
                <a:solidFill>
                  <a:srgbClr val="221304"/>
                </a:solidFill>
                <a:latin typeface="Times New Roman"/>
              </a:rPr>
              <a:t>"pobre cãozinho, deve ter-se perdido."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708360" y="573408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520" y="549000"/>
            <a:ext cx="700884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18 meses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- Um dia destes, passei perto de uma escola e vi muitas crianças e jovens como meus "irmãozinhos". Aproximei-me e um grupo deles, rindo, me jogou uma chuva de pedras "para ver quem tinha melhor pontaria". Uma dessas pedras feriu-me o olho e desde então, não enxergo com ele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67640" y="544500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68544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19 meses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- Parece mentira</a:t>
            </a:r>
            <a:r>
              <a:rPr b="0" lang="en-US" sz="1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!?!  Quando estava mais bonito, tinham compaixão de mim. Já estou muito fraco; meu aspecto mudou. Perdi o meu olho e as pessoas me mostram a vassoura quando pretendo deitar-me numa pequena sombra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27640" y="515772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4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20 meses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- Quase não posso mover-me! Hoje, ao tentar atravessar a rua por onde passam os carros, um me jogou! Eu estava no lugar seguro chamado "calçada", mas nunca esquecerei o olhar de satisfação do condutor, que até se vangloriou por acertar-me. Quisera que me tivesse matado! Mas só me deslocou as cadeiras! A dor é terrível! … 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0" y="566100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18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143000"/>
            <a:ext cx="664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Minhas patas traseiras não me obedecem e, com dificuldade,     arrastei-me até a relva, na beira do caminho..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76720" y="357336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8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2952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Faz dez dias que estou embaixo do sol, da chuva, do frio, sem comer.   Já não posso mexer-me! A dor é insuportável! Sinto-me muito mal; fiquei num lugar úmido e parece que até o meu pelo esta caindo...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72360" y="414972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360" y="620280"/>
            <a:ext cx="700416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Algumas pessoas passam e nem me vêem; outras dizem: </a:t>
            </a:r>
            <a:r>
              <a:rPr b="1" i="1" lang="en-US" sz="3200" spc="-1" strike="noStrike">
                <a:solidFill>
                  <a:srgbClr val="221304"/>
                </a:solidFill>
                <a:latin typeface="Times New Roman"/>
              </a:rPr>
              <a:t>"não chegue perto!!".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 Já estou quase inconsciente. </a:t>
            </a:r>
            <a:br>
              <a:rPr sz="3200"/>
            </a:br>
            <a:br>
              <a:rPr sz="18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Mas alguma força estranha me faz abrir os olhos. A doçura de sua voz me fez reagir. </a:t>
            </a:r>
            <a:r>
              <a:rPr b="1" i="1" lang="en-US" sz="3200" spc="-1" strike="noStrike">
                <a:solidFill>
                  <a:srgbClr val="221304"/>
                </a:solidFill>
                <a:latin typeface="Times New Roman"/>
              </a:rPr>
              <a:t>"Pobre cãozinho, olha como te deixaram",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 dizia... </a:t>
            </a: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Junto com ela estava um senhor de avental branco. Começou a tocar-me e disse: </a:t>
            </a:r>
            <a:r>
              <a:rPr b="1" i="1" lang="en-US" sz="3200" spc="-1" strike="noStrike">
                <a:solidFill>
                  <a:srgbClr val="221304"/>
                </a:solidFill>
                <a:latin typeface="Times New Roman"/>
              </a:rPr>
              <a:t>"Sinto muito senhora, mas este cão já não tem remédio". É melhor que pare de sofrer"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140360" y="573408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69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-76680"/>
            <a:ext cx="6019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         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1ª semana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- Hoje completei uma semana de vida. Que alegria ter chegado a este mundo!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987640" y="393372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2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47640" y="1699920"/>
            <a:ext cx="662472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A gentil dama, com as lágrimas rolando pelo rosto, concordou.</a:t>
            </a: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Como pude, mexi o rabo e olhei-a, agradecendo-lhe que me ajudasse a descansar. Somente senti a picada da injeção e dormi para sempre, pensando em porque tive que nascer se ninguém me queria..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635280" y="537372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520" y="11430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Ajude a abrir a consciência dos ignorantes e, assim, poder acabar    com os maus tratos aos animais, especialmente com o problema de   cães de rua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780000" y="400536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89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657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Repasse este e-mail a quantas mais pessoas puderes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Não custa nada !!!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Se repassar uma piada é fácil,          não custa passar esta mensagem…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486900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300"/>
                            </p:stCondLst>
                            <p:childTnLst>
                              <p:par>
                                <p:cTn id="2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76720" y="549360"/>
            <a:ext cx="324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Times New Roman"/>
              </a:rPr>
              <a:t>Obrigado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68360" y="1844640"/>
            <a:ext cx="5472360" cy="4361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03640" y="549360"/>
            <a:ext cx="3313080" cy="934920"/>
          </a:xfrm>
          <a:prstGeom prst="wedgeRoundRectCallout">
            <a:avLst>
              <a:gd name="adj1" fmla="val -14111"/>
              <a:gd name="adj2" fmla="val 233189"/>
              <a:gd name="adj3" fmla="val 16667"/>
            </a:avLst>
          </a:prstGeom>
          <a:noFill/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-381240"/>
            <a:ext cx="6019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1º mês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- Minha mamãe cuida muito bem de mim. É uma mãe exemplar!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236000" y="342900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6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6629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2 meses: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- Hoje me separaram de minha mamãe. Ela estava muito inquieta e, com seu olhar, disse-me adeus. Espero que a minha nova "família humana" cuide tão bem de mim como ela o fez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948360" y="4292640"/>
            <a:ext cx="87660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31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204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4 meses:</a:t>
            </a: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- Cresci rápido; tudo me chama a atenção. Há várias crianças na casa e para mim são como “irmãozinhos”. Somos muito brincalhões, eles me puxam o rabo e eu os mordo de brincadeira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780000" y="458136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28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560" y="-457200"/>
            <a:ext cx="69339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               </a:t>
            </a: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5 meses: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- Hoje me deram uma bronca. Minha dona me bateu porque fiz "pipi" dentro de casa. Mas nunca me haviam ensinado onde deveria fazê-lo. Além do que, durmo no hall de entrada. Não deu para aguentar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87640" y="443700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46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8 meses:</a:t>
            </a:r>
            <a:br>
              <a:rPr sz="3600"/>
            </a:br>
            <a:br>
              <a:rPr sz="3600"/>
            </a:br>
            <a:r>
              <a:rPr b="0" lang="en-US" sz="3000" spc="-1" strike="noStrike">
                <a:solidFill>
                  <a:srgbClr val="221304"/>
                </a:solidFill>
                <a:latin typeface="Times New Roman"/>
              </a:rPr>
              <a:t>- Sou um cão feliz! Tenho o calor de um lar; sinto-me tão seguro, tão protegido... Acho que a minha família humana me ama e me consente muitas coisas. O pátio é todinho para mim e, às vezes, me excedo, cavando na terra como meus antepassados, os lobos quando escondiam a comida. Nunca me educam.</a:t>
            </a:r>
            <a:br>
              <a:rPr sz="3000"/>
            </a:br>
            <a:r>
              <a:rPr b="0" lang="en-US" sz="3000" spc="-1" strike="noStrike">
                <a:solidFill>
                  <a:srgbClr val="221304"/>
                </a:solidFill>
                <a:latin typeface="Times New Roman"/>
              </a:rPr>
              <a:t>Deve ser correto tudo o que faço!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372360" y="530064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33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13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12 meses: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- Hoje completo um ano. Sou um cão adulto.</a:t>
            </a: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Meus donos dizem que cresci mais do que eles esperavam. Que orgulho devem ter de mim!!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48360" y="436572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98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837720"/>
            <a:ext cx="6019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          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13 meses: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- Hoje me acorrentaram e fico quase sem poder movimentar-me até onde tem um raio de sol ou quando quero alguma sombra.</a:t>
            </a: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Dizem que vão me observar e que sou um ingrato. Não compreendo nada do que está acontecendo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732720" y="515772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37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9T17:43:53Z</dcterms:created>
  <dc:creator>Bia</dc:creator>
  <dc:description/>
  <dc:language>en-US</dc:language>
  <cp:lastModifiedBy>toze</cp:lastModifiedBy>
  <dcterms:modified xsi:type="dcterms:W3CDTF">2007-11-01T20:26:27Z</dcterms:modified>
  <cp:revision>3</cp:revision>
  <dc:subject/>
  <dc:title>Diário de um cão</dc:title>
</cp:coreProperties>
</file>