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46A-B0BC-4581-89D5-72887C83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7EF-6E1E-4208-B6BB-294816F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155-583B-4A3B-820B-9E8C3737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45B-D125-433E-B4CB-DAACD4EA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B2D-28B1-4195-8C0E-2B93C32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FD1-995E-4EA0-BDEF-E556529A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480-B6AE-460D-B570-C3E3051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A81-3B29-405B-B055-3FEE6743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F61-ADE3-41AE-BE59-28EEF0D6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E59-B594-459F-AFA4-A3BBA57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F0B-D61D-4259-ABAF-675B4FA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4A7-A779-4661-9BE0-5BC6F5A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167-314B-4B3D-A10F-235DCDE52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33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ERDEU-SE O RESPEITO MESMO!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4419720"/>
            <a:ext cx="6172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ma das grandes enfermidades é não ser ninguém para ninguém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dre Teresa de Calcut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S E X O   N O   C A R R 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TT0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34800"/>
            <a:ext cx="792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forçar bem os olhos, a gente enxerga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TT0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00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00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TT00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TT0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kkkkkkkkkkkkkkkk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oa né?         Manda pra outro curios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HA UM BOM 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9:01Z</dcterms:created>
  <dc:creator>Administrador</dc:creator>
  <dc:description/>
  <dc:language>en-US</dc:language>
  <cp:lastModifiedBy>Administrador</cp:lastModifiedBy>
  <dcterms:modified xsi:type="dcterms:W3CDTF">2009-04-16T11:34:21Z</dcterms:modified>
  <cp:revision>2</cp:revision>
  <dc:subject/>
  <dc:title>Slide sem título </dc:title>
</cp:coreProperties>
</file>