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DF8-E0CE-4A6E-B26E-8432F5C7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8DE-6727-4743-864B-9E13FA0E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EB2-8139-48F8-A726-294BE255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04A-1D45-4354-AB0D-785DC65E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432-0C3F-46A7-B5FF-AC9E2EBB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8BC-5017-4561-B0A0-52D2925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90C-C775-4EF4-AC78-2B169876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1B3-9F9B-4AF8-90E6-589F02E3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5C8-51F2-4A62-90E8-C37B817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4D1-0DAE-43AD-9DA1-5E8377E5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23C-43AF-47EE-92EB-09E8F7C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ECA-DDE7-4312-9E0B-3EDF4C0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E89-BC8E-4AD0-B2AB-E7B025796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ERDEU-SE O RESPEITO MESMO!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4419720"/>
            <a:ext cx="6172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ma das grandes enfermidades é não ser ninguém para ninguém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dre Teresa de Calcut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S E X O   N O   C A R R 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TT0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34800"/>
            <a:ext cx="792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forçar bem os olhos, a gente enxerga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TT0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00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00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TT00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0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kkkkkkkkkkkkkkkk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oa né?         Manda pra outro curios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HA UM BOM 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9:01Z</dcterms:created>
  <dc:creator>Administrador</dc:creator>
  <dc:description/>
  <dc:language>en-US</dc:language>
  <cp:lastModifiedBy>Administrador</cp:lastModifiedBy>
  <dcterms:modified xsi:type="dcterms:W3CDTF">2009-04-16T11:34:21Z</dcterms:modified>
  <cp:revision>2</cp:revision>
  <dc:subject/>
  <dc:title>Slide sem título </dc:title>
</cp:coreProperties>
</file>