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0F7-C488-42B9-8481-340BDFCC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9EC-13A2-4FDE-BF78-73ED00D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D34-F700-4700-9BFF-E4087D12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1A5-EC6E-467B-B6BD-9B882F85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82A-7C5F-490B-823B-67CD62C6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04F-35EE-4538-A2AE-E87805F6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171-423F-4D65-9929-7A0C446D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C7C-53CD-450D-B36E-D0263B8A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F1E-1847-46AF-9F15-0C9EBA5E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E87-2A59-47D2-ACC0-6D385D3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D4F-753F-4CB6-ABE6-11C5881D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306-026A-40D6-84CD-102EB97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41F0-EFEF-4736-940E-B9C1BD498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514600"/>
            <a:ext cx="914400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Gigi"/>
              </a:rPr>
              <a:t>Foto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Gigi"/>
              </a:rPr>
              <a:t>Insòlite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Gigi"/>
              </a:rPr>
              <a:t>3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868320"/>
            <a:ext cx="720072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720720"/>
            <a:ext cx="72007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784080"/>
            <a:ext cx="691200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6200" y="692280"/>
            <a:ext cx="7886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02888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33560" y="0"/>
            <a:ext cx="34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958680"/>
            <a:ext cx="74901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993600"/>
            <a:ext cx="7200720" cy="48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03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530064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Crash in Heathrow air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02888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873000"/>
            <a:ext cx="772776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48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941400"/>
            <a:ext cx="6912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7600" y="1119240"/>
            <a:ext cx="7048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5950080"/>
            <a:ext cx="16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Corinthos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72864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71640" y="616572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Dani people, Pap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1231920"/>
            <a:ext cx="74901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53400" cy="5197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1640" y="602136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ff"/>
                </a:solidFill>
                <a:latin typeface="Arial"/>
              </a:rPr>
              <a:t>Fjord, No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224000"/>
            <a:ext cx="77752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923760"/>
            <a:ext cx="749016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696960"/>
            <a:ext cx="7200720" cy="487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71640" y="573408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5589720"/>
            <a:ext cx="77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June 3, 2008. A car plowed into a weekend bike race along a highway near the U.S.-Mexico border, killing one and injuring 10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47720" y="0"/>
            <a:ext cx="58485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0000" y="690480"/>
            <a:ext cx="7272360" cy="5475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230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ce winter cold. Geneve,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116160"/>
            <a:ext cx="914400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lnSpc>
                <a:spcPct val="7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Gigi"/>
              </a:rPr>
              <a:t>Presentació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Gigi"/>
              </a:rPr>
              <a:t>MS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1480" y="1243080"/>
            <a:ext cx="76010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2560" y="1019160"/>
            <a:ext cx="7238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4280" y="0"/>
            <a:ext cx="671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8652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22520" y="0"/>
            <a:ext cx="589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06:35Z</dcterms:created>
  <dc:creator/>
  <dc:description/>
  <dc:language>en-US</dc:language>
  <cp:lastModifiedBy/>
  <dcterms:modified xsi:type="dcterms:W3CDTF">2008-10-09T17:53:45Z</dcterms:modified>
  <cp:revision>28</cp:revision>
  <dc:subject/>
  <dc:title>Fotos Insòlites 3</dc:title>
</cp:coreProperties>
</file>