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CB2-0795-4D23-A644-E2D47E47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F1F-30D2-4E9E-8E53-16978149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B92-577A-4352-9311-D0EC3966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98F-94AE-4A22-9D74-0E89E3B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08F-3A67-4FA1-9B1D-96D6C70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D60-E8CC-4128-86E6-0A97824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462-07EC-4F23-BF75-A97F283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618-F4DC-4B9E-B7B8-68E4DD4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83B-5B47-4C36-984A-96A8559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084-307D-4F12-B1C1-0E10D74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670-59BD-4C30-BACE-F4CA00E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1F9-6143-4EC6-82D8-174AD56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FFE-88DF-4117-A3E8-607F6AD2E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14600"/>
            <a:ext cx="914400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Foto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Insòlit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3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868320"/>
            <a:ext cx="72007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200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784080"/>
            <a:ext cx="6912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6200" y="692280"/>
            <a:ext cx="788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02888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33560" y="0"/>
            <a:ext cx="34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958680"/>
            <a:ext cx="7490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993600"/>
            <a:ext cx="720072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03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530064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Crash in Heathrow air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02888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77277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941400"/>
            <a:ext cx="6912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7600" y="1119240"/>
            <a:ext cx="7048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95008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Corinthos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728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61657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Dani people, Pap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7490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53400" cy="5197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602136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Fjord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224000"/>
            <a:ext cx="7775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9016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696960"/>
            <a:ext cx="7200720" cy="487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57340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58972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une 3, 2008. A car plowed into a weekend bike race along a highway near the U.S.-Mexico border, killing one and injuring 10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47720" y="0"/>
            <a:ext cx="5848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690480"/>
            <a:ext cx="7272360" cy="547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230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ce winter cold. Geneve,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16160"/>
            <a:ext cx="9144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Gigi"/>
              </a:rPr>
              <a:t>Presentaci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Gigi"/>
              </a:rPr>
              <a:t>MS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1480" y="1243080"/>
            <a:ext cx="76010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2560" y="1019160"/>
            <a:ext cx="7238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865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2520" y="0"/>
            <a:ext cx="58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06:35Z</dcterms:created>
  <dc:creator/>
  <dc:description/>
  <dc:language>en-US</dc:language>
  <cp:lastModifiedBy/>
  <dcterms:modified xsi:type="dcterms:W3CDTF">2008-10-09T17:53:45Z</dcterms:modified>
  <cp:revision>28</cp:revision>
  <dc:subject/>
  <dc:title>Fotos Insòlites 3</dc:title>
</cp:coreProperties>
</file>