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Bilitis%20Pourcel%20-%20M%C3%BAsica%20bonita.wav" ContentType="audio/x-wav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3.png" ContentType="image/png"/>
  <Override PartName="/ppt/media/john%20barry%20-%20the%20girl%20with%20the%20sun%20in%20her%20hair.WAV" ContentType="audio/x-wav"/>
  <Override PartName="/ppt/media/image1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84B-96E7-4FBC-B4A8-8989559C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53E-F7C1-4047-87B5-4550EC86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53C-62F1-4128-A557-10B53FAA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0C8-6CD9-442B-B293-8E2BFD1B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CCA-E221-40EB-AA7E-21AD9A5B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A35-B000-475E-8A74-475AFCD2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A1B-FB76-48C1-957D-0FCC8B6A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B40-4829-4D55-99CE-5C16907F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66C-9C84-440F-B6C1-ADC9A62D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4AE-840C-460B-89E7-42A67F30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B8A-EF8E-4EE5-8AF4-97AA1B0E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D2A-4E9C-4F32-A59B-7E862AD8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A089-10F7-42A6-B0E7-FC70E625D4BA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ilitis%20Pourcel%20-%20M&#250;sica%20bonita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ohn%20barry%20-%20the%20girl%20with%20the%20sun%20in%20her%20hair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553760"/>
            <a:ext cx="543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ISTO É REALMENTE FASCIN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TRANSTORNA E DESLUMB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VÊ-LO DESTA MANE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305928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059280" y="3809880"/>
            <a:ext cx="3070080" cy="3059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059280" y="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40000" y="3213000"/>
            <a:ext cx="47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Maiandra GD"/>
              </a:rPr>
              <a:t>Depois, o dia nas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4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16000" y="692280"/>
            <a:ext cx="5005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Maiandra GD"/>
              </a:rPr>
              <a:t>ADMIRÁVEL, o nosso planeta az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843280" y="2997360"/>
            <a:ext cx="367200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7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7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464000" cy="3367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4284720" cy="2317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476280"/>
            <a:ext cx="496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be0e3"/>
                </a:solidFill>
                <a:latin typeface="Maiandra GD"/>
              </a:rPr>
              <a:t>Preservemo-lo, não o destruamo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9000" y="1197000"/>
            <a:ext cx="781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be0e3"/>
                </a:solidFill>
                <a:latin typeface="Maiandra GD"/>
              </a:rPr>
              <a:t>Antes que se torne um deserto ou expluda em fog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805360"/>
            <a:ext cx="7775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3300"/>
                </a:solidFill>
                <a:latin typeface="Maiandra GD"/>
              </a:rPr>
              <a:t>Deixemos uma bela herança aos nossos filh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2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2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840"/>
                            </p:stCondLst>
                            <p:childTnLst>
                              <p:par>
                                <p:cTn id="9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26920" y="549360"/>
            <a:ext cx="7561440" cy="567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5915520"/>
            <a:ext cx="867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be0e3"/>
                </a:solidFill>
                <a:latin typeface="Maiandra GD"/>
              </a:rPr>
              <a:t>Mas a beleza da terra cria-se a cada minuto</a:t>
            </a:r>
            <a:r>
              <a:rPr b="0" lang="pt-PT" sz="1800" spc="-1" strike="noStrike">
                <a:solidFill>
                  <a:srgbClr val="bbe0e3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60280"/>
            <a:ext cx="712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bbe0e3"/>
                </a:solidFill>
                <a:latin typeface="Maiandra GD"/>
              </a:rPr>
              <a:t>A Terra inteira é a nossa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048280" cy="4991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1344400">
            <a:off x="7093080" y="5805360"/>
            <a:ext cx="14302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3366cc"/>
                  </a:outerShdw>
                </a:effectLst>
                <a:latin typeface="Maiandra GD"/>
              </a:rPr>
              <a:t>A.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3366cc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404640"/>
            <a:ext cx="388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Maiandra GD"/>
              </a:rPr>
              <a:t>Fiquemos vigil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1320" y="5804280"/>
            <a:ext cx="5862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Maiandra GD"/>
              </a:rPr>
              <a:t>A vida do presente constrói a do futu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xit" presetID="28">
                                  <p:stCondLst>
                                    <p:cond delay="1000"/>
                                  </p:stCondLst>
                                  <p:iterate type="lt">
                                    <p:tmAbs val="21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570"/>
                            </p:stCondLst>
                            <p:childTnLst>
                              <p:par>
                                <p:cTn id="125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60240" y="1374840"/>
            <a:ext cx="7823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gora vou mostrar-te uma fo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ara quando te sent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ngustiado com 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Quando sentires que os teus problemas                  são eno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 sintas que o que faças,                            ou deixes de faz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faz uma imensa difer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Bilitis%20Pourcel%20-%20M%C3%BAsica%20bonita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727280"/>
            <a:ext cx="7223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s é também uma foto para quando, como humano que 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te julgues poderoso, grandio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 Homo Sapiens, dono da criaç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no zénite do teu poder tecnológic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 sintas que, com os seis mil milhões de pessoas que já som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omos únicos no Unive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00520" y="38545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838080"/>
            <a:ext cx="73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E por últim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uma foto para quando julgares que o imenso mundo em que viv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é indestrutí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m as suas grandiosas cidades, mares, cordilheiras e continent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27240" y="4078440"/>
            <a:ext cx="1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4124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Planeta invulneráve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imune, pelo seu tamanho e grandez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os actos que os homens faça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ou deixem de fa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1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155736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Afin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ão quinhentos e quarenta milhões de quilómetros quadrados de superfíci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Seis mil quatriliões de tonel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de roch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Mais de mil triliões de tonel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de águ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1120" y="32338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66ff33"/>
                </a:solidFill>
                <a:latin typeface="Arial"/>
              </a:rPr>
              <a:t>Héla aquí, p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65280" y="0"/>
            <a:ext cx="60134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38862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Contempla esta foto por uns ins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8640" y="5029200"/>
            <a:ext cx="516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Foi tirada por Cassini-Juyge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Uma nave espacial não tripula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Verdana"/>
              </a:rPr>
              <a:t>em 2004, ao chegar aos anéis de Satu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8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[]"/>
          <p:cNvPicPr/>
          <p:nvPr/>
        </p:nvPicPr>
        <p:blipFill>
          <a:blip r:embed="rId1"/>
          <a:stretch/>
        </p:blipFill>
        <p:spPr>
          <a:xfrm>
            <a:off x="363600" y="981000"/>
            <a:ext cx="8780400" cy="4942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8000" y="1197000"/>
            <a:ext cx="792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565164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5516640"/>
            <a:ext cx="1008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lu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5445000"/>
            <a:ext cx="7920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516640"/>
            <a:ext cx="1152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rcú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1341360"/>
            <a:ext cx="863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Vé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john%20barry%20-%20the%20girl%20with%20the%20sun%20in%20her%20hai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65280" y="0"/>
            <a:ext cx="601344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1960" y="2448000"/>
            <a:ext cx="622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Nesse pontinho azul, estamos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as as nossas guerr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os os nossos problem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a a nossa grandeza e toda a nossa miséri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a a nossa tecnologia, a nossa arte, os nossos feit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as as civilizações, toda a fauna e flor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as as raças, todas as religiõ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os os governos, países e estad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Todo o nosso amor… e o nosso ódi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Seis mil milhões de almas em constante convulsã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25480" y="452520"/>
            <a:ext cx="3165840" cy="1757160"/>
            <a:chOff x="2625480" y="452520"/>
            <a:chExt cx="3165840" cy="1757160"/>
          </a:xfrm>
        </p:grpSpPr>
        <p:sp>
          <p:nvSpPr>
            <p:cNvPr id="110" name=""/>
            <p:cNvSpPr/>
            <p:nvPr/>
          </p:nvSpPr>
          <p:spPr>
            <a:xfrm>
              <a:off x="2625480" y="452520"/>
              <a:ext cx="27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ffffff"/>
                  </a:solidFill>
                  <a:latin typeface="Verdana"/>
                </a:rPr>
                <a:t>Aqui está o teu planet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52880" y="838080"/>
              <a:ext cx="838440" cy="1371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0134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5920" y="3268800"/>
            <a:ext cx="640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Se quiséssemos, poderíamos tomar esta fot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como uma lição de humilda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E como uma dupla mensagem: por um lado, da nossa </a:t>
            </a:r>
            <a:br>
              <a:rPr sz="1800"/>
            </a:b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pequenez no universo, do irrelevante que são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nossos problemas e diferenças, quando os v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a esta escal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Mas por outro lado, do frágil que o nosso planeta pare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e da importância de cuidarmos deste pontinho azu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pois é o único lugar que t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ffffff"/>
                </a:solidFill>
                <a:latin typeface="Verdana"/>
              </a:rPr>
              <a:t>Dá que pensar, não d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55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0134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38280" y="31240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3240" y="2754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Verdana"/>
              </a:rPr>
              <a:t>Pensa nis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43640" y="5734080"/>
            <a:ext cx="21607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é bel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80000" y="5805360"/>
            <a:ext cx="24476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mund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5769000"/>
            <a:ext cx="2952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33cc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O nosso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33cc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</p:spTree>
  </p:cSld>
  <p:transition spd="med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50"/>
                            </p:stCondLst>
                            <p:childTnLst>
                              <p:par>
                                <p:cTn id="2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650"/>
                            </p:stCondLst>
                            <p:childTnLst>
                              <p:par>
                                <p:cTn id="2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650"/>
                            </p:stCondLst>
                            <p:childTnLst>
                              <p:par>
                                <p:cTn id="2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01920" y="1418760"/>
            <a:ext cx="6250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ENVIA ÀS PESSO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QUE CONHECES</a:t>
            </a:r>
            <a:r>
              <a:rPr b="1" lang="hr-HR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PODE AJUDAR ALGUÉ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A SENTIR-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MELHOR EM RELAÇÃO À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COISAS IMPORTAN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DA SUA VIDA</a:t>
            </a:r>
            <a:r>
              <a:rPr b="1" lang="hr-HR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51640" y="5516640"/>
            <a:ext cx="720720" cy="660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[]"/>
          <p:cNvPicPr/>
          <p:nvPr/>
        </p:nvPicPr>
        <p:blipFill>
          <a:blip r:embed="rId1"/>
          <a:stretch/>
        </p:blipFill>
        <p:spPr>
          <a:xfrm>
            <a:off x="179280" y="971640"/>
            <a:ext cx="8780400" cy="492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5445000"/>
            <a:ext cx="936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5589720"/>
            <a:ext cx="7207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lut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981000"/>
            <a:ext cx="936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ú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1413000"/>
            <a:ext cx="1008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atu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869000"/>
            <a:ext cx="936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5084640"/>
            <a:ext cx="10792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ept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[]"/>
          <p:cNvPicPr/>
          <p:nvPr/>
        </p:nvPicPr>
        <p:blipFill>
          <a:blip r:embed="rId1"/>
          <a:stretch/>
        </p:blipFill>
        <p:spPr>
          <a:xfrm>
            <a:off x="179280" y="981000"/>
            <a:ext cx="8780400" cy="492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1700280"/>
            <a:ext cx="72072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4869000"/>
            <a:ext cx="647640" cy="307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5589720"/>
            <a:ext cx="64764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lut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5516640"/>
            <a:ext cx="9367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ú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45000" y="2167920"/>
            <a:ext cx="725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PENSO QUE ISTO FO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ESCLARECED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PARA ALÉM DO NOSSO S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HÁ UM ENORME UNIVERS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[]"/>
          <p:cNvPicPr/>
          <p:nvPr/>
        </p:nvPicPr>
        <p:blipFill>
          <a:blip r:embed="rId1"/>
          <a:stretch/>
        </p:blipFill>
        <p:spPr>
          <a:xfrm>
            <a:off x="179280" y="333360"/>
            <a:ext cx="8780400" cy="6141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4724280"/>
            <a:ext cx="4320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157720"/>
            <a:ext cx="2736720" cy="832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Júpiter tem 1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A Terra não é visível a esta e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[]"/>
          <p:cNvPicPr/>
          <p:nvPr/>
        </p:nvPicPr>
        <p:blipFill>
          <a:blip r:embed="rId1"/>
          <a:stretch/>
        </p:blipFill>
        <p:spPr>
          <a:xfrm>
            <a:off x="179280" y="358920"/>
            <a:ext cx="8780400" cy="6141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840" y="6490440"/>
            <a:ext cx="79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tares é a 15ª estrela mais brilhante no céu. Está a mais de 1000 anos luz.</a:t>
            </a:r>
            <a:r>
              <a:rPr b="0" lang="pt-PT" sz="1800" spc="-1" strike="noStrike">
                <a:solidFill>
                  <a:srgbClr val="8e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5445000"/>
            <a:ext cx="10796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Arial"/>
              </a:rPr>
              <a:t>Sol – 1 pix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5805360"/>
            <a:ext cx="1511280" cy="39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Arial"/>
              </a:rPr>
              <a:t>Júpiter é invisível a esta esc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79800" y="1345320"/>
            <a:ext cx="6578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E AGORA, QUAL O TEU TAMANHO?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QUAL O TAMANHO DAS COI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QUE TE INQUIETAM HOJE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QUAIS AS COI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QUE SÃO IMPORT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MANTÉM 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EM PERSPECTIVA</a:t>
            </a:r>
            <a:r>
              <a:rPr b="0" lang="hr-HR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8560" y="5535720"/>
            <a:ext cx="5510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Maiandra GD"/>
              </a:rPr>
              <a:t>LUZES DA NO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6560" y="333360"/>
            <a:ext cx="396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aiandra GD"/>
              </a:rPr>
              <a:t>Vista do céu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20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41:59Z</dcterms:created>
  <dc:creator>q</dc:creator>
  <dc:description/>
  <dc:language>en-US</dc:language>
  <cp:lastModifiedBy>-</cp:lastModifiedBy>
  <dcterms:modified xsi:type="dcterms:W3CDTF">2008-09-17T05:06:31Z</dcterms:modified>
  <cp:revision>14</cp:revision>
  <dc:subject/>
  <dc:title>Slide 1</dc:title>
</cp:coreProperties>
</file>