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Bilitis%20Pourcel%20-%20M%C3%BAsica%20bonita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3.png" ContentType="image/png"/>
  <Override PartName="/ppt/media/john%20barry%20-%20the%20girl%20with%20the%20sun%20in%20her%20hair.WAV" ContentType="audio/x-wav"/>
  <Override PartName="/ppt/media/image1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3CF-499A-4E55-B1F4-D25C8A5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971-12DF-4F0B-872B-711F9F3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0C8-5177-40AF-A3F7-15711A32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D24-7578-4AD5-B94A-2BF1FB60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082-2390-48FA-B2D0-B5963C3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032-316C-46BD-A31F-F6F4931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BC9-E971-40EA-ACEB-F223537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69F-01CF-4F1B-A461-5064703F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7B5-F606-4E8C-875A-8CACD23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478-93C4-46B8-BEA8-149D857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899-BA6B-46E3-9082-7F93140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CBD-8447-4485-836B-29F28D4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18B4-5D47-4D66-846B-AACC82C56C9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ilitis%20Pourcel%20-%20M&#250;sica%20bonit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barry%20-%20the%20girl%20with%20the%20sun%20in%20her%20hair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553760"/>
            <a:ext cx="54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ISTO É REALMENTE FASCIN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TORNA E DESLUMB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VÊ-LO DESTA MAN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059280" y="3809880"/>
            <a:ext cx="3070080" cy="305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05928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40000" y="321300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Depois, o dia nas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692280"/>
            <a:ext cx="5005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ADMIRÁVEL, o nosso planeta az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7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7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3367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284720" cy="231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476280"/>
            <a:ext cx="49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Preservemo-lo, não o destruamo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000" y="1197000"/>
            <a:ext cx="781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Antes que se torne um deserto ou expluda em fo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05360"/>
            <a:ext cx="7775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3300"/>
                </a:solidFill>
                <a:latin typeface="Maiandra GD"/>
              </a:rPr>
              <a:t>Deixemos uma bela herança aos nossos filh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2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840"/>
                            </p:stCondLst>
                            <p:childTnLst>
                              <p:par>
                                <p:cTn id="9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5915520"/>
            <a:ext cx="86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Mas a beleza da terra cria-se a cada minuto</a:t>
            </a: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be0e3"/>
                </a:solidFill>
                <a:latin typeface="Maiandra GD"/>
              </a:rPr>
              <a:t>A Terra inteira é a noss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048280" cy="499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1344400">
            <a:off x="7093080" y="5805360"/>
            <a:ext cx="14302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66cc"/>
                  </a:outerShdw>
                </a:effectLst>
                <a:latin typeface="Maiandra GD"/>
              </a:rPr>
              <a:t>A.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3366cc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04640"/>
            <a:ext cx="388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Maiandra GD"/>
              </a:rPr>
              <a:t>Fiquemos vigi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1320" y="5804280"/>
            <a:ext cx="586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A vida do presente constrói a do futu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xit" presetID="28">
                                  <p:stCondLst>
                                    <p:cond delay="100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70"/>
                            </p:stCondLst>
                            <p:childTnLst>
                              <p:par>
                                <p:cTn id="125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60240" y="1374840"/>
            <a:ext cx="782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gora vou mostrar-te uma fo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ara quando te sent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ngustiado com 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ando sentires que os teus problemas                  são en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sintas que o que faças,                            ou deixes de faz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faz uma imensa difer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Bilitis%20Pourcel%20-%20M%C3%BAsica%20bonit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2728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s é também uma foto para quando, como humano que 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te julgues poderoso, grandio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 Homo Sapiens, dono da cri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no zénite do teu poder tecnológ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sintas que, com os seis mil milhões de pessoas que já som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omos únicos no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00520" y="3854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83808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por últi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ma foto para quando julgares que o imenso mundo em que v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é indestrut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m as suas grandiosas cidades, mares, cordilheiras e continen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7240" y="4078440"/>
            <a:ext cx="1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124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laneta invulneráv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une, pelo seu tamanho e grande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os actos que os homens faça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u deixem de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1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155736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fi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ão quinhentos e quarenta milhões de quilómetros quadrados de superfíc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is mil quatriliões de tonel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e roch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is de mil triliões de tonel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e águ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1120" y="3233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ff33"/>
                </a:solidFill>
                <a:latin typeface="Arial"/>
              </a:rPr>
              <a:t>Héla aquí, p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65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862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Contempla esta foto por uns i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8640" y="5029200"/>
            <a:ext cx="516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Foi tirada por Cassini-Juyge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Uma nave espacial não tripula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em 2004, ao chegar aos anéis de Satu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8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[]"/>
          <p:cNvPicPr/>
          <p:nvPr/>
        </p:nvPicPr>
        <p:blipFill>
          <a:blip r:embed="rId1"/>
          <a:stretch/>
        </p:blipFill>
        <p:spPr>
          <a:xfrm>
            <a:off x="363600" y="981000"/>
            <a:ext cx="8780400" cy="494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00" y="119700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565164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5516640"/>
            <a:ext cx="10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445000"/>
            <a:ext cx="792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516640"/>
            <a:ext cx="115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rcú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1341360"/>
            <a:ext cx="863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é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john%20barry%20-%20the%20girl%20with%20the%20sun%20in%20her%20hai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65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960" y="2448000"/>
            <a:ext cx="622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Nesse pontinho azul, estamos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nossas guerr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s os nossos problem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 a nossa grandeza e toda a nossa miséri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 a nossa tecnologia, a nossa arte, os nossos feit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civilizações, toda a fauna e flor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raças, todas as religiõ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s os governos, países e 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 o nosso amor… e o nosso ódi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Seis mil milhões de almas em constante convuls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25480" y="452520"/>
            <a:ext cx="3165840" cy="1757160"/>
            <a:chOff x="2625480" y="452520"/>
            <a:chExt cx="3165840" cy="1757160"/>
          </a:xfrm>
        </p:grpSpPr>
        <p:sp>
          <p:nvSpPr>
            <p:cNvPr id="110" name=""/>
            <p:cNvSpPr/>
            <p:nvPr/>
          </p:nvSpPr>
          <p:spPr>
            <a:xfrm>
              <a:off x="2625480" y="452520"/>
              <a:ext cx="27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Verdana"/>
                </a:rPr>
                <a:t>Aqui está o teu plane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838080"/>
              <a:ext cx="838440" cy="1371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5920" y="3268800"/>
            <a:ext cx="640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Se quiséssemos, poderíamos tomar esta fo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como uma lição de humilda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E como uma dupla mensagem: por um lado, da nossa </a:t>
            </a:r>
            <a:br>
              <a:rPr sz="1800"/>
            </a:b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pequenez no universo, do irrelevante que são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nossos problemas e diferenças, quando os v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a esta escal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Mas por outro lado, do frágil que o nosso planeta pare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e da importância de cuidarmos deste pontinho azu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pois é o único lugar que t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Dá que pensar, não d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5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38280" y="31240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3240" y="2754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Verdana"/>
              </a:rPr>
              <a:t>Pensa nis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43640" y="5734080"/>
            <a:ext cx="21607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é bel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80000" y="5805360"/>
            <a:ext cx="2447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mund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576900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O nos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50"/>
                            </p:stCondLst>
                            <p:childTnLst>
                              <p:par>
                                <p:cTn id="2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650"/>
                            </p:stCondLst>
                            <p:childTnLst>
                              <p:par>
                                <p:cTn id="2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01920" y="1418760"/>
            <a:ext cx="6250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ENVIA ÀS PESSO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QUE CONHECES</a:t>
            </a:r>
            <a:r>
              <a:rPr b="1" lang="hr-H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PODE AJUDAR ALGUÉ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A SENTIR-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MELHOR EM RELAÇÃO À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COISAS IMPORTA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DA SUA VIDA</a:t>
            </a:r>
            <a:r>
              <a:rPr b="1" lang="hr-H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51640" y="5516640"/>
            <a:ext cx="72072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544500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5589720"/>
            <a:ext cx="720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936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1413000"/>
            <a:ext cx="10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86900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5084640"/>
            <a:ext cx="1079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ep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[]"/>
          <p:cNvPicPr/>
          <p:nvPr/>
        </p:nvPicPr>
        <p:blipFill>
          <a:blip r:embed="rId1"/>
          <a:stretch/>
        </p:blipFill>
        <p:spPr>
          <a:xfrm>
            <a:off x="179280" y="981000"/>
            <a:ext cx="8780400" cy="49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1700280"/>
            <a:ext cx="72072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4869000"/>
            <a:ext cx="647640" cy="30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5589720"/>
            <a:ext cx="647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551664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45000" y="2167920"/>
            <a:ext cx="725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ENSO QUE ISTO FO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SCLARECE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ARA ALÉM DO NOSSO S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HÁ UM ENORME UNIVER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[]"/>
          <p:cNvPicPr/>
          <p:nvPr/>
        </p:nvPicPr>
        <p:blipFill>
          <a:blip r:embed="rId1"/>
          <a:stretch/>
        </p:blipFill>
        <p:spPr>
          <a:xfrm>
            <a:off x="179280" y="33336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4724280"/>
            <a:ext cx="432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157720"/>
            <a:ext cx="2736720" cy="832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Júpiter tem 1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A Terra não é visível a esta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840" y="649044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tares é a 15ª estrela mais brilhante no céu. Está a mais de 1000 anos luz.</a:t>
            </a:r>
            <a:r>
              <a:rPr b="0" lang="pt-PT" sz="1800" spc="-1" strike="noStrike">
                <a:solidFill>
                  <a:srgbClr val="8e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445000"/>
            <a:ext cx="10796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Arial"/>
              </a:rPr>
              <a:t>Sol – 1 pix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5805360"/>
            <a:ext cx="151128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Arial"/>
              </a:rPr>
              <a:t>Júpiter é invisível a esta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79800" y="1345320"/>
            <a:ext cx="6578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 AGORA, QUAL O TEU TAMANHO?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AL O TAMANHO DAS COI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 TE INQUIETAM HOJE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AIS AS COI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 SÃO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MANTÉM 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M PERSPECTIVA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8560" y="5535720"/>
            <a:ext cx="551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aiandra GD"/>
              </a:rPr>
              <a:t>LUZES DA N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6560" y="333360"/>
            <a:ext cx="39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Vista do céu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2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1:59Z</dcterms:created>
  <dc:creator>q</dc:creator>
  <dc:description/>
  <dc:language>en-US</dc:language>
  <cp:lastModifiedBy>-</cp:lastModifiedBy>
  <dcterms:modified xsi:type="dcterms:W3CDTF">2008-09-17T05:06:31Z</dcterms:modified>
  <cp:revision>14</cp:revision>
  <dc:subject/>
  <dc:title>Slide 1</dc:title>
</cp:coreProperties>
</file>