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omangel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1B3-B676-4E3E-AAFE-F49FB72D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E97-5C85-441B-9AFA-FE6A06C8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ED4-5BA1-4B87-884B-26B26C77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AF7-1599-4D85-A545-64AB1783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849-A93A-4F80-8258-8F6B388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B93-CDEF-479A-A10E-232AA54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770-A347-452B-9E01-B45FC0BC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FF6-A2CD-4C23-8E19-AEE51C3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B37-FB01-4BEF-9172-BFBC1E4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B86-4ABF-45EE-8378-F754DF5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F0F-7A03-49F8-B894-329872F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950-0652-4570-A219-74EB2E0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E06C-7B32-49D3-AAEA-18B3A83C22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mang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D0T041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523880" y="25909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00"/>
                </a:solidFill>
                <a:latin typeface="Times New Roman"/>
              </a:rPr>
              <a:t>O ESPELHO.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191120" y="3581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Uma história de 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62120" y="25876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70c0"/>
                </a:solidFill>
                <a:latin typeface="Arial Unicode MS"/>
                <a:ea typeface="Times New Roman"/>
              </a:rPr>
              <a:t>...Aquela noite, quando foi para casa cansada e deitou-se na cama, seu marido já estava dormindo e ela ficou pensando no dinheiro e no que a senhora deixou escrito...</a:t>
            </a:r>
            <a:r>
              <a:rPr b="1" lang="pt-BR" sz="30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7082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Como pôde aquela senhora saber o quanto ela e o marido precisavam disto? Com o bebê que estava para nascer no próximo mês, como estava difícil...</a:t>
            </a:r>
            <a:r>
              <a:rPr b="0" lang="pt-BR" sz="30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539640" y="1916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Ficou pensando na bênção que havia recebido, deu um grande sorriso...</a:t>
            </a:r>
            <a:r>
              <a:rPr b="1" lang="pt-BR" sz="3000" spc="-1" strike="noStrike">
                <a:solidFill>
                  <a:srgbClr val="ffc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11280" y="414972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Agradeceu a Deus e virou-se para o preocupado marido que dormia ao lado, deu-lhe um beijo macio e sussurrou:</a:t>
            </a:r>
            <a:r>
              <a:rPr b="1" lang="pt-BR" sz="3000" spc="-1" strike="noStrike">
                <a:solidFill>
                  <a:srgbClr val="ffc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990720" y="24382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Tudo ficará bem; eu te amo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657600" y="3200400"/>
            <a:ext cx="365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00"/>
                </a:solidFill>
                <a:latin typeface="Arial Unicode MS"/>
              </a:rPr>
              <a:t>...</a:t>
            </a:r>
            <a:r>
              <a:rPr b="1" i="1" lang="pt-BR" sz="4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Renato!</a:t>
            </a:r>
            <a:r>
              <a:rPr b="1" i="1" lang="pt-BR" sz="4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684360" y="2708280"/>
            <a:ext cx="783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   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Pense nisso, e se você quiser me pagar por este e-mail, retransmita-o aos seus amigos e não deixe o circulo do amor morrer com  você....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D0T0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611280" y="2060640"/>
            <a:ext cx="7921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A VIDA É ASSIM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UM ESPELHO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TUDO QUE VOCÊ TRANSMITE VOLTA PARA VOCÊ!!</a:t>
            </a:r>
            <a:r>
              <a:rPr b="1" lang="pt-BR" sz="4000" spc="-1" strike="noStrike">
                <a:solidFill>
                  <a:srgbClr val="92d05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0D0T041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4643280" y="1428840"/>
            <a:ext cx="450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7030a0"/>
                </a:solidFill>
                <a:latin typeface="Arial Unicode MS"/>
              </a:rPr>
              <a:t>Tenham u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7030a0"/>
                </a:solidFill>
                <a:latin typeface="Arial Unicode MS"/>
              </a:rPr>
              <a:t>Ótimo Di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77080" y="623736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otype Corsiva"/>
              </a:rPr>
              <a:t>Formatação: Eber Cres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609480" y="1066680"/>
            <a:ext cx="7925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Renato quase não viu a senhora, com o carro parado no acostamento. Chovia forte e já era noite. Mas percebeu que ela precisava de ajud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358128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1" lang="pt-BR" sz="3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...Assim parou seu carro e se aproximou. O carro dela cheirava a tinta, de tão novinho. A senhora pensou que pudesse ser um bandido. Ele não parecia seguro, parecia pobre e faminto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684360" y="692280"/>
            <a:ext cx="79898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 </a:t>
            </a:r>
            <a:r>
              <a:rPr b="0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Renato percebeu que ela estava com muito medo e disse:</a:t>
            </a:r>
            <a:r>
              <a:rPr b="0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“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Eu estou aqui para ajudar madame, não se preocupe. Por que não espera no carro onde está quentinho? A propósito, meu nome é Renato</a:t>
            </a:r>
            <a:r>
              <a:rPr b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”...</a:t>
            </a:r>
            <a:r>
              <a:rPr b="1" lang="pt-BR" sz="3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9640" y="3618000"/>
            <a:ext cx="81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...Bem, tudo que ela tinha era um pneu furado, mas para uma senhora de idade avançada era ruim o bastante. Renato abaixou-se, colocou o macaco e levantou o carro. Logo ele já estava trocando o pneu. Mas ficou um tanto sujo e ainda feriu uma das mãos.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457200" y="457200"/>
            <a:ext cx="7848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Enquanto apertava as porcas da roda ela abriu a janela e começou a conversar com ele. Contou que era de São Paulo e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que só estava de passagem por ali e que não sabia como agradecer pela preciosa ajuda. Renato apenas sorriu enquanto se levantava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5280" y="38098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Ela perguntou quanto devia. Já tinha imaginado todos as terríveis coisas que poderiam ter acontecido se Renato não tivesse parado e ajudado. Renato não pensava em dinheiro, Gostava de ajudar as pessoas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685800" y="45720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Este era seu modo de viver. E</a:t>
            </a:r>
            <a:r>
              <a:rPr b="0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respondeu: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pt-BR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realmente quiser me pagar, da próxima vez que encontrar alguém que precise de ajuda, dê para aquela pessoa a ajuda de que ela precisar e lembre-se de mim”..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3733920"/>
            <a:ext cx="7925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Alguns quilômetros depois a senhora em um pequeno restaurante simples, a garçonete veio até ela e trouxe-lhe uma toalha limpa para secar o cabelo molhado e lhe dirigiu um doce sorriso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914400" y="285264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...A senhora notou que a garçonete estava com quase oito meses de gravidez, mas ela não deixou a</a:t>
            </a:r>
            <a:r>
              <a:rPr b="1" lang="pt-BR" sz="3000" spc="-1" strike="noStrike">
                <a:solidFill>
                  <a:srgbClr val="bbe0e3"/>
                </a:solidFill>
                <a:latin typeface="Arial Unicode MS"/>
                <a:ea typeface="Times New Roman"/>
              </a:rPr>
              <a:t>  tensão e as dores mudarem a sua atitude.</a:t>
            </a:r>
            <a:r>
              <a:rPr b="1" lang="pt-BR" sz="3000" spc="-1" strike="noStrike">
                <a:solidFill>
                  <a:srgbClr val="bbe0e3"/>
                </a:solidFill>
                <a:latin typeface="Arial Unicode MS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609480" y="533520"/>
            <a:ext cx="8153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...A senhora ficou curiosa em saber como alguém que tinha tão pouco, podia tratar tão bem a um estranho. Então se lembrou de Renato. Depois que terminou a sua refeição, e enquanto a garçonete buscava troco, a senhora se retirou...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4038480"/>
            <a:ext cx="7848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ff99"/>
                </a:solidFill>
                <a:latin typeface="Arial Unicode MS"/>
                <a:ea typeface="Times New Roman"/>
              </a:rPr>
              <a:t>...Quando a garçonete voltou  queria saber onde a  senhora poderia ter ido quando notou algo escrito no guardanapo, sob o qual tinha 4 notas de R$ 100,00...</a:t>
            </a:r>
            <a:r>
              <a:rPr b="1" lang="pt-BR" sz="3000" spc="-1" strike="noStrike">
                <a:solidFill>
                  <a:srgbClr val="99ff99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914400" y="2895480"/>
            <a:ext cx="7467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...Correram lágrimas em seus olhos quando leu o que a senhora escreveu. Dizi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762120" y="2057400"/>
            <a:ext cx="7619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ocê não me deve nada, eu já tenho o bastante. Alguém me ajudou hoje e da mesma forma estou lhe ajudando. Se você realmente quiser me reembolsar por este dinheiro, não deixe este círculo de amor terminar com você, ajude alguém...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3:38:35Z</dcterms:created>
  <dc:creator>Mônic@</dc:creator>
  <dc:description/>
  <dc:language>en-US</dc:language>
  <cp:lastModifiedBy>CARLOS</cp:lastModifiedBy>
  <dcterms:modified xsi:type="dcterms:W3CDTF">2010-09-16T14:38:17Z</dcterms:modified>
  <cp:revision>4</cp:revision>
  <dc:subject/>
  <dc:title>Slide 1</dc:title>
</cp:coreProperties>
</file>