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Somangel.wav" ContentType="audio/x-wav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1ED0-98C0-47D3-BB2D-764BF3B2B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60FC-7BBD-44D6-B19E-24DE0C1FA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EBB4-112B-4656-B491-1F9F5B9AA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BA0E-FB9C-429A-B2B6-87241025B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20C5-A7E2-4A3F-8021-CA29E86F9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6FF1-1403-48DB-9C72-DBA4C2B48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66CF-6705-4D02-A7B6-8F021CB37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396C-4B35-4F8C-B32D-103B280F3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BB71-8251-446B-9AA0-9BB8C37E6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8EC8-77FE-49C9-AA8E-AC08C0E3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60F1-639C-40D2-AF3D-CDF39753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F644-AC49-4EED-B6F8-3BAAFA75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6C6E7-9EC0-4155-9DE1-0EA193F7452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omangel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0D0T0415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2"/>
          <p:cNvSpPr/>
          <p:nvPr/>
        </p:nvSpPr>
        <p:spPr>
          <a:xfrm>
            <a:off x="1523880" y="2590920"/>
            <a:ext cx="6477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600" spc="-1" strike="noStrike">
                <a:solidFill>
                  <a:srgbClr val="000000"/>
                </a:solidFill>
                <a:latin typeface="Times New Roman"/>
              </a:rPr>
              <a:t>O ESPELHO...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4191120" y="35812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..Uma história de Am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9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0D0T04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2"/>
          <p:cNvSpPr/>
          <p:nvPr/>
        </p:nvSpPr>
        <p:spPr>
          <a:xfrm>
            <a:off x="762120" y="2587680"/>
            <a:ext cx="77724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70c0"/>
                </a:solidFill>
                <a:latin typeface="Arial Unicode MS"/>
                <a:ea typeface="Times New Roman"/>
              </a:rPr>
              <a:t>...Aquela noite, quando foi para casa cansada e deitou-se na cama, seu marido já estava dormindo e ela ficou pensando no dinheiro e no que a senhora deixou escrito...</a:t>
            </a:r>
            <a:r>
              <a:rPr b="1" lang="pt-BR" sz="3000" spc="-1" strike="noStrike">
                <a:solidFill>
                  <a:srgbClr val="0070c0"/>
                </a:solidFill>
                <a:latin typeface="Arial Unicode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0D0T04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2"/>
          <p:cNvSpPr/>
          <p:nvPr/>
        </p:nvSpPr>
        <p:spPr>
          <a:xfrm>
            <a:off x="611280" y="2708280"/>
            <a:ext cx="7924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...Como pôde aquela senhora saber o quanto ela e o marido precisavam disto? Com o bebê que estava para nascer no próximo mês, como estava difícil...</a:t>
            </a:r>
            <a:r>
              <a:rPr b="0" lang="pt-BR" sz="3000" spc="-1" strike="noStrike">
                <a:solidFill>
                  <a:srgbClr val="ffff00"/>
                </a:solidFill>
                <a:latin typeface="Arial Unicode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0D0T04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2"/>
          <p:cNvSpPr/>
          <p:nvPr/>
        </p:nvSpPr>
        <p:spPr>
          <a:xfrm>
            <a:off x="539640" y="1916280"/>
            <a:ext cx="7848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c000"/>
                </a:solidFill>
                <a:latin typeface="Arial Unicode MS"/>
                <a:ea typeface="Times New Roman"/>
              </a:rPr>
              <a:t>...Ficou pensando na bênção que havia recebido, deu um grande sorriso...</a:t>
            </a:r>
            <a:r>
              <a:rPr b="1" lang="pt-BR" sz="3000" spc="-1" strike="noStrike">
                <a:solidFill>
                  <a:srgbClr val="ffc000"/>
                </a:solidFill>
                <a:latin typeface="Arial Unicode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611280" y="4149720"/>
            <a:ext cx="77724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c000"/>
                </a:solidFill>
                <a:latin typeface="Arial Unicode MS"/>
                <a:ea typeface="Times New Roman"/>
              </a:rPr>
              <a:t>...Agradeceu a Deus e virou-se para o preocupado marido que dormia ao lado, deu-lhe um beijo macio e sussurrou:</a:t>
            </a:r>
            <a:r>
              <a:rPr b="1" lang="pt-BR" sz="3000" spc="-1" strike="noStrike">
                <a:solidFill>
                  <a:srgbClr val="ffc000"/>
                </a:solidFill>
                <a:latin typeface="Arial Unicode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0D0T04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2"/>
          <p:cNvSpPr/>
          <p:nvPr/>
        </p:nvSpPr>
        <p:spPr>
          <a:xfrm>
            <a:off x="990720" y="2438280"/>
            <a:ext cx="7315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-</a:t>
            </a:r>
            <a:r>
              <a:rPr b="1" i="1" lang="pt-BR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Tudo ficará bem; eu te amo.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3657600" y="3200400"/>
            <a:ext cx="365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800" spc="-1" strike="noStrike">
                <a:solidFill>
                  <a:srgbClr val="ffff00"/>
                </a:solidFill>
                <a:latin typeface="Arial Unicode MS"/>
              </a:rPr>
              <a:t>...</a:t>
            </a:r>
            <a:r>
              <a:rPr b="1" i="1" lang="pt-BR" sz="4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Renato!</a:t>
            </a:r>
            <a:r>
              <a:rPr b="1" i="1" lang="pt-BR" sz="4800" spc="-1" strike="noStrike">
                <a:solidFill>
                  <a:srgbClr val="ffff00"/>
                </a:solidFill>
                <a:latin typeface="Arial Unicode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0D0T04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"/>
          <p:cNvSpPr/>
          <p:nvPr/>
        </p:nvSpPr>
        <p:spPr>
          <a:xfrm>
            <a:off x="684360" y="2708280"/>
            <a:ext cx="78310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   </a:t>
            </a:r>
            <a:r>
              <a:rPr b="1" lang="pt-BR" sz="30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Pense nisso, e se você quiser me pagar por este e-mail, retransmita-o aos seus amigos e não deixe o circulo do amor morrer com  você....</a:t>
            </a:r>
            <a:r>
              <a:rPr b="1" lang="pt-BR" sz="3000" spc="-1" strike="noStrike">
                <a:solidFill>
                  <a:srgbClr val="ffff00"/>
                </a:solidFill>
                <a:latin typeface="Arial Unicode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0D0T046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2"/>
          <p:cNvSpPr/>
          <p:nvPr/>
        </p:nvSpPr>
        <p:spPr>
          <a:xfrm>
            <a:off x="611280" y="2060640"/>
            <a:ext cx="792144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b0f0"/>
                </a:solidFill>
                <a:latin typeface="Arial Unicode MS"/>
                <a:ea typeface="Arial Unicode MS"/>
              </a:rPr>
              <a:t>A VIDA É ASSIM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b0f0"/>
                </a:solidFill>
                <a:latin typeface="Arial Unicode MS"/>
                <a:ea typeface="Arial Unicode MS"/>
              </a:rPr>
              <a:t>UM ESPELHO.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92d050"/>
                </a:solidFill>
                <a:latin typeface="Arial Unicode MS"/>
                <a:ea typeface="Arial Unicode MS"/>
              </a:rPr>
              <a:t>TUDO QUE VOCÊ TRANSMITE VOLTA PARA VOCÊ!!</a:t>
            </a:r>
            <a:r>
              <a:rPr b="1" lang="pt-BR" sz="4000" spc="-1" strike="noStrike">
                <a:solidFill>
                  <a:srgbClr val="92d050"/>
                </a:solidFill>
                <a:latin typeface="Arial Unicode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8" descr="0D0T0415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9"/>
          <p:cNvSpPr/>
          <p:nvPr/>
        </p:nvSpPr>
        <p:spPr>
          <a:xfrm>
            <a:off x="4643280" y="1428840"/>
            <a:ext cx="45007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6000" spc="-1" strike="noStrike">
                <a:solidFill>
                  <a:srgbClr val="7030a0"/>
                </a:solidFill>
                <a:latin typeface="Arial Unicode MS"/>
              </a:rPr>
              <a:t>Tenham um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6000" spc="-1" strike="noStrike">
                <a:solidFill>
                  <a:srgbClr val="7030a0"/>
                </a:solidFill>
                <a:latin typeface="Arial Unicode MS"/>
              </a:rPr>
              <a:t>Ótimo Dia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6877080" y="6237360"/>
            <a:ext cx="237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Monotype Corsiva"/>
              </a:rPr>
              <a:t>Formatação: Eber Cres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0D0T04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2"/>
          <p:cNvSpPr/>
          <p:nvPr/>
        </p:nvSpPr>
        <p:spPr>
          <a:xfrm>
            <a:off x="609480" y="1066680"/>
            <a:ext cx="79250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   </a:t>
            </a:r>
            <a:r>
              <a:rPr b="1" lang="pt-BR" sz="3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Renato quase não viu a senhora, com o carro parado no acostamento. Chovia forte e já era noite. Mas percebeu que ela precisava de ajuda.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533520" y="3581280"/>
            <a:ext cx="82296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b0f0"/>
                </a:solidFill>
                <a:latin typeface="Arial Unicode MS"/>
                <a:ea typeface="Arial Unicode MS"/>
              </a:rPr>
              <a:t> </a:t>
            </a:r>
            <a:r>
              <a:rPr b="1" lang="pt-BR" sz="3000" spc="-1" strike="noStrike">
                <a:solidFill>
                  <a:srgbClr val="00b0f0"/>
                </a:solidFill>
                <a:latin typeface="Arial Unicode MS"/>
                <a:ea typeface="Arial Unicode MS"/>
              </a:rPr>
              <a:t>...Assim parou seu carro e se aproximou. O carro dela cheirava a tinta, de tão novinho. A senhora pensou que pudesse ser um bandido. Ele não parecia seguro, parecia pobre e faminto..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0D0T04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2"/>
          <p:cNvSpPr/>
          <p:nvPr/>
        </p:nvSpPr>
        <p:spPr>
          <a:xfrm>
            <a:off x="684360" y="692280"/>
            <a:ext cx="7989840" cy="26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   </a:t>
            </a:r>
            <a:r>
              <a:rPr b="0" lang="pt-BR" sz="3000" spc="-1" strike="noStrike">
                <a:solidFill>
                  <a:srgbClr val="ffc000"/>
                </a:solidFill>
                <a:latin typeface="Arial Unicode MS"/>
                <a:ea typeface="Times New Roman"/>
              </a:rPr>
              <a:t>...Renato percebeu que ela estava com muito medo e disse:</a:t>
            </a:r>
            <a:r>
              <a:rPr b="0" lang="pt-BR" sz="3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“</a:t>
            </a:r>
            <a:r>
              <a:rPr b="1" i="1" lang="pt-BR" sz="3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Eu estou aqui para ajudar madame, não se preocupe. Por que não espera no carro onde está quentinho? A propósito, meu nome é Renato</a:t>
            </a:r>
            <a:r>
              <a:rPr b="1" lang="pt-BR" sz="3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”...</a:t>
            </a:r>
            <a:r>
              <a:rPr b="1" lang="pt-BR" sz="3000" spc="-1" strike="noStrike">
                <a:solidFill>
                  <a:srgbClr val="ffc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539640" y="3618000"/>
            <a:ext cx="813600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0000"/>
                </a:solidFill>
                <a:latin typeface="Arial Unicode MS"/>
                <a:ea typeface="Times New Roman"/>
              </a:rPr>
              <a:t>...Bem, tudo que ela tinha era um pneu furado, mas para uma senhora de idade avançada era ruim o bastante. Renato abaixou-se, colocou o macaco e levantou o carro. Logo ele já estava trocando o pneu. Mas ficou um tanto sujo e ainda feriu uma das mãos.</a:t>
            </a:r>
            <a:r>
              <a:rPr b="1" lang="pt-BR" sz="3000" spc="-1" strike="noStrike">
                <a:solidFill>
                  <a:srgbClr val="ff0000"/>
                </a:solidFill>
                <a:latin typeface="Arial Unicode MS"/>
              </a:rPr>
              <a:t>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0D0T04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"/>
          <p:cNvSpPr/>
          <p:nvPr/>
        </p:nvSpPr>
        <p:spPr>
          <a:xfrm>
            <a:off x="457200" y="457200"/>
            <a:ext cx="784872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...Enquanto apertava as porcas da roda ela abriu a janela e começou a conversar com ele. Contou que era de São Paulo e</a:t>
            </a:r>
            <a:r>
              <a:rPr b="1" lang="pt-BR" sz="3000" spc="-1" strike="noStrike">
                <a:solidFill>
                  <a:srgbClr val="ff0000"/>
                </a:solidFill>
                <a:latin typeface="Arial Unicode MS"/>
                <a:ea typeface="Times New Roman"/>
              </a:rPr>
              <a:t> que só estava de passagem por ali e que não sabia como agradecer pela preciosa ajuda. Renato apenas sorriu enquanto se levantava..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395280" y="3809880"/>
            <a:ext cx="820908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...Ela perguntou quanto devia. Já tinha imaginado todos as terríveis coisas que poderiam ter acontecido se Renato não tivesse parado e ajudado. Renato não pensava em dinheiro, Gostava de ajudar as pessoas..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0D0T04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2"/>
          <p:cNvSpPr/>
          <p:nvPr/>
        </p:nvSpPr>
        <p:spPr>
          <a:xfrm>
            <a:off x="685800" y="457200"/>
            <a:ext cx="77724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...Este era seu modo de viver. E</a:t>
            </a:r>
            <a:r>
              <a:rPr b="0" lang="pt-BR" sz="3000" spc="-1" strike="noStrike">
                <a:solidFill>
                  <a:srgbClr val="ff0000"/>
                </a:solidFill>
                <a:latin typeface="Arial Unicode MS"/>
                <a:ea typeface="Times New Roman"/>
              </a:rPr>
              <a:t> respondeu: </a:t>
            </a:r>
            <a:r>
              <a:rPr b="1" lang="pt-BR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“</a:t>
            </a:r>
            <a:r>
              <a:rPr b="1" i="1" lang="pt-BR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 realmente quiser me pagar, da próxima vez que encontrar alguém que precise de ajuda, dê para aquela pessoa a ajuda de que ela precisar e lembre-se de mim”..</a:t>
            </a:r>
            <a:r>
              <a:rPr b="1" lang="pt-BR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609480" y="3733920"/>
            <a:ext cx="792504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...Alguns quilômetros depois a senhora em um pequeno restaurante simples, a garçonete veio até ela e trouxe-lhe uma toalha limpa para secar o cabelo molhado e lhe dirigiu um doce sorriso.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0D0T04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2"/>
          <p:cNvSpPr/>
          <p:nvPr/>
        </p:nvSpPr>
        <p:spPr>
          <a:xfrm>
            <a:off x="914400" y="2852640"/>
            <a:ext cx="75438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bbe0e3"/>
                </a:solidFill>
                <a:latin typeface="Arial Unicode MS"/>
                <a:ea typeface="Arial Unicode MS"/>
              </a:rPr>
              <a:t>...A senhora notou que a garçonete estava com quase oito meses de gravidez, mas ela não deixou a</a:t>
            </a:r>
            <a:r>
              <a:rPr b="1" lang="pt-BR" sz="3000" spc="-1" strike="noStrike">
                <a:solidFill>
                  <a:srgbClr val="bbe0e3"/>
                </a:solidFill>
                <a:latin typeface="Arial Unicode MS"/>
                <a:ea typeface="Times New Roman"/>
              </a:rPr>
              <a:t>  tensão e as dores mudarem a sua atitude.</a:t>
            </a:r>
            <a:r>
              <a:rPr b="1" lang="pt-BR" sz="3000" spc="-1" strike="noStrike">
                <a:solidFill>
                  <a:srgbClr val="bbe0e3"/>
                </a:solidFill>
                <a:latin typeface="Arial Unicode MS"/>
              </a:rPr>
              <a:t>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0D0T04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"/>
          <p:cNvSpPr/>
          <p:nvPr/>
        </p:nvSpPr>
        <p:spPr>
          <a:xfrm>
            <a:off x="609480" y="533520"/>
            <a:ext cx="815364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0000"/>
                </a:solidFill>
                <a:latin typeface="Arial Unicode MS"/>
                <a:ea typeface="Times New Roman"/>
              </a:rPr>
              <a:t>...A senhora ficou curiosa em saber como alguém que tinha tão pouco, podia tratar tão bem a um estranho. Então se lembrou de Renato. Depois que terminou a sua refeição, e enquanto a garçonete buscava troco, a senhora se retirou...</a:t>
            </a:r>
            <a:r>
              <a:rPr b="1" lang="pt-BR" sz="3000" spc="-1" strike="noStrike">
                <a:solidFill>
                  <a:srgbClr val="ff0000"/>
                </a:solidFill>
                <a:latin typeface="Arial Unicode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762120" y="4038480"/>
            <a:ext cx="784836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99ff99"/>
                </a:solidFill>
                <a:latin typeface="Arial Unicode MS"/>
                <a:ea typeface="Times New Roman"/>
              </a:rPr>
              <a:t>...Quando a garçonete voltou  queria saber onde a  senhora poderia ter ido quando notou algo escrito no guardanapo, sob o qual tinha 4 notas de R$ 100,00...</a:t>
            </a:r>
            <a:r>
              <a:rPr b="1" lang="pt-BR" sz="3000" spc="-1" strike="noStrike">
                <a:solidFill>
                  <a:srgbClr val="99ff99"/>
                </a:solidFill>
                <a:latin typeface="Arial Unicode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0D0T04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2"/>
          <p:cNvSpPr/>
          <p:nvPr/>
        </p:nvSpPr>
        <p:spPr>
          <a:xfrm>
            <a:off x="914400" y="2895480"/>
            <a:ext cx="74674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...Correram lágrimas em seus olhos quando leu o que a senhora escreveu. Dizia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0D0T04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2"/>
          <p:cNvSpPr/>
          <p:nvPr/>
        </p:nvSpPr>
        <p:spPr>
          <a:xfrm>
            <a:off x="762120" y="2057400"/>
            <a:ext cx="761976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i="1" lang="pt-BR" sz="3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Você não me deve nada, eu já tenho o bastante. Alguém me ajudou hoje e da mesma forma estou lhe ajudando. Se você realmente quiser me reembolsar por este dinheiro, não deixe este círculo de amor terminar com você, ajude alguém...</a:t>
            </a:r>
            <a:r>
              <a:rPr b="1" i="1" lang="pt-BR" sz="3000" spc="-1" strike="noStrike">
                <a:solidFill>
                  <a:srgbClr val="ffc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23:38:35Z</dcterms:created>
  <dc:creator>Mônic@</dc:creator>
  <dc:description/>
  <dc:language>en-US</dc:language>
  <cp:lastModifiedBy>CARLOS</cp:lastModifiedBy>
  <dcterms:modified xsi:type="dcterms:W3CDTF">2010-09-16T14:38:17Z</dcterms:modified>
  <cp:revision>4</cp:revision>
  <dc:subject/>
  <dc:title>Slide 1</dc:title>
</cp:coreProperties>
</file>