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Titanic-Musica%20Celta%20-%20La%20Musica%20de%20los%20Dioses%20Titanic-0001.wav" ContentType="audio/x-wav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C80-4542-4200-B565-EB92906576E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0CD-741E-43EF-B00A-A41F8A14AD7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0E4B-1B0D-49AF-B1D5-6D06ECADD23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426-E772-42D6-AB07-5CF0875BC91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86EF-A96E-4D08-918E-F2C72D25BD5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6BDB-5ECA-4DE6-A381-D6186B98390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7CB-0B7F-4736-8D04-40B37722AA6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1AB-6B7F-42FB-81FA-2ABCE49C561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011-EEF0-4D5C-A696-C433590FDDE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1CD-B793-4826-B682-7A3EE7A6366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9A1-731D-4C7B-AD88-49EF3F6EED2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4A90-D9D9-40F2-880A-626BDD04A0C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02C-C121-46F3-A1E7-BAD6A7F265F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D145-550A-4805-8240-2FE5E7D8F21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199C-5075-4F9D-958C-78148E9E893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414-7D91-4EC2-B8FB-5845A0C4F5C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E86-5268-4099-BF79-DACD5DDEC93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511-9296-4654-A8E5-80F19602FF7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638-3034-4C28-ACC2-92707A12365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3D6-B00D-45FA-BE66-6E859B7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059-3DF4-423C-94CC-13E01CAD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114BB-6ED4-41A9-8DE6-766CE91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8C51-F9C7-4607-945D-4F93776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76AA-10D2-47C4-8274-A6F5484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B3AFB-2D71-43C5-B457-A5B03A8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3AF63-6C49-40F4-8EA9-491AD15B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F76F2-FEC2-4F93-A342-38484ED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77BF-2D6B-4A5C-BB8D-46BBB5F2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C028E-E332-4335-8D59-713ADFC7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D903-2C6C-410A-9235-7DA9357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4069B-799A-4734-AE45-C8DE4AD7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6C2-7E28-41E4-B83B-629C2480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43755-28E2-41E4-B878-84C1DE18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54DE7-E2B1-4A09-9F46-3038194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7A2D3-797B-43DB-9071-01406E3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09790-265D-4F14-9731-9D423C2D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260C4-F8E4-4685-8F9B-E8C1826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71763-F7B3-400A-A7FD-11AD8AB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3667C-2FDC-4CE4-A753-A65E8E6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4308C-1134-4C13-8D0C-8DC2D16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0CC2A-CF04-475C-8803-C1F73AF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9643F-FDFB-47E4-956C-AF3105D7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F91-9FCF-4673-A526-2F2D1F17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D6EA2-D0F9-45C5-B80C-2B184D6C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BD708-24F9-4A6F-8A92-A8035190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1BEBD-672F-4760-88C8-08C8F7F2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ED548-C361-4423-9A4D-181742AD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16AF0-8752-4106-9E17-9537ADA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66720-FD39-4148-8BD8-D0C4BFBA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29F2D-506F-45D4-A1C6-8FAC05E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90523-C810-41E8-877E-102E253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58A1C-FC71-4F4C-A7C3-95B6820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92E6B-66BC-4778-B18D-E8517BD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B6BD-D2CD-45C3-89D3-CA596801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3362-CF76-4626-892B-7A765755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C27E6-7F60-40C9-B41E-BD403209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7DBC7-CBAC-4802-BBB2-6E319AC6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87CD-C5CB-49C7-BC0B-09B58CE7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4DDF3-6969-440E-962D-FE7F230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27036-608B-4998-A16F-9CE3C33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D1E5C-6E16-463D-8F6C-31F90CA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074C-3BA0-4B82-887E-65ED73A5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FCFDC-566D-461B-A497-51840862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CE9A4-F4BF-443E-8DF5-F9EEC7A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F86-B055-4AE6-A17E-AC6E9A6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A8380-365A-4F2D-B80E-4DB5C06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804CB-91C3-4375-BDEC-0EEB272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B954-FA3B-40BE-923B-93BF80BC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D7B2A-1263-4FE7-BB47-C7D45733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4726-BBD1-4E02-965C-6984A555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0A8C9-B856-4A57-B409-83F5F308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6B06D-C193-4703-AD9A-35C62343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8EDFD-1A67-4C4E-95C0-4A34B308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8D3A6-9CBA-4492-87D0-2ACD5073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825CE-5B82-4600-A244-E439F23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8C7-2F6D-499C-99A2-D830780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5DD9B-50AA-4372-8381-4E33D3E0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2338F-9E82-4C07-B653-D0B9378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6FBB3-829F-4475-B851-FDA4E30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661C3-52E3-4E3B-AD15-BE1931E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15A05-B653-43E1-81EA-EA0FC61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7BD01-92F4-44C0-938B-17C81961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995C11-051B-43E9-AFE4-662AC304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F7CEA-6265-49A6-A867-14EF2192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8FFD7-B93D-4A82-97B1-9364E7B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CD7FB-59FC-47DA-A740-FC8034A3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605-B428-490E-9062-19F045E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882D1-FB5C-42C8-9272-9192711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775CB-B23E-4C9A-9B4B-38D368F9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15155-8DC5-401F-9B6A-15A6476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93CD7-B8FB-49BF-912C-9047EBD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D2857-F709-4B31-BBD4-A4E69664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D9363-147B-4F0E-ADCC-377BE5D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BF236-13B8-402C-8FEA-E8C0D24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43143-52C7-487C-B8BD-44D8BA09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02BF0-DCD2-499C-B018-89D31611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CFA07-F73D-4BAF-8FC5-31D64BB6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8AB-CD63-43D6-9DA2-62B0CBF9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61162-6AE5-4954-9866-CD5C20CB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D9465-2BFB-442B-A9F6-ED14621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76704-3D3A-4B92-A201-27513B0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832E8-951D-418B-927E-EACFF99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7CBF4-E41E-478F-9E26-8DBB7643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86357-4B5D-488D-857D-EF74C5B8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0F58D-C5E9-482C-AA43-EC607BE1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B2A8C-6394-4ABB-8FBC-C42FF27C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0EB9D-ECAF-4C20-887C-2A9C751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93A19-B050-46B6-B3BF-E40AA7A9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E54-9867-4D92-9A65-5B41CCA8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9E9BA-CC4A-4CE2-9D26-E77A28A8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F359F-DFB3-4389-803B-D00F7675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6C0AD-9881-44A0-BA6A-1DF695A8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4DCF3-59AA-43E0-BE72-7F9D399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95147-AA16-450B-AC66-A5AD379D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5A471-148B-4139-9BD4-8CC8249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CCAA3-B9C8-4800-8E1A-692D41A1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8DDC3-0352-47C5-8A66-004107B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51B45-54DD-4148-93D6-B2641C2F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022A6-4D99-4497-BDE2-D26D92A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FA3E-CFA3-4C66-A636-96D8CE3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4A56C-7263-4612-8B42-8109AF5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EB01C-59B7-4383-AE23-83C3F987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2D0AE-22A4-4C0F-87E8-7CBEB498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7B531-F22E-4BAF-999B-082DC00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53C8B-B5A5-4010-8554-A5F19101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6F5EF-7D3F-4E4C-919E-5C7FF46F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EA400-EF44-4C85-99F5-8758678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4580A-BA30-4FA1-84FC-9B3730E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49004-7AC1-4888-869B-CFB38AA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D6AEA-E2EA-45BA-A801-1E9DEA8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5CF-139F-4055-8059-294FE3D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F4A9-6D30-4E76-81CD-905A133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E315B-406E-4106-851C-4F8DE42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05A20-AECD-46F9-8F28-E257C1F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A8050-CCEF-4B2F-B1F8-4A61987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88805-D89B-4900-B631-9BC80CB1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14A7F0-36F5-433D-BFF9-18FDEDF7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EBAFB-65F6-48A8-BA7C-FF0EEB49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51EB5-3447-4DC1-BED2-1B746DFC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4862D-2938-426C-A236-F3089A0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60BCC-6198-4F61-AA63-3953956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4EC33-42D2-4971-9335-5A7B7799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51B1-45C4-421C-A0D6-AA12304A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B8B76-E47F-43DA-BE79-99C71D9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1968B-9A1D-418F-9A4E-DF8AB4F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9C437-0CAA-49A6-9F7C-7FAE1AC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61DE0-583B-490B-8D73-2423FB1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B6263-93A5-4B68-B011-3F23D140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C1E8C-82DC-480A-B031-7D48F7E2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7B250-1AE0-4A71-9A09-C7578EFC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4B8635-A213-4C8A-B727-714D4A63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802EA-5C32-499A-88F9-06CDFD2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8F7A3-2451-4FFB-8F11-DEE0AF3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313E-6C01-4D5A-AE4D-ECBC8FC3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CD2FF-2ADE-4B7D-9BE7-0DE300C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6A3B1-5A6A-4276-AFF3-781A0D22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CB6BD-E243-4570-B66A-02AFF267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A90A5-D0BC-473E-9BB8-D2C70A0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128E7-2ACB-4696-B591-B7D8D7D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381B0-0321-46CA-96A1-19EB6BB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B1C20-F4B3-4651-B826-6BDC19A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A4FB9-6C33-460B-B431-EBFB38EC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A7616-A9D3-4DF4-9B60-841AADA8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75EEF-87C7-41BB-B17A-B422F9CA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7656-1D52-4F5E-BC81-BFA12516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3564C-E39D-4639-97EF-6425F271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0FEA9-0BD7-4744-9375-A7B8FA79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C7B07-BD7D-4DF8-9D09-D6C0385B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30167-29BB-43C4-B6CF-9A5C022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13B2F-0DC7-43DD-A9EA-2E6D336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33A25-CF5B-4801-BBD1-ABF5D49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C4DA3-BE37-4572-8B03-4A4107E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E8029-4705-4573-9632-62D3F65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F7510-4C3E-4EE0-8D8D-B1CADE9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49B02-06AB-4C86-9E6F-E0EEF0F3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A8FA-5CE1-40B6-8D64-41DBEE30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1C332-2D27-49CC-8DF4-5CE08AB2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0F86D-C1C6-4FEA-9566-5307F08F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8FD15-14ED-4F15-8D2A-D6AAD843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7C038-1C14-4D35-91BC-DFA5FAA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C2E56-28A6-4F85-A8D2-3B038EAF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6EC4C-4990-416E-ACDB-B568CDDD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81A9C-DC7B-4E08-BA97-E4BDABE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6490C-D543-4E76-80DA-E04B925D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9900F-3835-4CD6-91D6-A63C825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03869-D043-43CD-B68C-E3345D6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49BB-1F86-4AFC-8B46-66CE38D9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1014B-5B6F-4874-8D40-7282E28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73BE6-0544-4FF9-BECA-003E3F0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4B7E9-A98C-424D-8A6E-9B576417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4461BA-99C2-40AE-851A-4A4F6D48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FD843-72F4-4DB9-9BB5-8ED32970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BCAE0E-F410-476A-8012-C3DCA175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67C89F-5039-46E7-8345-60DA97E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5F8A7-5494-4126-A12B-CE5C0036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BA9AB-2E13-4802-887B-533CB7D3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11057-C202-488B-A6B4-06109FE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C068-6304-4C3E-9C0C-81C0F1A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870355-6D82-4350-A9E9-1ABBEDB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726C50-9016-44B0-87BC-3E367A4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30FD8-B07B-432B-AC6B-AB14ADEC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13053-FFF1-47FA-9044-523385BB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4EBE0C-E3A2-4C26-B8C3-7E81586B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0F9A45-31CC-4161-92EA-6D987599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95C61-316B-4FF7-A905-BA7BC2E8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150F3-4C95-4DCC-9F53-82C5F878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92DB9-C283-437B-A820-3A0E1301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D40A74-BDB1-4934-AD4E-AD128F1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4A23-9BD9-4605-9E76-5BB7A65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EB0C2-8FEB-4018-948E-9434D2C1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13A62-77BA-4D7B-B7F6-A9CB7FA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5F3F2-5278-4401-9BDD-C68D4F4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B9C817-D48B-4CD2-85D0-0FEA88A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85E18-820E-4095-A26B-29C6CDDC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C407D-88AA-49DB-989F-DB11FE9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79D62-ABAD-4054-A0E3-B0B6E8B0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A09AEA-367F-41B7-B898-B1013238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461EE-14F0-4862-8B74-3EC2718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7D8E74-89E7-40AB-956C-3C02377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ACDF-50F7-43FA-B5B9-A5BBF3D9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224E7-AB8A-4753-B04C-37B7F458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10E6AE-0481-4A31-8A29-78F560A7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0C608F-9A7F-41AA-842E-318AAE2A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0C894C-4B8B-40AC-98F1-6A8808F4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6D2C6-7F6C-44BF-ABDA-945A44B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C63F96-A912-4BBD-969C-41D5BC7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BDFE3-E29D-4587-BB90-24D3B00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D2FB55-5F96-484C-96B6-900C33A7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560482-27D0-4ADC-A1FF-4EB998A5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024796-A0FA-4BA9-A3CE-3B615DFF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20F5-88F5-43E7-B867-52E86D2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6B3AD-1B6B-4690-864F-7301D34E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181E2A-7619-4DB1-935A-7527381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DF8B5E-79EB-4672-B7BC-91F17BB4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448994-8F13-439F-A7D1-9FA7E18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C14DF1-E74D-4124-9775-AF5AECA4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A8455C-465B-4FCE-9584-51AF740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EAA230-AFF0-47AC-BA0C-F140BA4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0DC15E-A741-4A24-8E03-E40B42D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344FAB-82E7-4256-8119-E61BBFFA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E750CF-BBA9-4D08-BC99-99C40575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BD7-F5F6-4669-A02C-B2D15E1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E65E-7229-4291-B819-CC4EF9E9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915B46-9C40-4AEF-82C2-4A49F143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4D1D-B071-46C3-BF80-76B7722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0C9A-0D92-47B5-A1B0-56D4E59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B6214-41DC-4E2A-A89B-00254FC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F6B8-F6E4-44E5-BFD7-4DBD291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60C2-BBBA-4408-9872-1559A348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4700-A3FC-4F54-B829-451A2886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FDE5-591A-47C9-A244-522FEC9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7DF7-73CE-4A57-AB17-8D3A974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9EE5-4065-44B8-B8C0-77DA39F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A6B-4243-461F-82D6-7703CBB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3FC5-DD9A-4A52-9E2F-ACC4CEBA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E2DA-B89B-4983-97E8-FC087E39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1E17-0466-4CB2-BF7A-A6062F53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0FB7-42A1-4547-8456-DBE263A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84AF-412B-4443-AA81-37E365E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15B4-3321-46EB-AB41-E295103C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C980-A5DA-45F0-84E3-CEFBB4C8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7254-AED6-4224-8577-C072595A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3FD6-A050-40AF-84D3-0E81CF5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B5A8-F933-47FD-9DDA-A0A6C8B8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534-1999-4B92-B2C6-53359B4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2321-ED2E-45A2-8C33-9B87978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EE0F-55A6-4B09-8183-02C3D7A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7E5C-1DB6-40E5-93EF-15AD2CB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E8FF-AB06-48F5-9B91-60E50F90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B67C-F800-48D4-B39B-EC4D4A7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ED57-43DD-47CF-8621-62B2420A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91A6-3FD2-4DA6-B41E-F7D6502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FE26-8E08-4FA4-81AA-69CAA8A5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BFF3-FE8A-4773-B218-013850D0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2CC5-5166-496C-A143-00094E49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D91-DB39-46F3-A2A5-328C1146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251A-E3F3-4222-9FD5-1A6E33AB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5139F-BEF3-401C-9553-1D00B0F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76A0-E916-4F3E-85FE-3395B74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8D55C-AB31-4C80-8BA0-7825521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6C31-DDEC-496B-8DBE-27000660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2FBC-06B7-4AC5-B0D6-2981A60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8732-8AAF-41E7-B13A-530DECA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6F8C6-A2D1-4D0F-BDBE-87FA974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CB3F-3DEF-4DC2-8020-F3E9C42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0C8D-A7B6-476D-B0BD-5C0D70D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82E-27F2-4E93-9DA6-111968D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FE76-9E97-4491-AF54-D2ACA06D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7C544-E1DD-4361-B8A9-140627B1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475A-8ECB-4DE6-BFE1-B36E0BA8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5396-3AA3-40BA-94F4-55ABE0AD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2A825-AF7A-40AA-B583-F4820E12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A9576-FEBC-44A1-89FD-AFC71BAC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D9B7-0E58-4D94-A227-1EFF790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B0F6-2D5E-4BEC-A8F9-FADE031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2A798-5F1E-4CE0-B316-1883380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58A5F-2C2E-4234-9CC3-7A07E90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969-41B4-4F88-9D2C-62E878F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32534-35AF-437B-8AAE-53D7F269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D2B2-9C1E-4B4F-B39A-225373A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ABB4-D0D3-448A-97EF-26B809A3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AE02-FDA0-4EE6-AAE0-708049AF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6C12-3699-458F-AE30-582A9CB8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EA7A9-3B04-46E9-86F5-BE2C63A9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C2FB-BE91-489F-85CA-C41C026D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B6A08-1168-48B9-9723-2780808C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DCC5C-6169-4AE5-8F0C-7FA4ABA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31F2-4D88-41ED-B66F-BEB40A2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A8D-AB17-4732-ABE4-633A0CF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14CD-61D8-404F-828B-36BDA4E6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CB3C-1F3E-49D7-A95A-F624373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B857C-80D2-4609-BA3E-3F812A7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B25F4-8DE8-4BE7-AE9D-3351CED6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66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226FC-20E8-4BA7-A15A-9EDE2B52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6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66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66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25DA2-9C71-4E97-9A69-E3E37EB7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71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77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66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71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77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C879-A734-45F4-B801-1F882522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96E76-AF7A-46B0-A6D5-186F30FD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9AD93-20B1-4DCD-B9BC-DDC4DFE1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D6F8-6EA5-4B38-8E31-0719532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29B-3038-4D04-B2BF-D7527DAFD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D9B8-9C91-4A5B-8212-DAA28D897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DA22-E17B-468C-8FD5-28CB8AF4B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C38-F988-4258-891F-DC10059D3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ED1-011B-4EE2-9563-2E2F78487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853-2882-40BB-A52E-742988396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7AC-DC44-4497-B43F-984F6C70E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A86E-F7F9-41D1-BB05-21761DDE6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435-9A06-4289-9205-02B26B074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BC66-50F1-40BC-B6DA-63C1388A4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122-6169-4BEB-A179-579B8514D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7B4-02A2-4C4A-B3E4-81FF18839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EE32-FBE8-45CA-B1DA-31F9249CE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E6B-EFB3-4149-BFE7-348EA0976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D6E-FC91-4365-92A4-115509983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B1B0-FF1F-4FBB-AD58-7DAF1755B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23E-9E7C-4DC8-82D7-3C82E915B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066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C353-962B-4418-BC7B-440DAC6CB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D51E-68C3-4190-B429-CE7D08DB5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DBF-DB21-4084-8E53-CB90FEED4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721-0F72-4BD7-BFB0-804D865BE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0CE-1DA3-4D24-AE83-82AAB1EC9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32F0-355C-47F3-820F-688831AD9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52F1-1A2F-4081-BACA-C5832EE8E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470-136D-412F-9CC1-A775969F5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itanic-Musica%20Celta%20-%20La%20Musica%20de%20los%20Dioses%20Titanic-0001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836280"/>
            <a:ext cx="8151840" cy="29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Copperplate Gothic Bold"/>
              </a:rPr>
              <a:t>Eis um pouco de boas noticia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2666880" y="6019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verbio Cin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  <p:sndAc>
      <p:stSnd>
        <p:snd r:embed="rId2" name="Titanic-Musica%20Celta%20-%20La%20Musica%20de%20los%20Dioses%20Titanic-0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3"/>
          <p:cNvSpPr/>
          <p:nvPr/>
        </p:nvSpPr>
        <p:spPr>
          <a:xfrm>
            <a:off x="326880" y="0"/>
            <a:ext cx="287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 senhora idosa sorriu e disse: Já reparaste nas flores que estão do teu lado? Enquanto no outro lado n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3"/>
          <p:cNvSpPr/>
          <p:nvPr/>
        </p:nvSpPr>
        <p:spPr>
          <a:xfrm>
            <a:off x="5737320" y="0"/>
            <a:ext cx="27972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sto porque eu sempre soube que em ti havia uma rachadura, então plantei sementes do teu lado e a cada dia que fazia este trajecto tu regavas as sem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9" descr="jar-th"/>
          <p:cNvPicPr/>
          <p:nvPr/>
        </p:nvPicPr>
        <p:blipFill>
          <a:blip r:embed="rId2"/>
          <a:stretch/>
        </p:blipFill>
        <p:spPr>
          <a:xfrm rot="20433000">
            <a:off x="1258920" y="54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5"/>
          <p:cNvSpPr/>
          <p:nvPr/>
        </p:nvSpPr>
        <p:spPr>
          <a:xfrm>
            <a:off x="838080" y="250668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r dois anos recolhi estas maravilhosas flores para decorar a nossa me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5" descr="jar-th"/>
          <p:cNvPicPr/>
          <p:nvPr/>
        </p:nvPicPr>
        <p:blipFill>
          <a:blip r:embed="rId2"/>
          <a:stretch/>
        </p:blipFill>
        <p:spPr>
          <a:xfrm rot="20433000">
            <a:off x="1258920" y="34826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5"/>
          <p:cNvSpPr/>
          <p:nvPr/>
        </p:nvSpPr>
        <p:spPr>
          <a:xfrm>
            <a:off x="708120" y="1071720"/>
            <a:ext cx="546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m ti e a tua maneira de ser, não seria possivel esta beleza para alegrar a nossa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5" descr="jar-th"/>
          <p:cNvPicPr/>
          <p:nvPr/>
        </p:nvPicPr>
        <p:blipFill>
          <a:blip r:embed="rId2"/>
          <a:stretch/>
        </p:blipFill>
        <p:spPr>
          <a:xfrm rot="20433000">
            <a:off x="1258920" y="54288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49" name="Text Box 5"/>
          <p:cNvSpPr/>
          <p:nvPr/>
        </p:nvSpPr>
        <p:spPr>
          <a:xfrm>
            <a:off x="365040" y="2779560"/>
            <a:ext cx="474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da um de nós tem o seu defeito particul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3" descr="jar-th"/>
          <p:cNvPicPr/>
          <p:nvPr/>
        </p:nvPicPr>
        <p:blipFill>
          <a:blip r:embed="rId2"/>
          <a:stretch/>
        </p:blipFill>
        <p:spPr>
          <a:xfrm rot="20433000">
            <a:off x="1258920" y="4053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5"/>
          <p:cNvSpPr/>
          <p:nvPr/>
        </p:nvSpPr>
        <p:spPr>
          <a:xfrm>
            <a:off x="403200" y="928800"/>
            <a:ext cx="599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s são as rachaduras e os defeitos que fazem as nossas vidas assim interassantes e gratific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6" descr="jar-th"/>
          <p:cNvPicPr/>
          <p:nvPr/>
        </p:nvPicPr>
        <p:blipFill>
          <a:blip r:embed="rId2"/>
          <a:stretch/>
        </p:blipFill>
        <p:spPr>
          <a:xfrm rot="20433000">
            <a:off x="1258920" y="4482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5"/>
          <p:cNvSpPr/>
          <p:nvPr/>
        </p:nvSpPr>
        <p:spPr>
          <a:xfrm>
            <a:off x="479520" y="1000080"/>
            <a:ext cx="630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vemos aceitar as pessoas como são, procurando ver nelas aquilo que têm de mel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7235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rush Script MT"/>
              </a:rPr>
              <a:t>A tutti I miei amici “difettosi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rush Script MT"/>
              </a:rPr>
              <a:t>Abbiate una giornata meravigliosa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13" descr="MCj04347370000[1]"/>
          <p:cNvPicPr/>
          <p:nvPr/>
        </p:nvPicPr>
        <p:blipFill>
          <a:blip r:embed="rId2"/>
          <a:stretch/>
        </p:blipFill>
        <p:spPr>
          <a:xfrm>
            <a:off x="1116000" y="5410080"/>
            <a:ext cx="720720" cy="533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5" descr="MCj04343870000[1]"/>
          <p:cNvPicPr/>
          <p:nvPr/>
        </p:nvPicPr>
        <p:blipFill>
          <a:blip r:embed="rId3"/>
          <a:stretch/>
        </p:blipFill>
        <p:spPr>
          <a:xfrm>
            <a:off x="175248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6" descr="MCj04347370000[1]"/>
          <p:cNvPicPr/>
          <p:nvPr/>
        </p:nvPicPr>
        <p:blipFill>
          <a:blip r:embed="rId4"/>
          <a:stretch/>
        </p:blipFill>
        <p:spPr>
          <a:xfrm>
            <a:off x="990720" y="5867280"/>
            <a:ext cx="865080" cy="762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7" descr="MCj04347370000[1]"/>
          <p:cNvPicPr/>
          <p:nvPr/>
        </p:nvPicPr>
        <p:blipFill>
          <a:blip r:embed="rId5"/>
          <a:stretch/>
        </p:blipFill>
        <p:spPr>
          <a:xfrm>
            <a:off x="3132000" y="60944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8" descr="MCj04347370000[1]"/>
          <p:cNvPicPr/>
          <p:nvPr/>
        </p:nvPicPr>
        <p:blipFill>
          <a:blip r:embed="rId6"/>
          <a:stretch/>
        </p:blipFill>
        <p:spPr>
          <a:xfrm>
            <a:off x="7020000" y="3068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9" descr="MCj04347370000[1]"/>
          <p:cNvPicPr/>
          <p:nvPr/>
        </p:nvPicPr>
        <p:blipFill>
          <a:blip r:embed="rId7"/>
          <a:stretch/>
        </p:blipFill>
        <p:spPr>
          <a:xfrm>
            <a:off x="558000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61" name="Text Box 9"/>
          <p:cNvSpPr/>
          <p:nvPr/>
        </p:nvSpPr>
        <p:spPr>
          <a:xfrm>
            <a:off x="304920" y="2743200"/>
            <a:ext cx="51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cc"/>
                </a:solidFill>
                <a:latin typeface="Copperplate Gothic Bold"/>
              </a:rPr>
              <a:t>A todos os meus amigos defeituosos”. Tenham um bom d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0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15" descr="C"/>
          <p:cNvPicPr/>
          <p:nvPr/>
        </p:nvPicPr>
        <p:blipFill>
          <a:blip r:embed="rId2"/>
          <a:stretch/>
        </p:blipFill>
        <p:spPr>
          <a:xfrm>
            <a:off x="1619280" y="5229360"/>
            <a:ext cx="669960" cy="7999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6" descr="k"/>
          <p:cNvPicPr/>
          <p:nvPr/>
        </p:nvPicPr>
        <p:blipFill>
          <a:blip r:embed="rId3"/>
          <a:stretch/>
        </p:blipFill>
        <p:spPr>
          <a:xfrm>
            <a:off x="2268360" y="5445000"/>
            <a:ext cx="703440" cy="76212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5"/>
          <p:cNvSpPr/>
          <p:nvPr/>
        </p:nvSpPr>
        <p:spPr>
          <a:xfrm>
            <a:off x="250920" y="571680"/>
            <a:ext cx="607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e5ff"/>
                </a:solidFill>
                <a:latin typeface="Arial"/>
                <a:ea typeface="Arial"/>
              </a:rPr>
              <a:t>Não sou eu que devo dizer para enviares esta mensagem aos teus amigos, o importante è que ela tenha tocado o teu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r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3"/>
          <p:cNvSpPr/>
          <p:nvPr/>
        </p:nvSpPr>
        <p:spPr>
          <a:xfrm>
            <a:off x="403200" y="380880"/>
            <a:ext cx="272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ma senhora chinesa já idosa, carregava dois vasos grandes, cada um pendurado na ponta de uma madeira que se apoiava em seus omb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3"/>
          <p:cNvSpPr/>
          <p:nvPr/>
        </p:nvSpPr>
        <p:spPr>
          <a:xfrm>
            <a:off x="6041880" y="601560"/>
            <a:ext cx="2492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m dos vasos tinha uma rachadura, e o outro era perfeito e sempre levava todo o seu conteudo de á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3"/>
          <p:cNvSpPr/>
          <p:nvPr/>
        </p:nvSpPr>
        <p:spPr>
          <a:xfrm>
            <a:off x="365040" y="685800"/>
            <a:ext cx="2454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 fim do longo percurso o vaso defeituoso chegava sempre com  metade do seu conte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3"/>
          <p:cNvSpPr/>
          <p:nvPr/>
        </p:nvSpPr>
        <p:spPr>
          <a:xfrm>
            <a:off x="5737320" y="601560"/>
            <a:ext cx="279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 foi assim por dois longos anos, a senhora idosa levava para casa um vaso e meio de agua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3"/>
          <p:cNvSpPr/>
          <p:nvPr/>
        </p:nvSpPr>
        <p:spPr>
          <a:xfrm>
            <a:off x="479520" y="677880"/>
            <a:ext cx="2873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 vaso perfeito era orgulhoso, pois cumpria  sempre a sua obrigaç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3"/>
          <p:cNvSpPr/>
          <p:nvPr/>
        </p:nvSpPr>
        <p:spPr>
          <a:xfrm>
            <a:off x="5975280" y="71280"/>
            <a:ext cx="3025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 vaso defeitoso ao contrário envergonhava-se da sua imperfeição;  perdia sempre  metade do seu conte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3"/>
          <p:cNvSpPr/>
          <p:nvPr/>
        </p:nvSpPr>
        <p:spPr>
          <a:xfrm>
            <a:off x="555480" y="214200"/>
            <a:ext cx="2797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pois de dois anos, reconhecendo seu defeito durante um trajecto, falou com a senhora ido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 Box 3"/>
          <p:cNvSpPr/>
          <p:nvPr/>
        </p:nvSpPr>
        <p:spPr>
          <a:xfrm>
            <a:off x="6066000" y="9360"/>
            <a:ext cx="272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nto muito,  que por causa do meu defeito  perca metade do meu conteu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52:53Z</dcterms:created>
  <dc:creator>Comtesse Aline</dc:creator>
  <dc:description/>
  <dc:language>en-US</dc:language>
  <cp:lastModifiedBy>MCoelho</cp:lastModifiedBy>
  <dcterms:modified xsi:type="dcterms:W3CDTF">2009-07-09T13:52:23Z</dcterms:modified>
  <cp:revision>25</cp:revision>
  <dc:subject/>
  <dc:title>La légende du pot fêlé</dc:title>
</cp:coreProperties>
</file>