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Titanic-Musica%20Celta%20-%20La%20Musica%20de%20los%20Dioses%20Titanic-0001.wav" ContentType="audio/x-wav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E963-5C9F-42A2-B5D9-170A23D8DDCC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D0A0-2190-41BB-A2C8-FBB06082D95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D2B3-4421-4942-B8D9-9583B46569C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250F-4154-413B-8654-AE506A740CB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1CE9-FB5B-45C9-A980-902F3092CA8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437F-299A-4ACF-B1B8-58D4DA2A0F9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CFCA-6D1C-4A3D-A62A-3226CE84351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1FDA-0143-4946-9BF9-16DA86F5A40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552F-3F31-4E68-89E9-4B610332513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834C-ADFB-4935-BF76-40CF737D21C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BD3B-D787-477B-9C23-D7903F94D14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1FF-8FEF-41A1-92AB-422500D9723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8FE4-F5B2-4F03-AD9C-19AC87209BE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731D-FDE8-4124-8A1B-04BBB0F0D0B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A868-60BE-4AF0-A687-FC6369863F6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3C51-2399-4DD0-BDC1-7D33972C9C8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F1F0-2683-493C-82A9-D90CEC7FC32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3241-FF4A-4FF0-9BA9-9A38D017BC2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C2EB-7807-416D-9326-4AEBE449A11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531-F1CE-4AA5-BC74-B84F4BB1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6C8-8477-4208-991A-AD67D836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A8745-9BA2-4728-A73C-19B8169D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63D83-18D5-4615-A0B4-925B3567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AD1F8-A941-450B-8930-16D4D414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1CD13-1085-4F35-9888-750907A7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EDC40-438E-48FA-A1AE-A4F031C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C8CEF-B9BF-4902-B253-AFF1872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08645-65DD-45E2-A5E3-AAB453AF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565AF-85C8-476D-B69B-56B31B1D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3B89F-A4EB-4C0B-8B41-CA820A6A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6F346-FB95-41F8-97A2-BBE2D4D8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EE8-05D4-406B-9684-E05672BD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91FCC-2202-468F-AA19-E2CAB3C6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13FB7-BF85-4FA8-B4E0-F602F4C9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D6848-1F8C-4046-A54D-58B04B0D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92B73-582A-4EB9-9D64-DF8890C3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F7F65-33EE-489B-A95B-0BB0B11D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D3C5E-FB0C-4454-83B4-A539FAF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9D024-A9B7-4119-8C03-8861AF16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6E39F-32FA-4310-97CF-151C6BF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620E8-0434-42E7-8C61-921A4B04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94003-701D-4EDB-A355-8321F5E7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F53-EDA4-41C0-8366-B376B2CA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326C0-0F11-4C8C-92B1-966737D9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3B41E-AF88-41D5-9694-D8B27EE6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D3795-F41D-44A6-8E95-97B2D969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641B5-4882-4CD7-A1E7-8D75C946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C8DCA-57FF-4FBD-AFDB-819953AF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8737A-FB16-40A4-A089-B19DF8D9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1F06E-76DF-4989-9830-010440D5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0C941-B6F9-4856-940C-C565C6B2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9D1F8-832B-4CFC-B883-0A16B2B0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F69BB-2958-4A9F-A8A9-2883812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7B9E-093A-4BA4-BFD6-33E4B8EC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7B9E7-0F38-4E89-A361-857291F1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21731-4475-4004-A45A-2F005FF2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9AC8B-BDD2-492F-A489-9E549A47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8D4FD-EAF6-4118-980E-986CB1B2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F53A7-C4FD-43F1-BA54-2E3A5B62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81133-F36D-47FC-949C-46D840F8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E9059-5E5B-405E-B4FD-28EDFC0E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8EE94-9D27-4F88-B90E-9B39EAC6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366A7-55E4-41B0-8021-B3C6B124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1C965-D4EA-4AD0-A496-E835EAD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1163-6E3B-41AE-9A03-17EADF59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9A6AC-3CB9-4F27-BA39-DBFE5FF8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DCED7-42DB-4787-9C8A-411B6A12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DC45A-A069-4E95-A0BC-EF69CABA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20BDA-E0A8-4D7E-9689-3189ED07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D285B-D9CA-431C-8AB3-0F1E9F88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23468-6A69-496C-B028-4E44296D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A1465-DAE6-4D78-89DB-F798826A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24320-2869-4E96-9552-B6504FAA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89EC7-E90F-485B-B653-3B120897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93E41-7836-4867-AC89-304501F0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3E9A-7E0A-46C1-93CD-2D2575DB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B3F02-4CAF-4A66-889A-8D8B41EA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F0B8E-9042-4D3C-B253-C26C76AA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E3082-82F7-4509-88B2-22DFB20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17165-81EE-4E74-8BF7-363F7E0B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A7925-D9AE-4078-BC78-86ED6F29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DC1C2-AB12-47B4-A085-65F80692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5B197-3AA2-450C-B782-4B131192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5C08B-A88F-47BB-A039-A52F0370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7DDFE-1C83-4F81-9945-234CAC6E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758B7-75D8-4877-BC59-B22515DE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B33B-B385-4672-A1CB-D6E46833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A2AE0-5423-4510-B2B9-7C50A57C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8F587-7EA7-41C4-9FAE-11953553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8AADB-DD74-403D-972C-E320E54E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33EC3-1ED6-4C5B-BDB2-CEE7FC86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8660D-7E28-4225-B4C7-06F3BBFC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F15CE-D142-4E87-A11B-3644055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6ECD4-3F84-4F60-A637-977DB07E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D110A-8848-41C7-8446-49F43424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F713C-D822-4D5D-A563-862E9806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2DE5D-8868-445D-B571-5AE4BA26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5D79-FB77-4945-B901-6FB61F9D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32F7A-F7A4-4AA2-8C84-82FA4409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20D58-D64D-44BC-9CED-5FDE78D1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58929-9744-484E-B335-ED3763F9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DAE08-82CB-441D-B87C-AE12A38A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CBE28-6455-4C6A-B82F-5889D8E0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C7271-F131-4D66-BB5F-009CF8D5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B0C0E-5654-40DD-823F-289ACE95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9C0AA-8B04-4B01-BABF-A88D1AB4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17DBE-0681-47B0-ABE9-8A282191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833BB-D878-45D1-9239-56303AD1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C32D-2E5E-4F0B-A83C-0BC7EF65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8F940-BB8B-4ED8-B6EF-8780B1B0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DA67D-2456-4754-B4D7-447426C5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541E8-8479-4DDB-AF0E-9D049D40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04AF18-7AE0-4D31-8DA1-A46D4C2A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F8A25-31BF-4798-811C-552359FB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06F1CF-C8A7-4AF4-9084-8B956249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9CAC3-354F-4BBF-AA07-4C8FC227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88590E-457F-42DB-9EFC-F8916BDC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24363-3903-4E07-8E0F-0885EC1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6B5D72-2CD2-4B04-AEFD-BCA6567D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2F2E-4F18-4CF4-B3A2-3759E6B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E5E22-2E44-4267-98D5-390253B4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6DD58-5E0C-43DC-9F28-8B55C1A6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8A07A-D284-4331-8C5B-3C1F5CDA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FEB0D-C624-4C56-8A1B-F7C18610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D9B30-E885-4EA9-ADC2-F5A85123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47135-31F0-413D-BBDC-175BA98A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A7B76-48C5-462C-A4F3-72FE9E3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F91B6-1A3D-4804-92BE-AFD17DC1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FFCFA-8204-4445-821C-127D6E2F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EA2CD0-E333-4FF6-A645-67EE6405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81A-5E97-480E-B877-70DCE8D9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739D-887C-4580-9274-17300BC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F1334-2F35-4A26-85C3-11AC8815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84C83-7F58-4FA0-B03D-BEBB872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3922A-71F7-4E0A-82EC-9FD0F4A9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C2C6E-56ED-4F8F-9C22-94AF35A2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AEF13-315A-47C6-AE8F-1182BCE4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21D402-5FA9-428E-BA54-988AA9BD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C7380-9352-4E60-A341-12C8138C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613C25-8D43-4843-82ED-F01D3057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B5726F-1A56-4606-B1E4-5044EA68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4D37A-3206-42DA-8B78-6BC8C071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CDB3-503A-4733-B218-0F4A0EB1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6F2CE-AA24-40D6-A2A9-A45B82BF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2577C-380B-44A7-8277-FA2039CA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C8D67-7860-4BE6-9B74-86D2EF27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6A348-4250-43A1-B9A7-6CE5C57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ACB59-C873-4940-B6D3-0BFDC96D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C6C94-96B4-4536-A8CB-F0C54FA3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48021E-1B0E-4BA0-A1C2-9954F60D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2C9B8-A9C1-4D47-938A-349E6D81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EB9D9-8948-4B6B-A1F2-06FDA87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EEA882-E4C0-41E0-9CCC-E0B7265C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FBA3-F3D2-41EE-AAB5-5C664324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ADCC70-AA9E-4AB9-9993-7173ECD5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8CAABE-1D28-4A90-8E32-1EA3D069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3EFAA-F30D-4605-A5D5-75B80C44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BD2ED-F4BF-4691-9A90-05075410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C863FF-7A8D-4270-B1B2-05C985EE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009F3-33F5-4ED4-B843-9227D47E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DD362-730F-48B8-A65A-0793CDCD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70FB3-A6B9-44A0-8BCB-09B80A54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E73AE7-5F9E-4ACA-B137-E1671324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5965B-9C56-4AF3-92E9-D44AEA60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C7CF-3ECE-40B2-9916-485A2D57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15D5A-1529-4623-8803-0DDB07E8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4868AB-87C1-4161-95BB-6D3A0C7D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26A2F-D078-4E76-8D31-43C3F1F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DB9E3-AF96-4C7A-8056-791C793D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F46236-92D6-47BC-B077-7E07EDD6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C3A3D-9942-4A48-BB14-FA949ABB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23D426-D28A-4BBE-AE78-401142E4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E6869-5E5F-47FA-A792-80D3F361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E103F7-97F9-40C3-A50F-4212E37B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33100-60EF-44B5-BBE0-73560D76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6CC2-E279-4215-B58D-F8F730BA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5CA0F-13D2-4F01-8171-DC19FCA4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3015B2-94E7-4522-8A3C-A08F4BE7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623D77-5F25-46EB-84AC-8F7B595B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A53119-896E-4485-9406-17CE1F52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958EF-31E2-42A2-8E7D-A4A30A08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074BAF-98AA-4DAD-8E19-3287ADD3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15593F-993E-4262-974D-E203083F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08A35-4580-4E19-A586-E00040D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17B4A6-2486-4E6B-9B90-5DADAD5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93A1F-97F4-40FC-AB40-01EA2FEB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2E2D9-200D-4A21-96DB-FD7CA35F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195FC-9FFB-424B-A014-06805AF4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98476B-C23D-4D95-B778-CD890536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D2096-44FF-4F50-B1A6-646E1B50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AA8201-D9E6-49F3-AF80-7995E031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7DA6B2-A8B1-4DE1-B624-78390128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B56173-A1CE-405A-B13C-6F28F388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E17889-9330-4243-BBF3-B6843597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A6A0D1-71AC-4E53-BDE7-64C8C3FA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4900CE-D2B4-4050-9011-686784D8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72724F-9869-4BC6-853A-786BC77C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0940-D44A-404E-B793-AF310C14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AC2DDD-18D9-4DEC-9EF7-25C449DB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AE4EEE-EA0B-4375-892D-72D1A188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A351D7-1BC3-4075-86F9-27FF88AA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6EC685-2D92-4C62-9838-FA960DF0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011D85-0F5B-472F-95E0-EA9D2AAD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CA64A5-31B2-4B69-A8B9-2B6D7579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711A52-7D92-4F57-B820-8D6F1242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7364E2-C3EC-4B66-A403-922C8348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2A6950-8696-4B0F-949A-2AE03C23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FA9C07-F07E-483F-A8EB-2FB3DC0C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CB0F8-6D0C-477A-BA99-ACF6D8F5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272B70-F77D-4484-A23E-9C5D6F35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17B9AC-D474-4257-8D76-F39578C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E2DE9A-6B56-425C-9CD6-9231BF89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3BE75E-472E-42AE-A464-E5434900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32626D-0D7D-4BA1-86A7-2D3B43B1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9AFE5D-5EF8-495C-87B4-34C98962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ADF753-5C19-43BA-B8E4-830E09DD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7FEFC5-7890-4380-92D8-7418DA06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17A5AB-BB7C-4DF7-A34B-F2F48624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722736-0B03-498E-8F95-39A1CF58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20C0-5CCF-4FBD-AC17-57B3582C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66E51B-27CD-47BC-81C9-9E49F3F3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22A093-FC50-48B8-A3CD-677B581F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6AB42D-45A0-4BB2-9058-0AD31A64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D94ACE-03C0-4C58-9666-492298E2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A4173E-9500-4C47-811A-19A3571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FC474E-2E24-4C5B-93E3-6A5913BF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58F71C-2819-459B-A53E-6ECEED22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5FDF17-07AF-4945-A37C-03AB13F8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FB8E92-47AA-4F60-87A6-76D55BEB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593E7A-171F-42D3-B938-0BDBF46C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80528-8084-4378-BB06-93F1E336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E677BB-C3C8-45A5-9331-7C955F44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DE2CF6-60F8-4E55-B8F3-09264E35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A4C99C-2509-4E60-90C0-6F34BA8F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BD94FD-0033-44B6-97F6-9A6BC18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052F9E-D8BB-46EE-B496-81E2A477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3063E5-E778-4128-9E50-6DC16BEA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6B2D7C-E86D-4597-BCB4-6DAF6350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433C86-DED9-4545-8326-27068CAB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F5098A-6FC2-481B-A87D-9F1B820D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6B3601-CDCD-49C3-9B79-17CB612A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748-3141-4172-82BA-54B1A82E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FB1E-4AA2-493C-A013-78824262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C8FAE0-DD46-4BC8-9FEF-F79FD8D5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3018-2FDD-468B-929E-03C72F9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AF38-F4E2-4805-B934-1D3F8D31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68A8-F472-4D64-BAA1-983B160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8798-9C00-4E21-8E0D-30788F37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3A29-5B18-4C6A-8811-EB4208E4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1B21-B30F-4960-BB42-3691D6FB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B6B3-591B-4BB6-BD5F-74FB6532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6CA00-14E2-4821-B627-D4E716FE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36680-CDF9-4FF6-B7ED-473AC8C4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BF5-1DDD-4015-8162-583ED04F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E8D9F-2A86-48EF-A5D4-C1FC9888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0D125-8723-4C48-BC1A-2AA2DEC3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BD7D4-737D-4457-A4BC-9C12935D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A26E-D6F2-4394-87F9-313420FE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25B23-A989-4CB6-B5B3-89A5EBB3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A55A-8FEB-4D69-9AEC-EABF2A32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A2AC-C412-4E5E-A010-C5F1AF2C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3A7C-53DC-46C8-8A86-1C960994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F8309-828F-49B1-8DEA-302ECF94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5E945-B922-4575-94DB-D611C686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1A3-2738-4754-9FD5-441B4506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FD284-4205-42C8-8D1E-1037490D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65990-4CD7-476F-BF15-7F1628FC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6288-46C3-4418-9E23-490758C8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D5358-EBE1-4A80-9AE0-13B83933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09885-F94F-455A-9C24-7DFF1CA2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4BECA-03B7-4A4D-8F9E-95CE215E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9BB89-F0CD-454A-9B8F-689661C6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B162-AD74-4D53-85D9-CCDF3D28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5FD9F-0B8E-4E4C-9C39-00AD8396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802B-4AC6-4B1D-9384-F05095F6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A8C-99D7-4482-B5A0-7063B7DF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6C1F0-8E85-417D-8B8F-8F35EF8F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BAECD-9AA3-4D4F-88C0-196FFB6A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C66D-3F4E-4F3A-A7A7-BC1DD408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EB5EC-8C47-4EDA-BA00-3AE292F7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374F0-A192-476A-8DC5-94A8DE21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30C5-631C-40B7-AAF5-FF737B2B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3AF02-9781-48D7-8BFA-E19F41AF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3489-806B-438C-8D84-19A3A710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24301-307B-4FB0-9D7A-80711B2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80748-EDCA-4E18-AC07-0B7D7FD2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113-8028-4D12-B9BC-9C5D4B70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E7141-EF50-4EC0-8D78-24D8A894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DF8DB-08F6-45B1-9A5E-C05EA3F5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CBCF2-F072-4DA4-9E63-01B455C8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AFA44-78C4-48E5-A68A-040167C8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9FEDC-C741-4E36-ABC4-6AA778F4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EE3BB-3832-4F31-B32F-AD7601D7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B6B83-0AAA-4AB0-8018-50EFEE13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833B2-16D0-46BE-A25C-788CF9A7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894FA-45A2-4C99-AF03-DB60D5B7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0E4EB-1A73-432D-8A57-0D96FBE9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564-A9EB-45ED-B2B4-6A01CF21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436E0-DBBA-411C-B543-060A7E2C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639AF-CECC-4562-B0CF-CD762517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75731-0E58-44EA-9C68-8BEF5451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3E4ED-66A4-4046-A1FD-C9909F79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2BA4-A619-45D3-9DF4-FB559981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A9A7B-CBAE-4533-94D1-B71C49E6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DBDE8-1474-4F4A-AC87-B811BF52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F557D-6579-4422-9547-DE5551A5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53A0C-1053-4C37-A8D6-70D99B60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46701-7357-4049-902A-04EC151C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200-2DD9-4143-A62C-66F001DE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2F078-FF53-467F-A5B7-3E41049B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1F296-58ED-4A6F-911A-F723E4ED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18C5B-EE57-4638-9EFE-9E3428D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BA994-910C-4968-A6AE-1C218D33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38648-69F4-40AD-9FC8-206FC065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CF2EE-9019-4AFE-B7D7-1BE377B7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A6129-93DD-45D2-8CF9-E3DB0CA3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0B2D9-17CC-4177-841D-288106AB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BE809-4056-4782-9BDE-683A2333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6DBDD-D97F-44C4-97D8-E12A1A43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D460-914B-4AEC-A0AE-49CE5D239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156C-B4EA-4064-B73D-17825BA2F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7599-DEED-43EE-AAEB-783182B25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DD21-B368-42EA-B285-2EE69A8EC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218F-6E01-4770-8847-A6F3C2A8F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5C00-BE37-4657-BB4B-2357B92A2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8210-5965-4334-BFBB-B0E027676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72CB-B18E-4875-A288-BCCFBBAA0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DB49-E0D8-4BB6-B07C-D1B410F14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E844-C9CA-4601-8BB8-88677676D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57F5-403C-4A91-A499-F005FD46D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E671-F488-48C6-8DC3-D1F2410D4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9B3C-8171-43DF-A984-E92BDC040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757E-1738-49D8-A402-44F8A5F0C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B9A0-F11F-495C-8369-9D836758E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C6A0-BFD3-4851-A0F3-B63FC3F8C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9567-4F79-45F6-A4FA-8E75F1A89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C1D2-93D9-4E7D-821F-303F49CF2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9D9B-5714-4AF4-B44B-39C7786EA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67C5-3B49-4773-9E12-EBAA3836A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9BC0-5714-419B-8247-BF1BBFE71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B273-FB9F-4668-B35B-7801FD47C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6C2C-4EF6-4D55-BC05-83A169FF9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A3E6-2D0A-49CA-98B0-F88BDD8A9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831A-08B9-43D2-827D-3DBC79BDD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itanic-Musica%20Celta%20-%20La%20Musica%20de%20los%20Dioses%20Titanic-0001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836280"/>
            <a:ext cx="8151840" cy="29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Copperplate Gothic Bold"/>
              </a:rPr>
              <a:t>Eis um pouco de boas noticias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2666880" y="6019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overbio Cine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  <p:sndAc>
      <p:stSnd>
        <p:snd r:embed="rId2" name="Titanic-Musica%20Celta%20-%20La%20Musica%20de%20los%20Dioses%20Titanic-0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3"/>
          <p:cNvSpPr/>
          <p:nvPr/>
        </p:nvSpPr>
        <p:spPr>
          <a:xfrm>
            <a:off x="326880" y="0"/>
            <a:ext cx="287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 senhora idosa sorriu e disse: Já reparaste nas flores que estão do teu lado? Enquanto no outro lado n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3"/>
          <p:cNvSpPr/>
          <p:nvPr/>
        </p:nvSpPr>
        <p:spPr>
          <a:xfrm>
            <a:off x="5737320" y="0"/>
            <a:ext cx="27972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sto porque eu sempre soube que em ti havia uma rachadura, então plantei sementes do teu lado e a cada dia que fazia este trajecto tu regavas as sem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9" descr="jar-th"/>
          <p:cNvPicPr/>
          <p:nvPr/>
        </p:nvPicPr>
        <p:blipFill>
          <a:blip r:embed="rId2"/>
          <a:stretch/>
        </p:blipFill>
        <p:spPr>
          <a:xfrm rot="20433000">
            <a:off x="1258920" y="54288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45" name="Text Box 5"/>
          <p:cNvSpPr/>
          <p:nvPr/>
        </p:nvSpPr>
        <p:spPr>
          <a:xfrm>
            <a:off x="838080" y="250668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or dois anos recolhi estas maravilhosas flores para decorar a nossa me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5" descr="jar-th"/>
          <p:cNvPicPr/>
          <p:nvPr/>
        </p:nvPicPr>
        <p:blipFill>
          <a:blip r:embed="rId2"/>
          <a:stretch/>
        </p:blipFill>
        <p:spPr>
          <a:xfrm rot="20433000">
            <a:off x="1258920" y="3482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47" name="Text Box 5"/>
          <p:cNvSpPr/>
          <p:nvPr/>
        </p:nvSpPr>
        <p:spPr>
          <a:xfrm>
            <a:off x="708120" y="1071720"/>
            <a:ext cx="546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m ti e a tua maneira de ser, não seria possivel esta beleza para alegrar a nossa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5" descr="jar-th"/>
          <p:cNvPicPr/>
          <p:nvPr/>
        </p:nvPicPr>
        <p:blipFill>
          <a:blip r:embed="rId2"/>
          <a:stretch/>
        </p:blipFill>
        <p:spPr>
          <a:xfrm rot="20433000">
            <a:off x="1258920" y="54288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5"/>
          <p:cNvSpPr/>
          <p:nvPr/>
        </p:nvSpPr>
        <p:spPr>
          <a:xfrm>
            <a:off x="365040" y="2779560"/>
            <a:ext cx="474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ada um de nós tem o seu defeito particul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3" descr="jar-th"/>
          <p:cNvPicPr/>
          <p:nvPr/>
        </p:nvPicPr>
        <p:blipFill>
          <a:blip r:embed="rId2"/>
          <a:stretch/>
        </p:blipFill>
        <p:spPr>
          <a:xfrm rot="20433000">
            <a:off x="1258920" y="4053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51" name="Text Box 5"/>
          <p:cNvSpPr/>
          <p:nvPr/>
        </p:nvSpPr>
        <p:spPr>
          <a:xfrm>
            <a:off x="403200" y="928800"/>
            <a:ext cx="599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as são as rachaduras e os defeitos que fazem as nossas vidas assim interassantes e gratific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6" descr="jar-th"/>
          <p:cNvPicPr/>
          <p:nvPr/>
        </p:nvPicPr>
        <p:blipFill>
          <a:blip r:embed="rId2"/>
          <a:stretch/>
        </p:blipFill>
        <p:spPr>
          <a:xfrm rot="20433000">
            <a:off x="1258920" y="44827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53" name="Text Box 5"/>
          <p:cNvSpPr/>
          <p:nvPr/>
        </p:nvSpPr>
        <p:spPr>
          <a:xfrm>
            <a:off x="479520" y="1000080"/>
            <a:ext cx="630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vemos aceitar as pessoas como são, procurando ver nelas aquilo que têm de mel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72356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rush Script MT"/>
              </a:rPr>
              <a:t>A tutti I miei amici “difettosi”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rush Script MT"/>
              </a:rPr>
              <a:t>Abbiate una giornata meravigliosa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13" descr="MCj04347370000[1]"/>
          <p:cNvPicPr/>
          <p:nvPr/>
        </p:nvPicPr>
        <p:blipFill>
          <a:blip r:embed="rId2"/>
          <a:stretch/>
        </p:blipFill>
        <p:spPr>
          <a:xfrm>
            <a:off x="1116000" y="5410080"/>
            <a:ext cx="720720" cy="5335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5" descr="MCj04343870000[1]"/>
          <p:cNvPicPr/>
          <p:nvPr/>
        </p:nvPicPr>
        <p:blipFill>
          <a:blip r:embed="rId3"/>
          <a:stretch/>
        </p:blipFill>
        <p:spPr>
          <a:xfrm>
            <a:off x="175248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6" descr="MCj04347370000[1]"/>
          <p:cNvPicPr/>
          <p:nvPr/>
        </p:nvPicPr>
        <p:blipFill>
          <a:blip r:embed="rId4"/>
          <a:stretch/>
        </p:blipFill>
        <p:spPr>
          <a:xfrm>
            <a:off x="990720" y="5867280"/>
            <a:ext cx="865080" cy="762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7" descr="MCj04347370000[1]"/>
          <p:cNvPicPr/>
          <p:nvPr/>
        </p:nvPicPr>
        <p:blipFill>
          <a:blip r:embed="rId5"/>
          <a:stretch/>
        </p:blipFill>
        <p:spPr>
          <a:xfrm>
            <a:off x="3132000" y="60944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8" descr="MCj04347370000[1]"/>
          <p:cNvPicPr/>
          <p:nvPr/>
        </p:nvPicPr>
        <p:blipFill>
          <a:blip r:embed="rId6"/>
          <a:stretch/>
        </p:blipFill>
        <p:spPr>
          <a:xfrm>
            <a:off x="7020000" y="3068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9" descr="MCj04347370000[1]"/>
          <p:cNvPicPr/>
          <p:nvPr/>
        </p:nvPicPr>
        <p:blipFill>
          <a:blip r:embed="rId7"/>
          <a:stretch/>
        </p:blipFill>
        <p:spPr>
          <a:xfrm>
            <a:off x="5580000" y="4221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61" name="Text Box 9"/>
          <p:cNvSpPr/>
          <p:nvPr/>
        </p:nvSpPr>
        <p:spPr>
          <a:xfrm>
            <a:off x="304920" y="2743200"/>
            <a:ext cx="51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Copperplate Gothic Bold"/>
              </a:rPr>
              <a:t>A todos os meus amigos defeituosos”. Tenham um bom d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500" autoRev="1" fill="hold"/>
                                        <p:tgtEl>
                                          <p:spTgt spid="10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5" descr="C"/>
          <p:cNvPicPr/>
          <p:nvPr/>
        </p:nvPicPr>
        <p:blipFill>
          <a:blip r:embed="rId2"/>
          <a:stretch/>
        </p:blipFill>
        <p:spPr>
          <a:xfrm>
            <a:off x="1619280" y="5229360"/>
            <a:ext cx="669960" cy="7999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6" descr="k"/>
          <p:cNvPicPr/>
          <p:nvPr/>
        </p:nvPicPr>
        <p:blipFill>
          <a:blip r:embed="rId3"/>
          <a:stretch/>
        </p:blipFill>
        <p:spPr>
          <a:xfrm>
            <a:off x="2268360" y="5445000"/>
            <a:ext cx="703440" cy="762120"/>
          </a:xfrm>
          <a:prstGeom prst="rect">
            <a:avLst/>
          </a:prstGeom>
          <a:ln w="0">
            <a:noFill/>
          </a:ln>
        </p:spPr>
      </p:pic>
      <p:sp>
        <p:nvSpPr>
          <p:cNvPr id="1064" name="Text Box 5"/>
          <p:cNvSpPr/>
          <p:nvPr/>
        </p:nvSpPr>
        <p:spPr>
          <a:xfrm>
            <a:off x="250920" y="571680"/>
            <a:ext cx="607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e5ff"/>
                </a:solidFill>
                <a:latin typeface="Arial"/>
                <a:ea typeface="Arial"/>
              </a:rPr>
              <a:t>Não sou eu que devo dizer para enviares esta mensagem aos teus amigos, o importante è que ela tenha tocado o teu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r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3"/>
          <p:cNvSpPr/>
          <p:nvPr/>
        </p:nvSpPr>
        <p:spPr>
          <a:xfrm>
            <a:off x="403200" y="380880"/>
            <a:ext cx="272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ma senhora chinesa já idosa, carregava dois vasos grandes, cada um pendurado na ponta de uma madeira que se apoiava em seus omb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Text Box 3"/>
          <p:cNvSpPr/>
          <p:nvPr/>
        </p:nvSpPr>
        <p:spPr>
          <a:xfrm>
            <a:off x="6041880" y="601560"/>
            <a:ext cx="2492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Um dos vasos tinha uma rachadura, e o outro era perfeito e sempre levava todo o seu conteudo de á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3"/>
          <p:cNvSpPr/>
          <p:nvPr/>
        </p:nvSpPr>
        <p:spPr>
          <a:xfrm>
            <a:off x="365040" y="685800"/>
            <a:ext cx="2454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 fim do longo percurso o vaso defeituoso chegava sempre com  metade do seu conte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 Box 3"/>
          <p:cNvSpPr/>
          <p:nvPr/>
        </p:nvSpPr>
        <p:spPr>
          <a:xfrm>
            <a:off x="5737320" y="601560"/>
            <a:ext cx="2797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 foi assim por dois longos anos, a senhora idosa levava para casa um vaso e meio de agua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3"/>
          <p:cNvSpPr/>
          <p:nvPr/>
        </p:nvSpPr>
        <p:spPr>
          <a:xfrm>
            <a:off x="479520" y="677880"/>
            <a:ext cx="2873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 vaso perfeito era orgulhoso, pois cumpria  sempre a sua obrigaç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3"/>
          <p:cNvSpPr/>
          <p:nvPr/>
        </p:nvSpPr>
        <p:spPr>
          <a:xfrm>
            <a:off x="5975280" y="71280"/>
            <a:ext cx="3025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 vaso defeitoso ao contrário envergonhava-se da sua imperfeição;  perdia sempre  metade do seu conteu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3"/>
          <p:cNvSpPr/>
          <p:nvPr/>
        </p:nvSpPr>
        <p:spPr>
          <a:xfrm>
            <a:off x="555480" y="214200"/>
            <a:ext cx="2797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pois de dois anos, reconhecendo seu defeito durante um trajecto, falou com a senhora ido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 Box 3"/>
          <p:cNvSpPr/>
          <p:nvPr/>
        </p:nvSpPr>
        <p:spPr>
          <a:xfrm>
            <a:off x="6066000" y="9360"/>
            <a:ext cx="272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into muito,  que por causa do meu defeito  perca metade do meu conteu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52:53Z</dcterms:created>
  <dc:creator>Comtesse Aline</dc:creator>
  <dc:description/>
  <dc:language>en-US</dc:language>
  <cp:lastModifiedBy>MCoelho</cp:lastModifiedBy>
  <dcterms:modified xsi:type="dcterms:W3CDTF">2009-07-09T13:52:23Z</dcterms:modified>
  <cp:revision>25</cp:revision>
  <dc:subject/>
  <dc:title>La légende du pot fêlé</dc:title>
</cp:coreProperties>
</file>