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2EF-1688-4DAC-BD19-B94B66FF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AF3-BF49-4A1B-AEEE-2645204E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7EC-2D9B-4E1E-8A65-F9F20AFB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52D-D2EC-476E-8DE4-0CEC2FBC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759-CAA2-49BC-961A-4D37CD5E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B2A-CDC3-4B28-AB17-F64C714F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91A-97B4-4C75-84D6-75777F03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BD7-5BB8-49D9-A527-06C92111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AE4-F21D-4C8E-B5F2-6EA6EE0C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D8A-51C3-4664-8CCE-A06E9085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5D7-D53A-433B-98C8-A6141E34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B05-5ADE-4D13-8354-6C25AEDA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F67E-5BE2-46BA-A5AD-E30FA285F2A9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istery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AMANCA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thedral buil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in 11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y Documents\Personal\Corespondenta\Solomon\ieronimus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y Documents\Personal\Corespondenta\Solomon\344289228_77f7957ddb_o.jpg"/>
          <p:cNvPicPr/>
          <p:nvPr/>
        </p:nvPicPr>
        <p:blipFill>
          <a:blip r:embed="rId1"/>
          <a:stretch/>
        </p:blipFill>
        <p:spPr>
          <a:xfrm>
            <a:off x="762120" y="-54000"/>
            <a:ext cx="7619760" cy="696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mall detai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y Documents\Personal\Corespondenta\Solomon\994498559_1249961b53_o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y Documents\Personal\Corespondenta\Solomon\995344726_077a1d0431_o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y Documents\Personal\Corespondenta\Solomon\994499365_2873a78fc8_o.jpg"/>
          <p:cNvPicPr/>
          <p:nvPr/>
        </p:nvPicPr>
        <p:blipFill>
          <a:blip r:embed="rId1"/>
          <a:stretch/>
        </p:blipFill>
        <p:spPr>
          <a:xfrm>
            <a:off x="1952640" y="0"/>
            <a:ext cx="523872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7:37:50Z</dcterms:created>
  <dc:creator>Serban</dc:creator>
  <dc:description/>
  <dc:language>en-US</dc:language>
  <cp:lastModifiedBy>Lu</cp:lastModifiedBy>
  <dcterms:modified xsi:type="dcterms:W3CDTF">2008-04-20T23:18:34Z</dcterms:modified>
  <cp:revision>2</cp:revision>
  <dc:subject/>
  <dc:title>Mistere</dc:title>
</cp:coreProperties>
</file>