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6DD-785D-41DA-842D-AB5D286F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1BA-2F0A-42CE-88D0-C3C137C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F8A-3333-40D0-97C4-A854DBA0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001-1A78-46C4-8C98-3E23A56A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091-E785-41E4-A8B4-9176541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34E-375F-4E83-BFCE-9CC5104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C9B-AD17-46BF-A141-A4398EA6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CA2-F7F5-4640-A3D6-BF62C10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EDF-F50E-4FFD-BB93-136CE11F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A79-FA1C-47CB-90AE-41B4D58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969-2C13-4327-AEF9-B1BEEE1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B45-1ECB-4F43-8D89-97AE1F4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DFB-08A6-4B79-B09C-155C59FCC55A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stery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AMANC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thedral buil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1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y Documents\Personal\Corespondenta\Solomon\ieronimus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y Documents\Personal\Corespondenta\Solomon\344289228_77f7957ddb_o.jpg"/>
          <p:cNvPicPr/>
          <p:nvPr/>
        </p:nvPicPr>
        <p:blipFill>
          <a:blip r:embed="rId1"/>
          <a:stretch/>
        </p:blipFill>
        <p:spPr>
          <a:xfrm>
            <a:off x="762120" y="-54000"/>
            <a:ext cx="7619760" cy="696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mall deta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y Documents\Personal\Corespondenta\Solomon\994498559_1249961b53_o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y Documents\Personal\Corespondenta\Solomon\995344726_077a1d0431_o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y Documents\Personal\Corespondenta\Solomon\994499365_2873a78fc8_o.jpg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37:50Z</dcterms:created>
  <dc:creator>Serban</dc:creator>
  <dc:description/>
  <dc:language>en-US</dc:language>
  <cp:lastModifiedBy>Lu</cp:lastModifiedBy>
  <dcterms:modified xsi:type="dcterms:W3CDTF">2008-04-20T23:18:34Z</dcterms:modified>
  <cp:revision>2</cp:revision>
  <dc:subject/>
  <dc:title>Mistere</dc:title>
</cp:coreProperties>
</file>