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THAIR%20AR%20NEAMH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FCE-2B37-4BC6-9AC9-A830CFC2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01E-FE12-4424-A2C4-00FE7D2B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763-F6B1-47E9-96C3-08D07168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412-8ECA-4624-A8D4-402C51DC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9E3-50DC-4343-8F21-1D0F0E2D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16F-17C9-4BE0-B1BE-7121814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2B2-44A7-4404-A6F3-AB1A075F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D3E-BF5B-4121-8BE7-68ED0BB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E9F-03A3-4AD3-B4E6-007777C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A3B-D07E-4544-A765-9EA14F2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C63-543F-419D-84A1-4AB5F6C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A32-F22B-4EA1-9C05-31DAF0E5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3918-DBB1-4B8D-851C-337B47495E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THAIR%20AR%20NEAM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lia1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80880" y="1219320"/>
            <a:ext cx="8382240" cy="18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aixaDeTexto 5"/>
          <p:cNvSpPr/>
          <p:nvPr/>
        </p:nvSpPr>
        <p:spPr>
          <a:xfrm>
            <a:off x="90360" y="260280"/>
            <a:ext cx="887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00000"/>
                </a:solidFill>
                <a:latin typeface="Times New Roman"/>
              </a:rPr>
              <a:t> </a:t>
            </a:r>
            <a:r>
              <a:rPr b="1" i="1" lang="pt-PT" sz="3200" spc="-1" strike="noStrike">
                <a:solidFill>
                  <a:srgbClr val="c00000"/>
                </a:solidFill>
                <a:latin typeface="Times New Roman"/>
              </a:rPr>
              <a:t>QUATRO PEQUENAS HISTÓRIAS ENTERNECEDO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c00000"/>
                </a:solidFill>
                <a:latin typeface="Times New Roman"/>
              </a:rPr>
              <a:t>QUE ACHO VAIS GOSTAR DE 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dissolve/>
    <p:sndAc>
      <p:stSnd>
        <p:snd r:embed="rId2" name="ATHAIR%20AR%20NEAM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ixaDeTexto 1"/>
          <p:cNvSpPr/>
          <p:nvPr/>
        </p:nvSpPr>
        <p:spPr>
          <a:xfrm>
            <a:off x="14400" y="1341360"/>
            <a:ext cx="872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Conta uma testemunha ocular de Nova York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Num frio dia de Dezembro, alguns anos atrá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 rapazinho de cerca de 10 an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descalço, estava em pé em frente a uma loja de sapat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olhando a montra e tremendo de frio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a senhora aproximou-se do rapaz e disse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Tu estás com um pensamento tão profundo, a olhar essa montra!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Eu estava pedindo a Deus para me dar um par de sap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respondeu o garoto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 senhora tomou-o pela mão, entrou na loja e pediu ao empreg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para dar meia dúzia de pares de meias ao menino..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ixaDeTexto 1"/>
          <p:cNvSpPr/>
          <p:nvPr/>
        </p:nvSpPr>
        <p:spPr>
          <a:xfrm>
            <a:off x="0" y="18900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la também perguntou se poderia conseguir-l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a bacia com água e uma toal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O empregado atendeu-a rapidamente,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 ela levou o menino para a parte detrás da loja 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joelhando-se,  lavou os seus pés pequenos e secou-os com a toalha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Nesse meio tempo, o empregado havia trazido as mei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la calçou-as nos pés do gar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 também lhe comprou um par de sapatos. 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Depois entregou-lhe os outros pares de me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, carinhosamente, disse-lhe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Estás mais confortável, agora?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Quando ela se virou, para ir embora, o menino segurou-lhe na mã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olhou o seu rosto com lágrimas nos olhos e pergunt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- A  senhora é a mulher de Deu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argaridas1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124000" y="476280"/>
            <a:ext cx="5040360" cy="22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Arial"/>
              </a:rPr>
              <a:t>Quanta ternura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Arial"/>
              </a:rPr>
              <a:t>Um abraço                                     </a:t>
            </a:r>
            <a:r>
              <a:rPr b="1" lang="pt-BR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aixaDeTexto 5"/>
          <p:cNvSpPr/>
          <p:nvPr/>
        </p:nvSpPr>
        <p:spPr>
          <a:xfrm>
            <a:off x="179280" y="59500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0f0a8"/>
                </a:solidFill>
                <a:latin typeface="Times New Roman"/>
              </a:rPr>
              <a:t>Autor dos textos: </a:t>
            </a:r>
            <a:r>
              <a:rPr b="1" i="1" lang="pt-PT" sz="2400" spc="-1" strike="noStrike">
                <a:solidFill>
                  <a:srgbClr val="f0f0a8"/>
                </a:solidFill>
                <a:latin typeface="Times New Roman"/>
              </a:rPr>
              <a:t>Desconh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0f0a8"/>
                </a:solidFill>
                <a:latin typeface="Times New Roman"/>
              </a:rPr>
              <a:t>Composição e adaptação</a:t>
            </a:r>
            <a:r>
              <a:rPr b="1" i="1" lang="pt-PT" sz="2400" spc="-1" strike="noStrike">
                <a:solidFill>
                  <a:srgbClr val="f0f0a8"/>
                </a:solidFill>
                <a:latin typeface="Times New Roman"/>
              </a:rPr>
              <a:t>: L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aixaDeTexto 1"/>
          <p:cNvSpPr/>
          <p:nvPr/>
        </p:nvSpPr>
        <p:spPr>
          <a:xfrm>
            <a:off x="0" y="1773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O autor e conferencista Leo Buscaglia, certa ocasiã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falou de um concurso em que tinha sido convidad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como jurado.</a:t>
            </a:r>
            <a:br>
              <a:rPr sz="3200"/>
            </a:b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O objectivo era escolher a criança mais cuidadosa.</a:t>
            </a:r>
            <a:br>
              <a:rPr sz="3200"/>
            </a:b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Eis alguns dos venced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Tulipas1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aixaDeTexto 1"/>
          <p:cNvSpPr/>
          <p:nvPr/>
        </p:nvSpPr>
        <p:spPr>
          <a:xfrm>
            <a:off x="465120" y="1484280"/>
            <a:ext cx="79232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 menino de 4 anos tinha um vizinho ido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cuja esposa havia falecido recentemente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o vê-lo chorar, o menino foi para o quintal d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 sentou-se, simplesmente, no seu colo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Quando a mãe lhe perguntou o que tinha dito ao velhin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le respond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PT" sz="3200" spc="-1" strike="noStrike">
                <a:solidFill>
                  <a:srgbClr val="adadeb"/>
                </a:solidFill>
                <a:latin typeface="Times New Roman"/>
              </a:rPr>
              <a:t>- Nada. Só o ajudei a chora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Lotus3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1"/>
          <p:cNvSpPr/>
          <p:nvPr/>
        </p:nvSpPr>
        <p:spPr>
          <a:xfrm>
            <a:off x="684360" y="90792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Os alunos da professora do primeiro ano, Debbie Mo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stavam a examinar uma foto de família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Uma das crianças da f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tinha os cabelos de cor bem diferente dos ou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lguém sugeriu que essa criança tivesse sido adoptada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Logo uma menina disse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Sei tudo sobre adopção, porque eu fui adoptada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Logo outro aluno lhe perguntou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O que significa "ser adoptado"?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Significa - disse a menin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que tu cresceste no coração da tua mã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 não na barrig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Primula1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ixaDeTexto 1"/>
          <p:cNvSpPr/>
          <p:nvPr/>
        </p:nvSpPr>
        <p:spPr>
          <a:xfrm>
            <a:off x="-147600" y="1125360"/>
            <a:ext cx="9047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Sempre que estou decepcionado com o meu lugar na vi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 </a:t>
            </a: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u paro e penso no pequeno Jamie Scott. 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Jamie queria muito ter um papel na peça da esco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A mãe disse que tinha procurado preparar o seu coraç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pois ela temia que ele não fosse escolhido.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No dia em que os papéis foram distribuí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u fui com ela buscá-lo à esco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Jamie correu para a mã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com os olhos brilhantes de orgulho e emoção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Adivinha, mãe!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E disse aquelas palavras que continuariam a ser uma lição para mim:</a:t>
            </a:r>
            <a:br>
              <a:rPr sz="2400"/>
            </a:br>
            <a:r>
              <a:rPr b="1" i="1" lang="pt-PT" sz="2400" spc="-1" strike="noStrike">
                <a:solidFill>
                  <a:srgbClr val="adadeb"/>
                </a:solidFill>
                <a:latin typeface="Times New Roman"/>
              </a:rPr>
              <a:t>- Eu fui escolhido para bater palmas e espalhar a alegr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Rosa5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16:21:32Z</dcterms:created>
  <dc:creator>Cynthia</dc:creator>
  <dc:description/>
  <dc:language>en-US</dc:language>
  <cp:lastModifiedBy>Lenovo User</cp:lastModifiedBy>
  <dcterms:modified xsi:type="dcterms:W3CDTF">2010-06-24T18:49:37Z</dcterms:modified>
  <cp:revision>22</cp:revision>
  <dc:subject/>
  <dc:title>Slide sem título </dc:title>
</cp:coreProperties>
</file>