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D8B-2722-4CDC-B532-21CBC9B8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3DA-A23E-4C2E-92BB-683B2466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E9B-1597-48AD-A735-5863A122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A23-DEDB-433A-BD04-1A9148A8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38CC-99C4-465A-940C-7C1F3D6C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99D8-05EF-441F-A5B3-14558E95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4DD0-C932-4230-B3CF-ED14A3B7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4B32-6B5E-4515-8981-E7A83A8F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2696-2773-4F17-A122-F523D0B1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4C53-FBA9-4FE9-A367-6368C10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C5A0-E528-4551-B5D3-750A1F6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B1A-0468-4134-A100-9DFB7115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01D3-D9F0-4CA0-9083-3032895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E32B-7365-4CB8-B455-AEAAB9D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4DE6-C644-41F3-B4F2-AE94DA7F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418B-999A-436F-9C81-B225AF19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E085-674E-4223-95DF-441E7DB3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2FB-36AD-46D2-BE26-222B3182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CBE-8414-44C5-9A1A-B4E948ED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F6B-852A-4699-A41F-E79F55F6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A9A-5889-4D66-BFF4-3C80C4BD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8F4-4C93-4C9E-9231-060B7177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9EF-2A96-4954-924A-F42835BB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8B3-A8C2-484E-B0D7-A1F0ECA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DC8D-4D68-4873-A73A-24C67C68D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73D2-6DAF-4F5D-B846-3966468EE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567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TÓPiCOS </a:t>
            </a:r>
            <a:br>
              <a:rPr sz="6000"/>
            </a:b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DE </a:t>
            </a:r>
            <a:br>
              <a:rPr sz="6000"/>
            </a:b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SEGURANÇA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92360" y="458136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FAVOR LEI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ATENÇÃO A ESTA SITUAÇÃ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Se vires um papel no vidro traseiro , depois de entrares no carro, NÃO SAIAS para ver o que é…ARRANCA e noutro local retiras o papel. Pode estar algum ladrão à tua espera, enquanto vais ver o que diz o pa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or último, o "truque" do bebé chora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Se escutares o choro de um bebé em algum carro, deixa o teu instinto maternal de l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NÃO te aproximes, avisa algum guarda, pode ser uma gravaçã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O mesmo pode suceder se ouvires esse choro na porta ou cerca de tua ca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Chama a polícia e NUNCA abras a p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Isto foi mencionado no programa  America's Most Wanted, ao estar a fazer a análise do perfil de un assassino em séri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or favor envia esta mensagem a todas as pessoas que conheces. Poderá salvar uma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Quanto mais informados estamos, mais seguros nos sentire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Uma vela acesa não perde a sua luz, se se acender outra v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Tinha pensado enviar esta mensagem únicamente aos meus amigos, mas seguramente TODOS terão alguém a quem o envia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541440"/>
            <a:ext cx="777240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s-ES" sz="4800" spc="-1" strike="noStrike">
                <a:solidFill>
                  <a:srgbClr val="ffffff"/>
                </a:solidFill>
                <a:latin typeface="Arial Black"/>
              </a:rPr>
              <a:t>Tips do Tae Kwon D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O cotovelo é o ponto mais duro do corpo, se estás suficientemente perto, usa-o.</a:t>
            </a:r>
            <a:br>
              <a:rPr sz="4800"/>
            </a:br>
            <a:br>
              <a:rPr sz="2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9325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e um ladrão te pede a carte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NÃO LHA ENTREGUES NA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 M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Atira-a para o mais longe que puder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Enquanto ele a vai apanh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NA DIRECÇÃO OPOST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Se alguma vez te fecharem na mala de un carro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Parte os farolins traseiros, coloca o teu braço pelo buraco e acena..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O  condutor não verá, mas os outros condutores, sim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Isto já salvou muitas pessoa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79360" y="-27000"/>
            <a:ext cx="8569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s mulheres têm tendencia de entrar no carro e ficar a ver a carteira, a lista do supermercado, retocar a maquillage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NUNCA FAÇAS I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É a oportunidade para que alguém entre no lugar do passageiro e te obrigue a ir onde ele quei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LOGO QUE ENTRES NO CARRO, FECHA DE IMEDIATO AS PORT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... ARRANCA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Algunmas notas sobre os estacionament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A.) Antes de entrar  no carro, verifica que não esteja ninguém  dentro, ou alguém à volta da viatura que te observe.  Se assim for, afasta-te e procura um guard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B.) Se estás estacionada junto a una carrinha, entra no carro  pela  porta contrária à que está do lado da van. A maioría dos assassinos em série ataca as suas vítimas trancando-as entre a carrinha e o carr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C.) Olha o carro que está a seguir ao teu. Se alguém com aspecto “suspeito” ou “perigoso’’ estiver lá sentado, não te aproximes, e vai à procura de um guar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MELHOR PREVENIR QUE REMED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SEMPRE!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Usar o elevador em vez das escadas.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As escadas são alguns dos lugares preferidos pelos meleantes para atacar as suas vítima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576000"/>
            <a:ext cx="8748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e estás numa situação em que o ladrão tem uma arma mas não te tem de baixo de contro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RÁPI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O ladrão só poderá acertar 1 tiro em cada 25 (objecto em movimento) E mais, é quase certo que não te acerte num órgão vi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SEMP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As mulheres são muito fáceis de sentir compaix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Ted Bundy, um assassino em série era muito atractivo e de bons modos, e aproveitava-se deste sentimento muito feminino; usava uma bengala e fingia não poder com os pacotes para subir ao seu carro, pedia ajuda a alguma mulher só, e depois abusava del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21:05:30Z</dcterms:created>
  <dc:creator>JOAQUIN MARTINEZ</dc:creator>
  <dc:description/>
  <cp:keywords/>
  <dc:language>en-US</dc:language>
  <cp:lastModifiedBy>Normal User</cp:lastModifiedBy>
  <dcterms:modified xsi:type="dcterms:W3CDTF">2008-08-23T11:31:27Z</dcterms:modified>
  <cp:revision>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203082</vt:lpwstr>
  </property>
</Properties>
</file>