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497-7D71-4D9A-BDF2-414F48EA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AD3-7265-4ECB-9334-8952D31F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8DC-9B4D-49F5-B542-55717C47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AEB-2C15-4881-846A-B375607B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A867-DD81-477A-BD53-A61B9035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B5FD-484A-444B-9CCC-7958F72B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92E2-BE15-44BD-A521-6E8506A0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8033-62AD-401D-B5A4-65A157B2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C715-4097-4AA8-A7C5-38F957F9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0904-EC28-44AB-95C7-6443F226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BDAD-1A70-45BA-8223-015A91C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5FB-2AE8-4EF4-8D1B-B3D5B9A8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4A1B-AFD7-45EE-8E1C-43A253D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ACEE-93FD-4D8E-962E-45263316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64A0-C078-4E36-A473-4144C79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D893-4CC8-4AF4-94A5-4AF8825B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4487-2626-4C10-AD48-2CAFEECA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C9A-2BFB-4796-9331-5F40621B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B49-8208-452C-BD78-CB085FE6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716-CEED-48A5-8BBC-77D28A4B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AC3-D4B5-40E5-A04C-4FBDF8F1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CF0-D2C2-4E2A-A2D7-E847CCA2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07F-F713-4490-8315-6AA768F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B25-B9B5-4928-8B23-0C2DF050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E4CE-34DA-4D9A-8E11-89FDA7B63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B346-C56F-4550-A5C5-56809D5AC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567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TÓPiCOS </a:t>
            </a:r>
            <a:br>
              <a:rPr sz="6000"/>
            </a:b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DE </a:t>
            </a:r>
            <a:br>
              <a:rPr sz="6000"/>
            </a:b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SEGURANÇA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92360" y="458136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FAVOR LEI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ATENÇÃO A ESTA SITUAÇÃ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Se vires um papel no vidro traseiro , depois de entrares no carro, NÃO SAIAS para ver o que é…ARRANCA e noutro local retiras o papel. Pode estar algum ladrão à tua espera, enquanto vais ver o que diz o pa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or último, o "truque" do bebé chora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Se escutares o choro de um bebé em algum carro, deixa o teu instinto maternal de l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NÃO te aproximes, avisa algum guarda, pode ser uma gravaçã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O mesmo pode suceder se ouvires esse choro na porta ou cerca de tua ca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Chama a polícia e NUNCA abras a p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Isto foi mencionado no programa  America's Most Wanted, ao estar a fazer a análise do perfil de un assassino em séri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or favor envia esta mensagem a todas as pessoas que conheces. Poderá salvar uma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Quanto mais informados estamos, mais seguros nos sentire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Uma vela acesa não perde a sua luz, se se acender outra v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Tinha pensado enviar esta mensagem únicamente aos meus amigos, mas seguramente TODOS terão alguém a quem o envia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541440"/>
            <a:ext cx="777240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s-ES" sz="4800" spc="-1" strike="noStrike">
                <a:solidFill>
                  <a:srgbClr val="ffffff"/>
                </a:solidFill>
                <a:latin typeface="Arial Black"/>
              </a:rPr>
              <a:t>Tips do Tae Kwon D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O cotovelo é o ponto mais duro do corpo, se estás suficientemente perto, usa-o.</a:t>
            </a:r>
            <a:br>
              <a:rPr sz="4800"/>
            </a:br>
            <a:br>
              <a:rPr sz="2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9325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e um ladrão te pede a carte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NÃO LHA ENTREGUES NA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 M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Atira-a para o mais longe que puder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Enquanto ele a vai apanh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NA DIRECÇÃO OPOST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Se alguma vez te fecharem na mala de un carro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Parte os farolins traseiros, coloca o teu braço pelo buraco e acena..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O  condutor não verá, mas os outros condutores, sim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Isto já salvou muitas pessoa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79360" y="-27000"/>
            <a:ext cx="8569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s mulheres têm tendencia de entrar no carro e ficar a ver a carteira, a lista do supermercado, retocar a maquillage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NUNCA FAÇAS I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É a oportunidade para que alguém entre no lugar do passageiro e te obrigue a ir onde ele quei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LOGO QUE ENTRES NO CARRO, FECHA DE IMEDIATO AS PORT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... ARRANCA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Algunmas notas sobre os estacionament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A.) Antes de entrar  no carro, verifica que não esteja ninguém  dentro, ou alguém à volta da viatura que te observe.  Se assim for, afasta-te e procura um guard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B.) Se estás estacionada junto a una carrinha, entra no carro  pela  porta contrária à que está do lado da van. A maioría dos assassinos em série ataca as suas vítimas trancando-as entre a carrinha e o carr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C.) Olha o carro que está a seguir ao teu. Se alguém com aspecto “suspeito” ou “perigoso’’ estiver lá sentado, não te aproximes, e vai à procura de um guar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MELHOR PREVENIR QUE REMED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SEMPRE!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Usar o elevador em vez das escadas.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As escadas são alguns dos lugares preferidos pelos meleantes para atacar as suas vítima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576000"/>
            <a:ext cx="8748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e estás numa situação em que o ladrão tem uma arma mas não te tem de baixo de contro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RÁPI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O ladrão só poderá acertar 1 tiro em cada 25 (objecto em movimento) E mais, é quase certo que não te acerte num órgão vi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SEMP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As mulheres são muito fáceis de sentir compaix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Ted Bundy, um assassino em série era muito atractivo e de bons modos, e aproveitava-se deste sentimento muito feminino; usava uma bengala e fingia não poder com os pacotes para subir ao seu carro, pedia ajuda a alguma mulher só, e depois abusava del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21:05:30Z</dcterms:created>
  <dc:creator>JOAQUIN MARTINEZ</dc:creator>
  <dc:description/>
  <cp:keywords/>
  <dc:language>en-US</dc:language>
  <cp:lastModifiedBy>Normal User</cp:lastModifiedBy>
  <dcterms:modified xsi:type="dcterms:W3CDTF">2008-08-23T11:31:27Z</dcterms:modified>
  <cp:revision>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203082</vt:lpwstr>
  </property>
</Properties>
</file>