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B80-F752-42DA-9B05-C1DB1ED5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923-EC95-49B1-957B-66BFC60D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7D6-DE90-4F35-8C3C-14077341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2B7-C586-4B4D-B213-B4820450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20F-DB93-4AA9-9921-8F859964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132-9D20-46C9-B143-4898BFC3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2D8-1AF7-409F-AE34-2698E7C7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2D5-DB86-4D9E-B431-277E40EE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AC3-CB0B-4A57-B59B-42DA0A4D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940-731B-4F07-958A-B5CAB040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3F6-E641-47D5-8F7B-892C304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826-C079-455F-B1E5-C20C76FD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05C6-3CE8-4501-A45A-D2F57B1DE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5410080" y="4647960"/>
            <a:ext cx="1143000" cy="68580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276360" y="4495320"/>
            <a:ext cx="1066680" cy="76212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502920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 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696080" y="1752480"/>
            <a:ext cx="1143000" cy="7632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2057400"/>
            <a:ext cx="1143000" cy="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1371600"/>
            <a:ext cx="39621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ZIP-TIE’s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EAKERS WHICH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TO THE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 TURRE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6172200" y="3962160"/>
            <a:ext cx="685800" cy="99036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4876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8120" y="5943600"/>
            <a:ext cx="30477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 how much bette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cture is with a flas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7620120" y="1218960"/>
            <a:ext cx="1295280" cy="68580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23880"/>
            <a:ext cx="2209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T HEA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ST G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1523520"/>
            <a:ext cx="1523880" cy="129564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752480" y="1371600"/>
            <a:ext cx="76320" cy="144792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43828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34320" y="838080"/>
            <a:ext cx="761760" cy="83844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04920"/>
            <a:ext cx="14475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L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4419720"/>
            <a:ext cx="914400" cy="76176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4114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” TUR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066680"/>
            <a:ext cx="914400" cy="76212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19810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F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BALL” TUR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077320" y="3048120"/>
            <a:ext cx="761760" cy="83808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733920"/>
            <a:ext cx="19810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ST G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V="1">
            <a:off x="2819520" y="3809520"/>
            <a:ext cx="1447560" cy="22860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809880"/>
            <a:ext cx="2438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 WHEEL STR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638320" y="4647960"/>
            <a:ext cx="381240" cy="106668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563868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AIL GUNNER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 (OFF LIM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724280" y="3124080"/>
            <a:ext cx="914400" cy="76212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2666880"/>
            <a:ext cx="2209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S QUEEN 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352680" y="2743200"/>
            <a:ext cx="914400" cy="76212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286000"/>
            <a:ext cx="2209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S QUEEN 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4876920"/>
            <a:ext cx="1066680" cy="76176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449568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LAUNCH COM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162560" y="4419720"/>
            <a:ext cx="609480" cy="152388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3962520"/>
            <a:ext cx="2514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96080" y="3124080"/>
            <a:ext cx="838440" cy="243864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2743200"/>
            <a:ext cx="22100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UCKLE-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57800" y="1752480"/>
            <a:ext cx="152280" cy="106704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2193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ER SITE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GLAS AIRCRAFT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 flipV="1">
            <a:off x="456840" y="914040"/>
            <a:ext cx="762120" cy="106668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85800" y="3962520"/>
            <a:ext cx="1295280" cy="68580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35268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OR &am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A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2514600"/>
            <a:ext cx="1143000" cy="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228600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 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28600" y="1447560"/>
            <a:ext cx="914400" cy="53316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752480"/>
            <a:ext cx="1218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PI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486400" y="228600"/>
            <a:ext cx="228600" cy="1295280"/>
          </a:xfrm>
          <a:prstGeom prst="line">
            <a:avLst/>
          </a:prstGeom>
          <a:ln w="10152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2193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TUR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6:14:07Z</dcterms:created>
  <dc:creator>Preferred Customer</dc:creator>
  <dc:description/>
  <dc:language>en-US</dc:language>
  <cp:lastModifiedBy>Preferred Customer</cp:lastModifiedBy>
  <dcterms:modified xsi:type="dcterms:W3CDTF">2008-07-09T00:12:20Z</dcterms:modified>
  <cp:revision>18</cp:revision>
  <dc:subject/>
  <dc:title>Slide 1</dc:title>
</cp:coreProperties>
</file>