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EEF-7288-4805-B17F-FA9163B8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2B9-EA8D-4D59-AD0F-5845BEEB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667-649B-4E70-B864-0F209031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816-3589-4976-B626-94A4D035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8E6-1A17-465E-9D48-B66E76C4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797-D05C-48DB-A148-87C310E8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79D-54A7-4D35-8BB7-268AB2A1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3D6-4507-4479-BE94-D976A7C4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056-FF79-4912-9B22-8F5D6C20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9EE-0887-46C5-BBF4-48E80513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78C-57B4-4F70-B899-301CFE65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6E55-89CD-412A-8F62-CC210401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469D-1E39-4557-AA51-727391E64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5410080" y="4647960"/>
            <a:ext cx="1143000" cy="68580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276360" y="4495320"/>
            <a:ext cx="1066680" cy="76212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5029200"/>
            <a:ext cx="1371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MB 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696080" y="1752480"/>
            <a:ext cx="1143000" cy="7632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96080" y="2057400"/>
            <a:ext cx="1143000" cy="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1371600"/>
            <a:ext cx="39621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E ZIP-TIE’s 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EAKERS WHICH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TO THE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 TURRE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6172200" y="3962160"/>
            <a:ext cx="685800" cy="99036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4876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8120" y="5943600"/>
            <a:ext cx="30477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e how much bette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cture is with a flas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7620120" y="1218960"/>
            <a:ext cx="1295280" cy="68580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23880"/>
            <a:ext cx="2209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T HEA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ST GU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1523520"/>
            <a:ext cx="1523880" cy="129564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752480" y="1371600"/>
            <a:ext cx="76320" cy="144792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43828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34320" y="838080"/>
            <a:ext cx="761760" cy="83844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04920"/>
            <a:ext cx="14475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L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4419720"/>
            <a:ext cx="914400" cy="76176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41148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” TUR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066680"/>
            <a:ext cx="914400" cy="76212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19810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F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BALL” TUR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8077320" y="3048120"/>
            <a:ext cx="761760" cy="83808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3733920"/>
            <a:ext cx="19810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ST GU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V="1">
            <a:off x="2819520" y="3809520"/>
            <a:ext cx="1447560" cy="22860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809880"/>
            <a:ext cx="2438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 WHEEL STR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638320" y="4647960"/>
            <a:ext cx="381240" cy="106668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563868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AIL GUNNER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ON (OFF LIM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724280" y="3124080"/>
            <a:ext cx="914400" cy="76212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2666880"/>
            <a:ext cx="2209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S QUEEN 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352680" y="2743200"/>
            <a:ext cx="914400" cy="76212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286000"/>
            <a:ext cx="2209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S QUEEN 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4876920"/>
            <a:ext cx="1066680" cy="76176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449568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LAUNCH COM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162560" y="4419720"/>
            <a:ext cx="609480" cy="152388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3962520"/>
            <a:ext cx="2514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96080" y="3124080"/>
            <a:ext cx="838440" cy="243864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2743200"/>
            <a:ext cx="22100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UCKLE-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257800" y="1752480"/>
            <a:ext cx="152280" cy="106704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2193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ER SITE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GLAS AIRCRAFT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 flipV="1">
            <a:off x="456840" y="914040"/>
            <a:ext cx="762120" cy="106668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85800" y="3962520"/>
            <a:ext cx="1295280" cy="68580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3352680"/>
            <a:ext cx="1828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OR &am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MBA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2514600"/>
            <a:ext cx="1143000" cy="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2286000"/>
            <a:ext cx="1371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MB 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228600" y="1447560"/>
            <a:ext cx="914400" cy="53316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752480"/>
            <a:ext cx="1218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PI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486400" y="228600"/>
            <a:ext cx="228600" cy="129528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12193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TUR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6:14:07Z</dcterms:created>
  <dc:creator>Preferred Customer</dc:creator>
  <dc:description/>
  <dc:language>en-US</dc:language>
  <cp:lastModifiedBy>Preferred Customer</cp:lastModifiedBy>
  <dcterms:modified xsi:type="dcterms:W3CDTF">2008-07-09T00:12:20Z</dcterms:modified>
  <cp:revision>18</cp:revision>
  <dc:subject/>
  <dc:title>Slide 1</dc:title>
</cp:coreProperties>
</file>