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EC45B-B61D-4441-878C-F4F509CF0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E3AD5-7F7E-4107-96DA-5F403AEF8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754D7-B65D-4E2D-9260-F0DDA135D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1156A-12A4-4E83-A369-735F082A6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0A48E-6004-4985-A039-CF2AB6AAB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F4B4A-E7E8-4F68-91C1-88D0B2818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42044-8BA5-4729-BB60-057BC0AA9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CAD52-D7BE-4283-A5B1-F7723C8D7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F17EC-5534-4316-8112-20B65CF52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AC196-D635-42C1-AD2C-A0685ABBA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D66AA-90CD-41F1-AB4F-15251C1B7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EA8AA-B5D2-4C75-8A87-C519D9114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66382-13DB-492B-969F-F0592817B7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Hiroshima em 1945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268360" y="333360"/>
            <a:ext cx="4658040" cy="633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Sem comentários!!!!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556000" y="1989000"/>
            <a:ext cx="3813120" cy="254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203640" y="1773360"/>
            <a:ext cx="2855880" cy="285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E hoje?...!!!!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?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0" y="388620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dos sabemos que Hiroshima ficou arrasada em Agosto de 1945 pela bomba atómica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 entanto, os japoneses, em 62 anos, fizeram este «milagre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As cores da cidade...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?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14T15:08:52Z</dcterms:created>
  <dc:creator> </dc:creator>
  <dc:description/>
  <dc:language>en-US</dc:language>
  <cp:lastModifiedBy>REN</cp:lastModifiedBy>
  <dcterms:modified xsi:type="dcterms:W3CDTF">2008-07-14T15:10:28Z</dcterms:modified>
  <cp:revision>2</cp:revision>
  <dc:subject/>
  <dc:title>Hiroshima em 1945 </dc:title>
</cp:coreProperties>
</file>