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206-9294-4769-930A-36A689AD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EAE-D335-47EE-BA56-261FDC06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7A2-E460-4C52-933C-E7A3C32C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655-AA2B-4DBA-BDD2-5FA2E881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8DF-7D3F-40D6-83EE-C798EB09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4F9-0D52-4BFC-966C-0E712CEF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553-7E31-4952-87A3-445029A9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2AE-3862-483A-A572-07826BEB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457-A4B5-4050-9D51-58F8722D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F99-607B-4A08-9332-690AE955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AB0-2E7E-4F09-8E84-7CB23893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C6B-6557-4D33-957F-66A3DCB1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D5DE-331F-4235-8D61-ACA6731A8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iroshima em 194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65804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em comentários!!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8131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3640" y="1773360"/>
            <a:ext cx="2855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 hoje?...!!!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os sabemos que Hiroshima ficou arrasada em Agosto de 1945 pela bomba atómic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ntanto, os japoneses, em 62 anos, fizeram este «milagre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 cores da cidade..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5:08:52Z</dcterms:created>
  <dc:creator> </dc:creator>
  <dc:description/>
  <dc:language>en-US</dc:language>
  <cp:lastModifiedBy>REN</cp:lastModifiedBy>
  <dcterms:modified xsi:type="dcterms:W3CDTF">2008-07-14T15:10:28Z</dcterms:modified>
  <cp:revision>2</cp:revision>
  <dc:subject/>
  <dc:title>Hiroshima em 1945 </dc:title>
</cp:coreProperties>
</file>