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celine_dion_because_of_you_loved_me%5B1%5D%20peso%20reduzido%5B1%5D.wav" ContentType="audio/x-wav"/>
  <Override PartName="/ppt/media/image9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A8D4-0F1F-4289-BCFC-D17E877B476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cio com som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D1F-A768-4010-8AC1-CF240CB1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6E7-EF8D-4AA0-AD00-3C1E79CA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09D2-A40B-4AE5-9323-06CD2F0C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60F-CE18-4794-B261-48E75039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1199-7306-4734-BD5A-6A94C519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24D5-E375-4A58-9E4D-C75E1C2B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E83-2062-4C04-9975-F6EE6653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EB7-9351-49B2-A4CB-76F16809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46DD-DA61-41C5-8962-E121A444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6F6-6893-44CA-BCB4-8D2CCCB8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1F6-C941-477A-92D7-D3454E0D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05C1-00C5-4FFA-9A75-1ADD61ED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4BAA-5946-4390-BF18-E54489812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eline_dion_because_of_you_loved_me%5B1%5D%20peso%20reduzido%5B1%5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4572000"/>
            <a:ext cx="7010280" cy="825120"/>
          </a:xfrm>
          <a:prstGeom prst="rect">
            <a:avLst/>
          </a:prstGeom>
          <a:noFill/>
          <a:ln w="0">
            <a:noFill/>
          </a:ln>
          <a:effectLst>
            <a:outerShdw dist="63504" dir="13016092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00"/>
                </a:solidFill>
                <a:latin typeface="Arial Black"/>
                <a:ea typeface="Tahoma"/>
              </a:rPr>
              <a:t>Hoje recebi flores!...</a:t>
            </a:r>
            <a:r>
              <a:rPr b="1" lang="en-US" sz="4800" spc="-1" strike="noStrike">
                <a:solidFill>
                  <a:srgbClr val="cc3300"/>
                </a:solidFill>
                <a:latin typeface="Arial Black"/>
                <a:ea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jurgarden01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667560" cy="4444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4400" y="4724280"/>
            <a:ext cx="7238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Verdana"/>
                <a:ea typeface="Tahoma"/>
              </a:rPr>
              <a:t>DENUNCIEM A VIOLÊNCIA... !!!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80"/>
                </a:solidFill>
                <a:latin typeface="Verdana"/>
                <a:ea typeface="Arial"/>
              </a:rPr>
              <a:t>Violência contra tod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Verdana"/>
                <a:ea typeface="Arial"/>
              </a:rPr>
              <a:t>DÊ UM BASTA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4041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Não é o meu aniversário ou nenhum outro dia especial; Tivemos a nossa primeira discussão ontem à noite e ele me disse muitas coisas cruéis que me ofenderam de verdad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Mas sei que está arrependido e não as disse a sério, porque ele me enviou flores hoje.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E não é o nosso aniversário ou nenhum outro dia especial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mage001" descr=""/>
          <p:cNvPicPr/>
          <p:nvPr/>
        </p:nvPicPr>
        <p:blipFill>
          <a:blip r:embed="rId1"/>
          <a:stretch/>
        </p:blipFill>
        <p:spPr>
          <a:xfrm>
            <a:off x="2114640" y="228600"/>
            <a:ext cx="4895640" cy="367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002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3886200"/>
            <a:ext cx="838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ele atirou-me contra a parede e começou a asfixiar-me. Parecia um pesadelo, mas dos pesadelos acordamos e sabemos que não são rea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Hoje acordei cheia de dores e com golpes em todos lados.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Mas eu sei que ele está arrependido, porque me enviou flores ho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E não é Dia dos Namorados ou nenhum outro dia especial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003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38862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à noite bateu-me e ameaçou matar-m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Nem a maquiagem ou as mangas comprid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poderiam ocultar os cortes e golpes que m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casionou desta ve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Não pude ir ao empreg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hoje porque não queria que percebessem. Mas eu sei que está arrependido porque e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me enviou flores hoje. E não era Dia das Mães ou nenhum outro dia espec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004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39816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à noite ele voltou a bater-me, mas desta vez foi muito pior. Se conseguir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deixá-lo, o que é vou fazer? Como poderi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eu sozinha manter os meus filhos?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O que acontecerá se faltar o dinheir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Tenho tanto medo dele! Mas dependo tanto dele que tenho medo de o deixar. Mas eu sei que está arrependido, porque ele me enviou flores hoje.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64771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005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388620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Hoje é um dia muito especial: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É o dia do meu funeral.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finalmente conseguiu matar-m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Bateu-me até eu morrer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005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3962520"/>
            <a:ext cx="7543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Se ao menos eu tivesse tido a coragem e a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força para o deixar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Se tivesse pedido ajuda profissiona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ahoma"/>
                <a:ea typeface="Tahoma"/>
              </a:rPr>
              <a:t>Hoje não teria recebido flore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hietaniemi-cemetery06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667560" cy="4444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4876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80"/>
                </a:solidFill>
                <a:uFillTx/>
                <a:latin typeface="Tahoma"/>
                <a:ea typeface="Tahoma"/>
              </a:rPr>
              <a:t>Por uma vida sem violência!!!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ahoma"/>
                <a:ea typeface="Tahoma"/>
              </a:rPr>
              <a:t>Partilhem essa mensagem para criar consciência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benard_06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324480" cy="4219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3520" y="457200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PARA QUE SE TENHA RESPEITO PARA COM A 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MULHER, COM AS CRIANÇAS, COM O IDOSO, ENFIM 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QUERIDOS AMIGOS... QUE SE TENHA RESPEITO COM 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O PRÓXIMO, SEJA QUEM FOR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7:10:21Z</dcterms:created>
  <dc:creator>Falcao</dc:creator>
  <dc:description/>
  <dc:language>en-US</dc:language>
  <cp:lastModifiedBy>jroberto</cp:lastModifiedBy>
  <dcterms:modified xsi:type="dcterms:W3CDTF">2007-09-05T12:30:48Z</dcterms:modified>
  <cp:revision>11</cp:revision>
  <dc:subject/>
  <dc:title>Apresentação do PowerPoint</dc:title>
</cp:coreProperties>
</file>