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celine_dion_because_of_you_loved_me%5B1%5D%20peso%20reduzido%5B1%5D.wav" ContentType="audio/x-wav"/>
  <Override PartName="/ppt/media/image9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E973-C931-4591-8B5C-6159B134556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cio com som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316F-6DEB-4E89-BE0B-3AFDD10F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68FC-E5B9-4EFF-A787-E62F342C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B37B-9022-4B09-B202-836D3B87F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76B0-D9D3-48CC-B310-437CD64B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F5F2-53C6-4711-988C-9FDE8AF3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6EC6-4952-4EDA-9FDF-94B3B0F1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AEAF-C03A-4DA9-9C43-0331804C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1B62-6770-4287-92C9-0C649E8B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B2CC-0654-420D-9C09-70079DBA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704C-8B72-443B-BF95-2E06EA83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EBA4-131B-48D3-8272-9FDA798E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DA31-1524-4DAB-B656-07F0542E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CE05-3BB8-4A49-91CB-D9A10930B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eline_dion_because_of_you_loved_me%5B1%5D%20peso%20reduzido%5B1%5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19320" y="4572000"/>
            <a:ext cx="7010280" cy="825120"/>
          </a:xfrm>
          <a:prstGeom prst="rect">
            <a:avLst/>
          </a:prstGeom>
          <a:noFill/>
          <a:ln w="0">
            <a:noFill/>
          </a:ln>
          <a:effectLst>
            <a:outerShdw dist="63504" dir="13016092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00"/>
                </a:solidFill>
                <a:latin typeface="Arial Black"/>
                <a:ea typeface="Tahoma"/>
              </a:rPr>
              <a:t>Hoje recebi flores!...</a:t>
            </a:r>
            <a:r>
              <a:rPr b="1" lang="en-US" sz="4800" spc="-1" strike="noStrike">
                <a:solidFill>
                  <a:srgbClr val="cc3300"/>
                </a:solidFill>
                <a:latin typeface="Arial Black"/>
                <a:ea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djurgarden01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667560" cy="4444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14400" y="4724280"/>
            <a:ext cx="72388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Verdana"/>
                <a:ea typeface="Tahoma"/>
              </a:rPr>
              <a:t>DENUNCIEM A VIOLÊNCIA... !!!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80"/>
                </a:solidFill>
                <a:latin typeface="Verdana"/>
                <a:ea typeface="Arial"/>
              </a:rPr>
              <a:t>Violência contra tod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Verdana"/>
                <a:ea typeface="Arial"/>
              </a:rPr>
              <a:t>DÊ UM BASTA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4041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Não é o meu aniversário ou nenhum outro dia especial; Tivemos a nossa primeira discussão ontem à noite e ele me disse muitas coisas cruéis que me ofenderam de verdade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Mas sei que está arrependido e não as disse a sério, porque ele me enviou flores hoje.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E não é o nosso aniversário ou nenhum outro dia especial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image001" descr=""/>
          <p:cNvPicPr/>
          <p:nvPr/>
        </p:nvPicPr>
        <p:blipFill>
          <a:blip r:embed="rId1"/>
          <a:stretch/>
        </p:blipFill>
        <p:spPr>
          <a:xfrm>
            <a:off x="2114640" y="228600"/>
            <a:ext cx="4895640" cy="3672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14400" y="632448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ccff"/>
                </a:solidFill>
                <a:latin typeface="Times New Roman"/>
              </a:rPr>
              <a:t>Ajude uma vítima da violência contra a mulher, faça um depósito no,  Bradesco Ag. 2777-4 – Cc. 00118702 - Tatiana Cerruti  Li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002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762440" cy="3562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3886200"/>
            <a:ext cx="8382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Ontem ele atirou-me contra a parede e começou a asfixiar-me. Parecia um pesadelo, mas dos pesadelos acordamos e sabemos que não são rea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Hoje acordei cheia de dores e com golpes em todos lados.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Mas eu sei que ele está arrependido, porque me enviou flores hoj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E não é Dia dos Namorados ou nenhum outro dia especial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632448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ccff"/>
                </a:solidFill>
                <a:latin typeface="Times New Roman"/>
              </a:rPr>
              <a:t>Ajude uma vítima da violência contra a mulher, faça um depósito no,  Bradesco Ag. 2777-4 – Cc. 00118702 - Tatiana Cerruti  Li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003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762440" cy="3562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388620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Ontem à noite bateu-me e ameaçou matar-me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Nem a maquiagem ou as mangas comprida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poderiam ocultar os cortes e golpes que m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ocasionou desta vez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Não pude ir ao empreg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hoje porque não queria que percebessem. Mas eu sei que está arrependido porque e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me enviou flores hoje. E não era Dia das Mães ou nenhum outro dia especi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632448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ccff"/>
                </a:solidFill>
                <a:latin typeface="Times New Roman"/>
              </a:rPr>
              <a:t>Ajude uma vítima da violência contra a mulher, faça um depósito no,  Bradesco Ag. 2777-4 – Cc. 00118702 - Tatiana Cerruti  Li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004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762440" cy="3562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3520" y="3981600"/>
            <a:ext cx="8076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33"/>
                </a:solidFill>
                <a:latin typeface="Tahoma"/>
                <a:ea typeface="Tahoma"/>
              </a:rPr>
              <a:t>Ontem à noite ele voltou a bater-me, mas desta vez foi muito pior. Se conseguir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pt-BR" sz="2400" spc="-1" strike="noStrike">
                <a:solidFill>
                  <a:srgbClr val="000033"/>
                </a:solidFill>
                <a:latin typeface="Tahoma"/>
                <a:ea typeface="Tahoma"/>
              </a:rPr>
              <a:t>deixá-lo, o que é vou fazer? Como poderia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pt-BR" sz="2400" spc="-1" strike="noStrike">
                <a:solidFill>
                  <a:srgbClr val="000033"/>
                </a:solidFill>
                <a:latin typeface="Tahoma"/>
                <a:ea typeface="Tahoma"/>
              </a:rPr>
              <a:t>eu sozinha manter os meus filhos?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br>
              <a:rPr sz="2400"/>
            </a:br>
            <a:r>
              <a:rPr b="0" lang="pt-BR" sz="2400" spc="-1" strike="noStrike">
                <a:solidFill>
                  <a:srgbClr val="000033"/>
                </a:solidFill>
                <a:latin typeface="Tahoma"/>
                <a:ea typeface="Tahoma"/>
              </a:rPr>
              <a:t>O que acontecerá se faltar o dinheir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33"/>
                </a:solidFill>
                <a:latin typeface="Tahoma"/>
                <a:ea typeface="Tahoma"/>
              </a:rPr>
              <a:t>Tenho tanto medo dele! Mas dependo tanto dele que tenho medo de o deixar. Mas eu sei que está arrependido, porque ele me enviou flores hoje.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647712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ccff"/>
                </a:solidFill>
                <a:latin typeface="Times New Roman"/>
              </a:rPr>
              <a:t>Ajude uma vítima da violência contra a mulher, faça um depósito no,  Bradesco Ag. 2777-4 – Cc. 00118702 - Tatiana Cerruti  Li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005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762440" cy="3562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2120" y="3886200"/>
            <a:ext cx="761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Hoje é um dia muito especial: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É o dia do meu funeral.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Ontem finalmente conseguiu matar-me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Bateu-me até eu morrer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005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762440" cy="3562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38080" y="3962520"/>
            <a:ext cx="7543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Se ao menos eu tivesse tido a coragem e a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força para o deixar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Se tivesse pedido ajuda profissional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ahoma"/>
                <a:ea typeface="Tahoma"/>
              </a:rPr>
              <a:t>Hoje não teria recebido flores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632448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ccff"/>
                </a:solidFill>
                <a:latin typeface="Times New Roman"/>
              </a:rPr>
              <a:t>Ajude uma vítima da violência contra a mulher, faça um depósito no,  Bradesco Ag. 2777-4 – Cc. 00118702 - Tatiana Cerruti  Li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hietaniemi-cemetery06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667560" cy="4444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3520" y="487692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80"/>
                </a:solidFill>
                <a:uFillTx/>
                <a:latin typeface="Tahoma"/>
                <a:ea typeface="Tahoma"/>
              </a:rPr>
              <a:t>Por uma vida sem violência!!! 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ahoma"/>
                <a:ea typeface="Tahoma"/>
              </a:rPr>
              <a:t>Partilhem essa mensagem para criar consciência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632448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ccff"/>
                </a:solidFill>
                <a:latin typeface="Times New Roman"/>
              </a:rPr>
              <a:t>Ajude uma vítima da violência contra a mulher, faça um depósito no,  Bradesco Ag. 2777-4 – Cc. 00118702 - Tatiana Cerruti  Li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benard_06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324480" cy="4219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3520" y="457200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ahoma"/>
                <a:ea typeface="Tahoma"/>
              </a:rPr>
              <a:t>PARA QUE SE TENHA RESPEITO PARA COM A </a:t>
            </a:r>
            <a:br>
              <a:rPr sz="2400"/>
            </a:br>
            <a:r>
              <a:rPr b="0" lang="en-US" sz="2400" spc="-1" strike="noStrike">
                <a:solidFill>
                  <a:srgbClr val="000080"/>
                </a:solidFill>
                <a:latin typeface="Tahoma"/>
                <a:ea typeface="Tahoma"/>
              </a:rPr>
              <a:t>MULHER, COM AS CRIANÇAS, COM O IDOSO, ENFIM </a:t>
            </a:r>
            <a:br>
              <a:rPr sz="2400"/>
            </a:br>
            <a:r>
              <a:rPr b="0" lang="en-US" sz="2400" spc="-1" strike="noStrike">
                <a:solidFill>
                  <a:srgbClr val="000080"/>
                </a:solidFill>
                <a:latin typeface="Tahoma"/>
                <a:ea typeface="Tahoma"/>
              </a:rPr>
              <a:t>QUERIDOS AMIGOS... QUE SE TENHA RESPEITO COM </a:t>
            </a:r>
            <a:br>
              <a:rPr sz="2400"/>
            </a:br>
            <a:r>
              <a:rPr b="0" lang="en-US" sz="2400" spc="-1" strike="noStrike">
                <a:solidFill>
                  <a:srgbClr val="000080"/>
                </a:solidFill>
                <a:latin typeface="Tahoma"/>
                <a:ea typeface="Tahoma"/>
              </a:rPr>
              <a:t>O PRÓXIMO, SEJA QUEM FOR!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632448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ccff"/>
                </a:solidFill>
                <a:latin typeface="Times New Roman"/>
              </a:rPr>
              <a:t>Ajude uma vítima da violência contra a mulher, faça um depósito no,  Bradesco Ag. 2777-4 – Cc. 00118702 - Tatiana Cerruti  Li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17:10:21Z</dcterms:created>
  <dc:creator>Falcao</dc:creator>
  <dc:description/>
  <dc:language>en-US</dc:language>
  <cp:lastModifiedBy>jroberto</cp:lastModifiedBy>
  <dcterms:modified xsi:type="dcterms:W3CDTF">2007-09-05T12:30:48Z</dcterms:modified>
  <cp:revision>11</cp:revision>
  <dc:subject/>
  <dc:title>Apresentação do PowerPoint</dc:title>
</cp:coreProperties>
</file>