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89C-67FB-40A4-A639-9E800E22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9216-4B31-452D-BF24-68BCA478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27B-9137-45DF-9768-5F86468B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590-CC4A-42FE-B94B-98FFFE6E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F93-095D-41F3-9F17-BAA8C6BF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6CE-C4D7-4E4D-B005-B5796082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98F-B602-4005-9E92-3CFF704C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2A4-252B-42E9-BFEB-438FCC9D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EED-0B73-45F5-9098-80F162DC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477-6117-4CB6-96E6-78437955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35A6-96B2-46E5-8483-A0D48198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2447-4966-4744-BA1B-02C49C8B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ACCC-C88B-4B0B-A7D2-6CC62F81F9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428760" y="1751040"/>
            <a:ext cx="835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2228b"/>
                </a:solidFill>
                <a:latin typeface="Comic Sans MS"/>
              </a:rPr>
              <a:t>ESCÓC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Comic Sans MS"/>
              </a:rPr>
              <a:t>Obra de Engenharia que permite a navegabilidade de costa a costa, através de rios e canais de naveg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Falkirk_Wheel%20051"/>
          <p:cNvPicPr/>
          <p:nvPr/>
        </p:nvPicPr>
        <p:blipFill>
          <a:blip r:embed="rId2"/>
          <a:stretch/>
        </p:blipFill>
        <p:spPr>
          <a:xfrm>
            <a:off x="1619280" y="0"/>
            <a:ext cx="58244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1908000" y="6237360"/>
            <a:ext cx="5293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trada no cana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Falkirk_Wheel%20023"/>
          <p:cNvPicPr/>
          <p:nvPr/>
        </p:nvPicPr>
        <p:blipFill>
          <a:blip r:embed="rId2"/>
          <a:stretch/>
        </p:blipFill>
        <p:spPr>
          <a:xfrm>
            <a:off x="-36360" y="-31680"/>
            <a:ext cx="9324720" cy="68896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2428920" y="6072120"/>
            <a:ext cx="48578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rco estacionando na tina superior do “carross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Falkirk_Wheel%20022"/>
          <p:cNvPicPr/>
          <p:nvPr/>
        </p:nvPicPr>
        <p:blipFill>
          <a:blip r:embed="rId2"/>
          <a:stretch/>
        </p:blipFill>
        <p:spPr>
          <a:xfrm>
            <a:off x="1908000" y="0"/>
            <a:ext cx="521676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1943280" y="623736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2428920" y="6072120"/>
            <a:ext cx="48578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rco estacionado na tina superior do “carross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Imgp16022"/>
          <p:cNvPicPr/>
          <p:nvPr/>
        </p:nvPicPr>
        <p:blipFill>
          <a:blip r:embed="rId2"/>
          <a:stretch/>
        </p:blipFill>
        <p:spPr>
          <a:xfrm>
            <a:off x="1476360" y="0"/>
            <a:ext cx="61088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3492360" y="549360"/>
            <a:ext cx="2448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995640" y="5489640"/>
            <a:ext cx="2448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>
            <a:off x="5929200" y="857160"/>
            <a:ext cx="46080" cy="4714920"/>
          </a:xfrm>
          <a:prstGeom prst="line">
            <a:avLst/>
          </a:prstGeom>
          <a:ln w="9360">
            <a:solidFill>
              <a:srgbClr val="ff00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5929200" y="2714760"/>
            <a:ext cx="928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66"/>
                </a:solidFill>
                <a:latin typeface="Comic Sans MS"/>
              </a:rPr>
              <a:t>2</a:t>
            </a:r>
            <a:r>
              <a:rPr b="0" lang="hu-HU" sz="2400" spc="-1" strike="noStrike">
                <a:solidFill>
                  <a:srgbClr val="ff0066"/>
                </a:solidFill>
                <a:latin typeface="Comic Sans MS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mgp16029"/>
          <p:cNvPicPr/>
          <p:nvPr/>
        </p:nvPicPr>
        <p:blipFill>
          <a:blip r:embed="rId2"/>
          <a:srcRect l="0" t="0" r="1390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1943280" y="6111720"/>
            <a:ext cx="5292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ício da rotação com 2 barcos estacionados na tina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Imgp16037"/>
          <p:cNvPicPr/>
          <p:nvPr/>
        </p:nvPicPr>
        <p:blipFill>
          <a:blip r:embed="rId2"/>
          <a:srcRect l="0" t="0" r="5590" b="-13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30"/>
          <p:cNvSpPr/>
          <p:nvPr/>
        </p:nvSpPr>
        <p:spPr>
          <a:xfrm>
            <a:off x="1943280" y="5929200"/>
            <a:ext cx="49860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rcos já em transporte nos braços rot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mgp16024"/>
          <p:cNvPicPr/>
          <p:nvPr/>
        </p:nvPicPr>
        <p:blipFill>
          <a:blip r:embed="rId2"/>
          <a:srcRect l="3667" t="0" r="4022" b="1932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1943280" y="628164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rrossel quase nos 90º de ro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Imgp16038"/>
          <p:cNvPicPr/>
          <p:nvPr/>
        </p:nvPicPr>
        <p:blipFill>
          <a:blip r:embed="rId2"/>
          <a:srcRect l="0" t="0" r="6961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1943280" y="628164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Comic Sans MS"/>
              </a:rPr>
              <a:t>90º de rotaçã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FalkirkWheel2"/>
          <p:cNvPicPr/>
          <p:nvPr/>
        </p:nvPicPr>
        <p:blipFill>
          <a:blip r:embed="rId2"/>
          <a:srcRect l="0" t="0" r="0" b="62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2"/>
          <a:srcRect l="393" t="523" r="393" b="5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943280" y="628164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tação quase 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falkirk"/>
          <p:cNvPicPr/>
          <p:nvPr/>
        </p:nvPicPr>
        <p:blipFill>
          <a:blip r:embed="rId2"/>
          <a:stretch/>
        </p:blipFill>
        <p:spPr>
          <a:xfrm>
            <a:off x="1428840" y="142920"/>
            <a:ext cx="6378480" cy="6643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Imgp16041"/>
          <p:cNvPicPr/>
          <p:nvPr/>
        </p:nvPicPr>
        <p:blipFill>
          <a:blip r:embed="rId2"/>
          <a:srcRect l="0" t="0" r="6962" b="0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1332000" y="6237360"/>
            <a:ext cx="5759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943280" y="628164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tação de 180º 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Imgp16035"/>
          <p:cNvPicPr/>
          <p:nvPr/>
        </p:nvPicPr>
        <p:blipFill>
          <a:blip r:embed="rId2"/>
          <a:srcRect l="0" t="0" r="6961" b="0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1943280" y="628164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Imgp16031"/>
          <p:cNvPicPr/>
          <p:nvPr/>
        </p:nvPicPr>
        <p:blipFill>
          <a:blip r:embed="rId2"/>
          <a:srcRect l="96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2411280" y="6021360"/>
            <a:ext cx="4608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falkirk_wheel_ssuk_411"/>
          <p:cNvPicPr/>
          <p:nvPr/>
        </p:nvPicPr>
        <p:blipFill>
          <a:blip r:embed="rId2"/>
          <a:srcRect l="0" t="0" r="1088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falkirk_wheel_ssuk_121"/>
          <p:cNvPicPr/>
          <p:nvPr/>
        </p:nvPicPr>
        <p:blipFill>
          <a:blip r:embed="rId2"/>
          <a:srcRect l="0" t="0" r="1088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357120" y="595440"/>
            <a:ext cx="8358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Cada tina tem 24 metros de comprimento e permite a movimentação de barcos com um peso até 300 tonel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Ambas as tinas, superior e inferior, são cheias de acordo com o Princípio de Arquimedes, portanto o seu peso está sempre equilib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Para manobrar a abertura e fecho das portas de selagem e accionar todo o sistema de rotação,  existe um motor eléctrico de 22,5 KW que apenas consume uma potência de1,5 kWh em cada manobra complet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O tempo de duração de cada manobra, desde a entrada dos barcos, rotação e saída dos barcos, é de 15 min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133200" y="1766880"/>
            <a:ext cx="8877600" cy="3305160"/>
          </a:xfrm>
          <a:prstGeom prst="rect">
            <a:avLst/>
          </a:prstGeom>
          <a:ln w="9360">
            <a:solidFill>
              <a:srgbClr val="b3b3b3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428760" y="111924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cialmente existiam 2 cana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anal Forth and Cly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ído em 1777 entre os portos de Grangemouth e Falkirk,  ligando Glasgow com a costa ocidental da Escó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anal Un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ído em 1822 entre os portos de Falkirk e Edinburg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Devido às condicionantes orográficas do terreno, no nó de Falkirk existia um desnível de 25 metros entre os 2 canais, tendo sido feitas obras espectaculares de engenharia para interligar estes dois canais através de um sistema de11 comportas e 1 torre rot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785880" y="1857240"/>
            <a:ext cx="77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Em 1963 começou a construção desta magnífica obra, que mais não é que um carrossel de água en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Esta ideia extraordinária ficou concluída em 2002 e tornou-se um símbolo da Escócia, permitindo a navegabilidade entre a costa ocidental e a costa oriental deste país, interligando as suas duas principais cidades, Glasgow e Edinbur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falkirkwheel1"/>
          <p:cNvPicPr/>
          <p:nvPr/>
        </p:nvPicPr>
        <p:blipFill>
          <a:blip r:embed="rId2"/>
          <a:stretch/>
        </p:blipFill>
        <p:spPr>
          <a:xfrm>
            <a:off x="1763640" y="0"/>
            <a:ext cx="54039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1994040" y="6072120"/>
            <a:ext cx="5292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ista panorâmica do “carross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falkirk_wheel_a"/>
          <p:cNvPicPr/>
          <p:nvPr/>
        </p:nvPicPr>
        <p:blipFill>
          <a:blip r:embed="rId2"/>
          <a:srcRect l="864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1403280" y="623736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994040" y="6072120"/>
            <a:ext cx="5292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ista próxima do “carross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571680" y="171468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Este é o único transportador rotacional de barcos em todo o m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Rockwell"/>
              </a:rPr>
              <a:t>Tem dois braços e cada braço forma um tipo de tina enorme cheia de ág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Rockwell"/>
              </a:rPr>
              <a:t>Os barcos entram nas tinas (superior e inferior), e então o carrossel inicia o movimento de rotação de 180º.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falkirk_wheel_scotland"/>
          <p:cNvPicPr/>
          <p:nvPr/>
        </p:nvPicPr>
        <p:blipFill>
          <a:blip r:embed="rId2"/>
          <a:stretch/>
        </p:blipFill>
        <p:spPr>
          <a:xfrm>
            <a:off x="176364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1908000" y="6308640"/>
            <a:ext cx="5293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na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3:54:04Z</dcterms:created>
  <dc:creator>R_MORTIMER</dc:creator>
  <dc:description/>
  <dc:language>en-US</dc:language>
  <cp:lastModifiedBy>R_MORTIMER</cp:lastModifiedBy>
  <dcterms:modified xsi:type="dcterms:W3CDTF">2009-01-11T03:58:17Z</dcterms:modified>
  <cp:revision>1</cp:revision>
  <dc:subject/>
  <dc:title>Slide 1</dc:title>
</cp:coreProperties>
</file>