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C8D-D5B7-4742-BA10-B112FC13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AB4-0359-410B-9096-B669A1F1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0FB-DD85-445A-A0CF-41F6BFF3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516-A4D6-4905-A051-71D57A69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42E1-718D-4BE5-8E1F-6B6D7131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5777-0A6E-4A18-AA65-C176356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30F8-36BC-41A9-96A5-FF9B2BFF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BA6A-40E2-4F48-87B4-71EFD8EA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E4D-B909-43CE-9463-7BE5411F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EF5A-8568-49AA-88E9-606648C8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E02-A403-4F9C-8624-4C1F07B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E0F-CCD4-409B-AEBD-AB0BF741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169E-EC06-4442-9615-67E5797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C37E-EE9D-4341-A08E-50C39740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5438-45AA-40B6-AAD3-58C0411C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C206-6F74-453D-BCD5-ECEE263B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5495-C45F-4990-A405-37AAFAFE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016-C96E-4962-BDAC-65663993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D88-8DCF-4B86-8AA8-90276542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A7F-4FDE-4757-9391-C89CE520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5EB-A34A-404A-A314-51EA8882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5A1-5BA4-4A2A-A15D-F37728C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54C-E84B-448D-AB86-4340A4F0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B25-6BA9-4BA5-A4AB-9AD572D0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Book Antiqua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E50E-72F5-419E-899F-69CADE4C3B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638C-51D6-47F6-93A7-6826FE117B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TESTE DE PERSONALIDADE</a:t>
            </a:r>
            <a:br>
              <a:rPr sz="4000"/>
            </a:b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TIBETANO 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88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O que escreveres ser-te-á necessário. Este questionário dirá bastante àcerca de ti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Dá uma resposta para cada i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A primeira coisa que te ocorrer é, provávelmente, a melhor resposta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Lembra-te: só tu vês tudo isto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1) Põe os seguintes 5 animais pela ordem da tua preferência: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Vaca, Tigre, Ovelha, Cavalo, Porco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2) Escreve uma palavra que descreva cada um dos seguintes: 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Cão, Gato, Rato, Café, Mar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3) Pensa em alguèm, que também te conheça e seja importante para ti, que possas relacionar com as seguintes core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Não repitas as resposta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Apenas uma pessoa para cada co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Amarel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9900"/>
                </a:solidFill>
                <a:latin typeface="Book Antiqua"/>
              </a:rPr>
              <a:t>Laranja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3300"/>
                </a:solidFill>
                <a:latin typeface="Book Antiqua"/>
              </a:rPr>
              <a:t>Vermelh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Branc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66ff66"/>
                </a:solidFill>
                <a:latin typeface="Book Antiqua"/>
              </a:rPr>
              <a:t>Verde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4) Finalmente, escreve o teu número favorito e o teu dia da semana preferido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Por favor, certifica-te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que as respostas são as que tu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5f5f5f"/>
                </a:solidFill>
                <a:uFillTx/>
                <a:latin typeface="Book Antiqua"/>
              </a:rPr>
              <a:t>REALMENTE QUERES</a:t>
            </a: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Book Antiqua"/>
              </a:rPr>
              <a:t>TERMINADO ?</a:t>
            </a:r>
            <a:endParaRPr b="0" lang="en-US" sz="44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3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38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Repara nas interpretações seguintes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Mas, antes de continuares,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u="sng">
                <a:solidFill>
                  <a:srgbClr val="5f5f5f"/>
                </a:solidFill>
                <a:uFillTx/>
                <a:latin typeface="Book Antiqua"/>
              </a:rPr>
              <a:t>REPETE o teu desejo</a:t>
            </a: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RESPOSTAS: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Definições das tuas prioridades na vida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Vaca significa CARREIRA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Tigre significa ORGULHO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Ovelha significa AMOR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Cavalo significa FAMILIA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Porco significa DINHEIRO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Book Antiqua"/>
              </a:rPr>
              <a:t>(1) </a:t>
            </a:r>
            <a:endParaRPr b="0" lang="en-US" sz="4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94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94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94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94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194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72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cão implica a tua própria personalidade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de gato a descrição do teu pa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de rato, a personalidade dos teus inimigo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café significa a maneira como vez o sexo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mar significa o modo como vês a tua própria vida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2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Gasta um pouco do tempo com este teste e ficarás surpreendido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Amarelo : Alguém que nunca esquecerá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9900"/>
                </a:solidFill>
                <a:latin typeface="Book Antiqua"/>
              </a:rPr>
              <a:t>Laranja : Alguém que consideras um verdadeiro amigo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3300"/>
                </a:solidFill>
                <a:latin typeface="Book Antiqua"/>
              </a:rPr>
              <a:t>Vermelho : Alguém que amas de verdade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Branco : A tua alma gémea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6ff66"/>
                </a:solidFill>
                <a:latin typeface="Book Antiqua"/>
              </a:rPr>
              <a:t>Verde : Alguém que lembrarás até ao fim da vida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3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Deves mandar esta mensagem para tantas pessoas quantas o teu número favorito e o teu desejo será satisfeito no dia que referiste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Isto disse o Dalai Lama àcerca do Milénio – gasta apenas uns minutos para o ler o pensa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4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36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Não apagues esta mensagem, o mantra sair-te-às das mãos nas próximas 96 horas. Terás uma surpresa muito agradável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credita nisto, mesmo que não sejas supersticioso. Faz isto e acharás que é fascinante. 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MANDA ESTE MANTRA POR E-MAIL PARA, PELO MENOS, CINCO PESSOAS E A TUA VIDA MELHORARÁ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0-4 pessoas: A vida melhora levemente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5-9 pessoas: A tua vida melhora quanto quisere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9-14 pessoas: Terás pelo menos cinco surpresas nas próximas três semana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15 ou mais pessoas: A tua vida melhorará drásticamente e obterás tudo o que deseja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O Dalai Lama sugere que o leias e vejas como se aplica a ti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006666"/>
                </a:solidFill>
                <a:latin typeface="Book Antiqua"/>
              </a:rPr>
              <a:t>Muito Interessante.</a:t>
            </a:r>
            <a:endParaRPr b="0" lang="en-US" sz="58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Apenas 4 perguntas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e as respostas irão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surpreender-t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Sê honesto e não tentes ver as respostas antecipadamen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A mente é como um paraquedas, funciona melhor quando abert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Isto é interessante mas terás que seguir as instruções à risc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Não faças batot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Book Antiqua"/>
              </a:rPr>
              <a:t>AVISO ! !</a:t>
            </a:r>
            <a:endParaRPr b="0" lang="en-US" sz="54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46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7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 u="sng">
                <a:solidFill>
                  <a:srgbClr val="5f5f5f"/>
                </a:solidFill>
                <a:uFillTx/>
                <a:latin typeface="Book Antiqua"/>
              </a:rPr>
              <a:t>PEDE UM DESEJO</a:t>
            </a:r>
            <a:r>
              <a:rPr b="0" lang="en-GB" sz="6000" spc="-1" strike="noStrike">
                <a:solidFill>
                  <a:srgbClr val="5f5f5f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ANTES DE COMEÇARES O TESTE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Responde às perguntas à medida que forem aparecendo.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Só há 4 perguntas e se as vires antes de tempo não terás respostas honestas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66"/>
                </a:solidFill>
                <a:latin typeface="Book Antiqua"/>
              </a:rPr>
              <a:t>Atenção!</a:t>
            </a:r>
            <a:endParaRPr b="0" lang="en-US" sz="6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f5f5f"/>
                </a:solidFill>
                <a:latin typeface="Book Antiqua"/>
              </a:rPr>
              <a:t>Vai devagar e completa cada exercicio à medida que vai aparecend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Não tenhas pressa.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Arranja papel e lápis para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escreveres as tuas respostas à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medida que as fores dando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08:09:57Z</dcterms:created>
  <dc:creator>mahmoodj</dc:creator>
  <dc:description/>
  <dc:language>en-US</dc:language>
  <cp:lastModifiedBy>António Soares</cp:lastModifiedBy>
  <dcterms:modified xsi:type="dcterms:W3CDTF">2005-06-23T15:22:31Z</dcterms:modified>
  <cp:revision>13</cp:revision>
  <dc:subject/>
  <dc:title>TIBETAN PERSONALITY TEST </dc:title>
</cp:coreProperties>
</file>