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2933-72B4-4641-87C4-2070AD6B2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C933-5FE7-404C-A9A4-9FBDFA5B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1734-D36E-4AE0-9022-C37F80B14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B1B3-1FCD-4245-B358-E6E9607CB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6684-E35F-48EB-AB2C-D07FD5B64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0804-098B-46DF-A65A-75ED177B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3DD3-D957-464E-A143-9C32D4D3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98AF-5E2F-4D8E-B811-677F07F2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CF14-509E-4606-AEAD-54500C65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40FB-536F-4969-8D4D-2D63FE93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CDAA-07FF-4764-BA5F-09428383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06DC-9AC7-462E-9FB8-2E9D3D72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3E9D-F21B-4004-9850-0182E7C0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92F7-6F8E-4005-9C39-A73A520F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74D8-C936-4376-B034-2B0DD5B7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DA63-E590-4D58-A5D2-BCB6AFB8E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13C6-6F88-40E0-B012-B82DBF10D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7A94-68FE-44A4-A47F-0C10437F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AC2C-850C-4F58-851F-87B74488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01F1-3A56-4F65-BA95-D5B0122F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17EA-60A7-453C-B48C-EDC4DF5E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9D26-B774-42C1-BCC2-FEF977D7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0D8E-9557-4DE7-A4C8-E7254008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B794-0AB9-4F2C-AA89-F937582D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Book Antiqua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30A6-E0C1-411A-9080-0460790DB41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Book Antiqua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DF9F-D8E5-4B5A-A6A9-033F66CBED2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72388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Book Antiqua"/>
              </a:rPr>
              <a:t>TESTE DE PERSONALIDADE</a:t>
            </a:r>
            <a:br>
              <a:rPr sz="4000"/>
            </a:br>
            <a:r>
              <a:rPr b="0" lang="en-GB" sz="4000" spc="-1" strike="noStrike">
                <a:solidFill>
                  <a:srgbClr val="006666"/>
                </a:solidFill>
                <a:latin typeface="Book Antiqua"/>
              </a:rPr>
              <a:t>TIBETANO </a:t>
            </a:r>
            <a:endParaRPr b="0" lang="en-US" sz="4000" spc="-1" strike="noStrike">
              <a:solidFill>
                <a:srgbClr val="006666"/>
              </a:solidFill>
              <a:latin typeface="Book Antiqua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369800" y="182880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Book Antiqua"/>
              </a:rPr>
              <a:t>O que escreveres ser-te-á necessário. Este questionário dirá bastante àcerca de ti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Book Antiqua"/>
              </a:rPr>
              <a:t>Dá uma resposta para cada item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Book Antiqua"/>
              </a:rPr>
              <a:t> </a:t>
            </a:r>
            <a:r>
              <a:rPr b="0" lang="en-GB" sz="3200" spc="-1" strike="noStrike">
                <a:solidFill>
                  <a:srgbClr val="5f5f5f"/>
                </a:solidFill>
                <a:latin typeface="Book Antiqua"/>
              </a:rPr>
              <a:t>A primeira coisa que te ocorrer é, provávelmente, a melhor resposta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Book Antiqua"/>
              </a:rPr>
              <a:t>Lembra-te: só tu vês tudo isto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7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5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9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5f5f5f"/>
                </a:solidFill>
                <a:latin typeface="Book Antiqua"/>
              </a:rPr>
              <a:t>(1) Põe os seguintes 5 animais pela ordem da tua preferência: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5f5f5f"/>
                </a:solidFill>
                <a:latin typeface="Book Antiqua"/>
              </a:rPr>
              <a:t>	</a:t>
            </a:r>
            <a:r>
              <a:rPr b="0" lang="en-GB" sz="2900" spc="-1" strike="noStrike">
                <a:solidFill>
                  <a:srgbClr val="5f5f5f"/>
                </a:solidFill>
                <a:latin typeface="Book Antiqua"/>
              </a:rPr>
              <a:t>Vaca, Tigre, Ovelha, Cavalo, Porco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5f5f5f"/>
                </a:solidFill>
                <a:latin typeface="Book Antiqua"/>
              </a:rPr>
              <a:t>(2) Escreve uma palavra que descreva cada um dos seguintes: 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5f5f5f"/>
                </a:solidFill>
                <a:latin typeface="Book Antiqua"/>
              </a:rPr>
              <a:t>	</a:t>
            </a:r>
            <a:r>
              <a:rPr b="0" lang="en-GB" sz="2900" spc="-1" strike="noStrike">
                <a:solidFill>
                  <a:srgbClr val="5f5f5f"/>
                </a:solidFill>
                <a:latin typeface="Book Antiqua"/>
              </a:rPr>
              <a:t>Cão, Gato, Rato, Café, Mar.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5f5f5f"/>
                </a:solidFill>
                <a:latin typeface="Book Antiqua"/>
              </a:rPr>
              <a:t>(3) Pensa em alguèm, que também te conheça e seja importante para ti, que possas relacionar com as seguintes cores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5f5f5f"/>
                </a:solidFill>
                <a:latin typeface="Book Antiqua"/>
              </a:rPr>
              <a:t>	</a:t>
            </a:r>
            <a:r>
              <a:rPr b="0" lang="en-GB" sz="2900" spc="-1" strike="noStrike">
                <a:solidFill>
                  <a:srgbClr val="5f5f5f"/>
                </a:solidFill>
                <a:latin typeface="Book Antiqua"/>
              </a:rPr>
              <a:t>Não repitas as respostas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5f5f5f"/>
                </a:solidFill>
                <a:latin typeface="Book Antiqua"/>
              </a:rPr>
              <a:t>Apenas uma pessoa para cada cor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99"/>
                </a:solidFill>
                <a:latin typeface="Book Antiqua"/>
              </a:rPr>
              <a:t>	</a:t>
            </a:r>
            <a:r>
              <a:rPr b="0" lang="en-GB" sz="2900" spc="-1" strike="noStrike">
                <a:solidFill>
                  <a:srgbClr val="ffff99"/>
                </a:solidFill>
                <a:latin typeface="Book Antiqua"/>
              </a:rPr>
              <a:t>Amarelo</a:t>
            </a:r>
            <a:r>
              <a:rPr b="0" lang="en-GB" sz="2900" spc="-1" strike="noStrike">
                <a:solidFill>
                  <a:srgbClr val="006666"/>
                </a:solidFill>
                <a:latin typeface="Book Antiqua"/>
              </a:rPr>
              <a:t>, </a:t>
            </a:r>
            <a:r>
              <a:rPr b="0" lang="en-GB" sz="2900" spc="-1" strike="noStrike">
                <a:solidFill>
                  <a:srgbClr val="ff9900"/>
                </a:solidFill>
                <a:latin typeface="Book Antiqua"/>
              </a:rPr>
              <a:t>Laranja</a:t>
            </a:r>
            <a:r>
              <a:rPr b="0" lang="en-GB" sz="2900" spc="-1" strike="noStrike">
                <a:solidFill>
                  <a:srgbClr val="006666"/>
                </a:solidFill>
                <a:latin typeface="Book Antiqua"/>
              </a:rPr>
              <a:t>, </a:t>
            </a:r>
            <a:r>
              <a:rPr b="0" lang="en-GB" sz="2900" spc="-1" strike="noStrike">
                <a:solidFill>
                  <a:srgbClr val="ff3300"/>
                </a:solidFill>
                <a:latin typeface="Book Antiqua"/>
              </a:rPr>
              <a:t>Vermelho</a:t>
            </a:r>
            <a:r>
              <a:rPr b="0" lang="en-GB" sz="2900" spc="-1" strike="noStrike">
                <a:solidFill>
                  <a:srgbClr val="006666"/>
                </a:solidFill>
                <a:latin typeface="Book Antiqua"/>
              </a:rPr>
              <a:t>, </a:t>
            </a: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Branco</a:t>
            </a:r>
            <a:r>
              <a:rPr b="0" lang="en-GB" sz="2900" spc="-1" strike="noStrike">
                <a:solidFill>
                  <a:srgbClr val="006666"/>
                </a:solidFill>
                <a:latin typeface="Book Antiqua"/>
              </a:rPr>
              <a:t>, </a:t>
            </a:r>
            <a:r>
              <a:rPr b="0" lang="en-GB" sz="2900" spc="-1" strike="noStrike">
                <a:solidFill>
                  <a:srgbClr val="66ff66"/>
                </a:solidFill>
                <a:latin typeface="Book Antiqua"/>
              </a:rPr>
              <a:t>Verde.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8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5f5f5f"/>
                </a:solidFill>
                <a:latin typeface="Book Antiqua"/>
              </a:rPr>
              <a:t>(4) Finalmente, escreve o teu número favorito e o teu dia da semana preferido.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5f5f5f"/>
                </a:solidFill>
                <a:latin typeface="Book Antiqua"/>
              </a:rPr>
              <a:t>Por favor, certifica-te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5f5f5f"/>
                </a:solidFill>
                <a:latin typeface="Book Antiqua"/>
              </a:rPr>
              <a:t>que as respostas são as que tu 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 u="sng">
                <a:solidFill>
                  <a:srgbClr val="5f5f5f"/>
                </a:solidFill>
                <a:uFillTx/>
                <a:latin typeface="Book Antiqua"/>
              </a:rPr>
              <a:t>REALMENTE QUERES</a:t>
            </a:r>
            <a:r>
              <a:rPr b="0" lang="en-GB" sz="4000" spc="-1" strike="noStrike">
                <a:solidFill>
                  <a:srgbClr val="5f5f5f"/>
                </a:solidFill>
                <a:latin typeface="Book Antiqua"/>
              </a:rPr>
              <a:t>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Book Antiqua"/>
              </a:rPr>
              <a:t>TERMINADO ?</a:t>
            </a:r>
            <a:endParaRPr b="0" lang="en-US" sz="4400" spc="-1" strike="noStrike">
              <a:solidFill>
                <a:srgbClr val="006666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38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38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Book Antiqua"/>
              </a:rPr>
              <a:t>Repara nas interpretações seguintes: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Book Antiqua"/>
              </a:rPr>
              <a:t>Mas, antes de continuares,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 u="sng">
                <a:solidFill>
                  <a:srgbClr val="5f5f5f"/>
                </a:solidFill>
                <a:uFillTx/>
                <a:latin typeface="Book Antiqua"/>
              </a:rPr>
              <a:t>REPETE o teu desejo</a:t>
            </a:r>
            <a:r>
              <a:rPr b="0" lang="en-GB" sz="3200" spc="-1" strike="noStrike">
                <a:solidFill>
                  <a:srgbClr val="5f5f5f"/>
                </a:solidFill>
                <a:latin typeface="Book Antiqua"/>
              </a:rPr>
              <a:t>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66"/>
                </a:solidFill>
                <a:latin typeface="Book Antiqua"/>
              </a:rPr>
              <a:t>RESPOSTAS:</a:t>
            </a:r>
            <a:endParaRPr b="0" lang="en-US" sz="4000" spc="-1" strike="noStrike">
              <a:solidFill>
                <a:srgbClr val="006666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Book Antiqua"/>
              </a:rPr>
              <a:t>Definições das tuas prioridades na vida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GB" sz="2500" spc="-1" strike="noStrike">
                <a:solidFill>
                  <a:srgbClr val="ffffff"/>
                </a:solidFill>
                <a:latin typeface="Book Antiqua"/>
              </a:rPr>
              <a:t>Vaca significa CARREIRA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GB" sz="2500" spc="-1" strike="noStrike">
                <a:solidFill>
                  <a:srgbClr val="ffffff"/>
                </a:solidFill>
                <a:latin typeface="Book Antiqua"/>
              </a:rPr>
              <a:t>Tigre significa ORGULHO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GB" sz="2500" spc="-1" strike="noStrike">
                <a:solidFill>
                  <a:srgbClr val="ffffff"/>
                </a:solidFill>
                <a:latin typeface="Book Antiqua"/>
              </a:rPr>
              <a:t>Ovelha significa AMOR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GB" sz="2500" spc="-1" strike="noStrike">
                <a:solidFill>
                  <a:srgbClr val="ffffff"/>
                </a:solidFill>
                <a:latin typeface="Book Antiqua"/>
              </a:rPr>
              <a:t>Cavalo significa FAMILIA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GB" sz="2500" spc="-1" strike="noStrike">
                <a:solidFill>
                  <a:srgbClr val="ffffff"/>
                </a:solidFill>
                <a:latin typeface="Book Antiqua"/>
              </a:rPr>
              <a:t>Porco significa DINHEIRO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Book Antiqua"/>
              </a:rPr>
              <a:t>(1) </a:t>
            </a:r>
            <a:endParaRPr b="0" lang="en-US" sz="4600" spc="-1" strike="noStrike">
              <a:solidFill>
                <a:srgbClr val="006666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77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3" dur="770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5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7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94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94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794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994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194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369800" y="1599840"/>
            <a:ext cx="7313400" cy="47242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A tua descrição de cão implica a tua própria personalidade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A de gato a descrição do teu par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A de rato, a personalidade dos teus inimigos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A tua descrição de café significa a maneira como vez o sexo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A tua descrição de mar significa o modo como vês a tua própria vida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(2) </a:t>
            </a: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6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8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0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3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3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3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1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7000"/>
                            </p:stCondLst>
                            <p:childTnLst>
                              <p:par>
                                <p:cTn id="34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5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f5f5f"/>
                </a:solidFill>
                <a:latin typeface="Book Antiqua"/>
              </a:rPr>
              <a:t>Gasta um pouco do tempo com este teste e ficarás surpreendido</a:t>
            </a:r>
            <a:endParaRPr b="0" lang="en-US" sz="4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99"/>
                </a:solidFill>
                <a:latin typeface="Book Antiqua"/>
              </a:rPr>
              <a:t>Amarelo : Alguém que nunca esquecerás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9900"/>
                </a:solidFill>
                <a:latin typeface="Book Antiqua"/>
              </a:rPr>
              <a:t>Laranja : Alguém que consideras um verdadeiro amigo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3300"/>
                </a:solidFill>
                <a:latin typeface="Book Antiqua"/>
              </a:rPr>
              <a:t>Vermelho : Alguém que amas de verdade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Branco : A tua alma gémea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6ff66"/>
                </a:solidFill>
                <a:latin typeface="Book Antiqua"/>
              </a:rPr>
              <a:t>Verde : Alguém que lembrarás até ao fim da vida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(3) </a:t>
            </a: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5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7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3500"/>
                            </p:stCondLst>
                            <p:childTnLst>
                              <p:par>
                                <p:cTn id="3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4000"/>
                            </p:stCondLst>
                            <p:childTnLst>
                              <p:par>
                                <p:cTn id="37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4500"/>
                            </p:stCondLst>
                            <p:childTnLst>
                              <p:par>
                                <p:cTn id="38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Deves mandar esta mensagem para tantas pessoas quantas o teu número favorito e o teu desejo será satisfeito no dia que referiste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Isto disse o Dalai Lama àcerca do Milénio – gasta apenas uns minutos para o ler o pensar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(4) </a:t>
            </a:r>
            <a:endParaRPr b="0" lang="en-US" sz="3600" spc="-1" strike="noStrike">
              <a:solidFill>
                <a:srgbClr val="006666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0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2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4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4000"/>
                            </p:stCondLst>
                            <p:childTnLst>
                              <p:par>
                                <p:cTn id="4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360"/>
                            </p:stCondLst>
                            <p:childTnLst>
                              <p:par>
                                <p:cTn id="4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Não apagues esta mensagem, o mantra sair-te-às das mãos nas próximas 96 horas. Terás uma surpresa muito agradável.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Acredita nisto, mesmo que não sejas supersticioso. Faz isto e acharás que é fascinante. 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MANDA ESTE MANTRA POR E-MAIL PARA, PELO MENOS, CINCO PESSOAS E A TUA VIDA MELHORARÁ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3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7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0-4 pessoas: A vida melhora levemente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5-9 pessoas: A tua vida melhora quanto quiseres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9-14 pessoas: Terás pelo menos cinco surpresas nas próximas três semanas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Book Antiqua"/>
              </a:rPr>
              <a:t>15 ou mais pessoas: A tua vida melhorará drásticamente e obterás tudo o que desejas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5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6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0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f5f5f"/>
                </a:solidFill>
                <a:latin typeface="Book Antiqua"/>
              </a:rPr>
              <a:t>O Dalai Lama sugere que o leias e vejas como se aplica a ti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800" spc="-1" strike="noStrike">
                <a:solidFill>
                  <a:srgbClr val="006666"/>
                </a:solidFill>
                <a:latin typeface="Book Antiqua"/>
              </a:rPr>
              <a:t>Muito Interessante.</a:t>
            </a:r>
            <a:endParaRPr b="0" lang="en-US" sz="5800" spc="-1" strike="noStrike">
              <a:solidFill>
                <a:srgbClr val="006666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71600" y="18288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f5f5f"/>
                </a:solidFill>
                <a:latin typeface="Book Antiqua"/>
              </a:rPr>
              <a:t>Apenas 4 perguntas</a:t>
            </a:r>
            <a:endParaRPr b="0" lang="en-US" sz="4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f5f5f"/>
                </a:solidFill>
                <a:latin typeface="Book Antiqua"/>
              </a:rPr>
              <a:t>e as respostas irão</a:t>
            </a:r>
            <a:endParaRPr b="0" lang="en-US" sz="4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f5f5f"/>
                </a:solidFill>
                <a:latin typeface="Book Antiqua"/>
              </a:rPr>
              <a:t>surpreender-te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Book Antiqua"/>
              </a:rPr>
              <a:t>Sê honesto e não tentes ver as respostas antecipadamen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Book Antiqua"/>
              </a:rPr>
              <a:t>A mente é como um paraquedas, funciona melhor quando aberta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Book Antiqua"/>
              </a:rPr>
              <a:t>Isto é interessante mas terás que seguir as instruções à risca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Book Antiqua"/>
              </a:rPr>
              <a:t>Não faças batota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Book Antiqua"/>
              </a:rPr>
              <a:t>AVISO ! !</a:t>
            </a:r>
            <a:endParaRPr b="0" lang="en-US" sz="5400" spc="-1" strike="noStrike">
              <a:solidFill>
                <a:srgbClr val="006666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460"/>
                            </p:stCondLst>
                            <p:childTnLst>
                              <p:par>
                                <p:cTn id="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540"/>
                            </p:stCondLst>
                            <p:childTnLst>
                              <p:par>
                                <p:cTn id="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700"/>
                            </p:stCondLst>
                            <p:childTnLst>
                              <p:par>
                                <p:cTn id="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371600" y="18288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0" spc="-1" strike="noStrike" u="sng">
                <a:solidFill>
                  <a:srgbClr val="5f5f5f"/>
                </a:solidFill>
                <a:uFillTx/>
                <a:latin typeface="Book Antiqua"/>
              </a:rPr>
              <a:t>PEDE UM DESEJO</a:t>
            </a:r>
            <a:r>
              <a:rPr b="0" lang="en-GB" sz="6000" spc="-1" strike="noStrike">
                <a:solidFill>
                  <a:srgbClr val="5f5f5f"/>
                </a:solidFill>
                <a:latin typeface="Book Antiqu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Book Antiqua"/>
              </a:rPr>
              <a:t>ANTES DE COMEÇARES O TESTE!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Book Antiqua"/>
              </a:rPr>
              <a:t>Responde às perguntas à medida que forem aparecendo. 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Book Antiqua"/>
              </a:rPr>
              <a:t>Só há 4 perguntas e se as vires antes de tempo não terás respostas honestas.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66"/>
                </a:solidFill>
                <a:latin typeface="Book Antiqua"/>
              </a:rPr>
              <a:t>Atenção!</a:t>
            </a:r>
            <a:endParaRPr b="0" lang="en-US" sz="6000" spc="-1" strike="noStrike">
              <a:solidFill>
                <a:srgbClr val="006666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5f5f5f"/>
                </a:solidFill>
                <a:latin typeface="Book Antiqua"/>
              </a:rPr>
              <a:t>Vai devagar e completa cada exercicio à medida que vai aparecendo.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3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Book Antiqua"/>
              </a:rPr>
              <a:t>Não tenhas pressa. 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552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Book Antiqua"/>
              </a:rPr>
              <a:t>Arranja papel e lápis para 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552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Book Antiqua"/>
              </a:rPr>
              <a:t>escreveres as tuas respostas à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552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Book Antiqua"/>
              </a:rPr>
              <a:t>medida que as fores dando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comb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08:09:57Z</dcterms:created>
  <dc:creator>mahmoodj</dc:creator>
  <dc:description/>
  <dc:language>en-US</dc:language>
  <cp:lastModifiedBy>António Soares</cp:lastModifiedBy>
  <dcterms:modified xsi:type="dcterms:W3CDTF">2005-06-23T15:22:31Z</dcterms:modified>
  <cp:revision>13</cp:revision>
  <dc:subject/>
  <dc:title>TIBETAN PERSONALITY TEST </dc:title>
</cp:coreProperties>
</file>