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Marine%20Life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463-13B8-43FE-807E-FFBA2AB4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002-28DB-4D4B-A0C3-2E48A89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4A0-D4A2-4A11-ADF1-6C42F74E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81A-BD53-4106-BB6A-B26B42E3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FE2-F91A-47A2-88E3-110BA022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2EC-5182-4607-819C-0AF3DFFC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6D1-352D-4050-ADED-7132901B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CBC-CE9B-4DF7-B0C5-37C853F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E71-0995-46BB-BB3D-F64E6EC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3A9-A99D-48C9-8098-C147BDB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BE3-02A0-414F-9AA8-19B9F65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C5-FE98-41BE-91B1-F260286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bec4"/>
            </a:gs>
            <a:gs pos="100000">
              <a:srgbClr val="4779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2DE9-70AF-462A-8122-44F89EEFE18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Kristen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rine%20Lif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PRAIAS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DE 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SONHO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  <p:sndAc>
      <p:stSnd>
        <p:snd r:embed="rId1" name="Marine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Le Meridien Resort Bora Bo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-2571840" y="285840"/>
            <a:ext cx="748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La Meridien Resort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ora Bor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ahiti Polinésia Frances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Manly Beach Sydn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500720" y="21420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anl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ydne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Austral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urne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55640" y="0"/>
            <a:ext cx="76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ropical Beach &amp; Sea near Durnes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Escóc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Nassa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572080" y="214200"/>
            <a:ext cx="53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Nassau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aham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Burj Al Arab"/>
          <p:cNvPicPr/>
          <p:nvPr/>
        </p:nvPicPr>
        <p:blipFill>
          <a:blip r:embed="rId1"/>
          <a:stretch/>
        </p:blipFill>
        <p:spPr>
          <a:xfrm>
            <a:off x="-68436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6228360" y="214200"/>
            <a:ext cx="19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urj Al Arab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Duba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Emiratos Árabes Unido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1547640" y="227664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pic>
        <p:nvPicPr>
          <p:cNvPr id="70" name="Picture 7" descr="Mona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181560" y="189000"/>
            <a:ext cx="242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Plage Larvotto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onaco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Blue Bay Beach Zanzib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143160" y="214200"/>
            <a:ext cx="727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lue Ba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Kiwengw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Zanzibar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Trunk 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7332480" y="6048360"/>
            <a:ext cx="164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runk Ba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t. John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has Virgens U.S.A.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lue Lagoon Beach Mauriti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151760" y="214200"/>
            <a:ext cx="162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has Mauríci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inningup Western Austral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7256520" y="1713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inningup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Austrál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Bora Bora Pearl Beach 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780000" y="6035760"/>
            <a:ext cx="60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ora Bora Pearl Beach One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Polinés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hurch Bay Beach Southampton Bermu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659480" y="44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659480" y="521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788000" y="115920"/>
            <a:ext cx="64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Church Ba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outhampton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ermud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Tagbulo Island Taytay Philippi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429080" y="285840"/>
            <a:ext cx="64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agbulo Island Tayta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Filipin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Waianapanapa Beach Maui Hawa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4356000" y="260280"/>
            <a:ext cx="727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Waianapanap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(Black Sand Beach)</a:t>
            </a:r>
            <a:r>
              <a:rPr b="1" lang="en-GB" sz="12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aui - Hawai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iani Beach ken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79280" y="6272280"/>
            <a:ext cx="199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Diani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Quén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lifton Beach Tasman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300720" y="6127920"/>
            <a:ext cx="22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Clifto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asman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uerto de San Miguel Ibi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930840" y="6119640"/>
            <a:ext cx="169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Playa de San Miguel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biza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lue Lagoon Fij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643280" y="6272280"/>
            <a:ext cx="30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Fij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Beach Bottom Bay Barbad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867280" y="6272280"/>
            <a:ext cx="293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each Bottom Ba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arbado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le aux Cerfs Mauriti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7257960" y="1143000"/>
            <a:ext cx="18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es aux Cerf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has Mauríci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Baros Maldi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34920" y="612792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aro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aldive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Thailand Phi Ph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143680" y="6215040"/>
            <a:ext cx="53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Kristen ITC"/>
              </a:rPr>
              <a:t>Phi Phi Island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Kristen ITC"/>
              </a:rPr>
              <a:t>Tailand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Aru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7264440" y="620712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Arub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Antilhas Holandes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-900000" y="115920"/>
            <a:ext cx="45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t. Jea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t. Barthelem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Caraíb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57120" y="1139760"/>
            <a:ext cx="8031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66ff66"/>
                </a:solidFill>
                <a:latin typeface="Harrington"/>
              </a:rPr>
              <a:t>Vai preparando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66ff66"/>
                </a:solidFill>
                <a:latin typeface="Harrington"/>
              </a:rPr>
              <a:t>as próximas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66ff66"/>
                </a:solidFill>
                <a:latin typeface="Harrington"/>
              </a:rPr>
              <a:t>FÉRIAS!!!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La Digue - Anse Source d'Arg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286160" y="6211800"/>
            <a:ext cx="627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La Dique - Anse Source D'Argent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eychelle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lue Lagoon -Oldeniz Beach - Fethiye - Turk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143680" y="6058080"/>
            <a:ext cx="54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Lagoa Azul- Oldeniz Beach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Fethiye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urqu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7 Mile Beach Negril Jama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859280" y="6093000"/>
            <a:ext cx="49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Seven Mile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Negril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Jamaic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muggler's C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715000" y="5929200"/>
            <a:ext cx="325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Smuggler's Cove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Tortol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Ilhas Virgens Britânic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Tobago Ca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492360" y="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obago Cay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Windward Island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Lanikai Bea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900000" y="5013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-2071800" y="585792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Lanikai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Kailu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Hawai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9:19:38Z</dcterms:created>
  <dc:creator/>
  <dc:description/>
  <dc:language>en-US</dc:language>
  <cp:lastModifiedBy>Antas Guimarães</cp:lastModifiedBy>
  <dcterms:modified xsi:type="dcterms:W3CDTF">2009-02-02T01:27:52Z</dcterms:modified>
  <cp:revision>6</cp:revision>
  <dc:subject/>
  <dc:title>Diapositiva 1</dc:title>
</cp:coreProperties>
</file>