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Marine%20Life.wav" ContentType="audio/x-wav"/>
  <Override PartName="/ppt/media/image15.jpeg" ContentType="image/jpeg"/>
  <Override PartName="/ppt/media/image13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4DF-010F-449E-9F9A-943DC368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E1E-6216-42FA-86E9-0FD98467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6DD-E778-4B5C-A2FD-6165128D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E0E-5A79-4662-B4D4-8F259C05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20C-7D21-4C2F-A30E-8290A213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92F-8684-4F12-9C8B-71E62664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5E1-C815-4908-A44D-FF12FDB8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1F7-213C-483B-B324-1D4E337F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945-F2D0-4CB3-B109-83959AF8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3F9-CF1C-4A81-AA1F-4F07BC5B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45A-B06E-4D99-BE98-40B6CB4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08B-2F4B-4DF7-8132-7688843A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bec4"/>
            </a:gs>
            <a:gs pos="100000">
              <a:srgbClr val="4779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E847-323A-4F5D-9A63-D122FE4C12A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Kristen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Marine%20Lif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900000" y="113976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PRAIAS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DE 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 u="sng">
                <a:solidFill>
                  <a:srgbClr val="66ff66"/>
                </a:solidFill>
                <a:uFillTx/>
                <a:latin typeface="Harrington"/>
              </a:rPr>
              <a:t>SONHO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  <p:sndAc>
      <p:stSnd>
        <p:snd r:embed="rId1" name="Marine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Le Meridien Resort Bora Bo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-2571840" y="285840"/>
            <a:ext cx="748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La Meridien Resort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ora Bor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ahiti Polinésia Frances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Manly Beach Sydne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500720" y="214200"/>
            <a:ext cx="74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Manly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ydney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Austral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Durne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755640" y="0"/>
            <a:ext cx="76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ropical Beach &amp; Sea near Durnes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Escóc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Nassa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5572080" y="214200"/>
            <a:ext cx="53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Nassau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aham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Burj Al Arab"/>
          <p:cNvPicPr/>
          <p:nvPr/>
        </p:nvPicPr>
        <p:blipFill>
          <a:blip r:embed="rId1"/>
          <a:stretch/>
        </p:blipFill>
        <p:spPr>
          <a:xfrm>
            <a:off x="-68436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6228360" y="214200"/>
            <a:ext cx="19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urj Al Arab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Dubai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Emiratos Árabes Unido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1547640" y="227664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pic>
        <p:nvPicPr>
          <p:cNvPr id="70" name="Picture 7" descr="Monac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6181560" y="189000"/>
            <a:ext cx="242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Plage Larvotto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Monaco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Blue Bay Beach Zanzib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143160" y="214200"/>
            <a:ext cx="727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lue Bay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Kiwengw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Zanzibar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Trunk B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7332480" y="6048360"/>
            <a:ext cx="164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runk Bay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t. John 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Ilhas Virgens U.S.A.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Blue Lagoon Beach Mauriti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7151760" y="214200"/>
            <a:ext cx="1625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Ilhas Mauríci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inningup Western Austral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7256520" y="1713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inningup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Austrál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Bora Bora Pearl Beach 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780000" y="6035760"/>
            <a:ext cx="60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ora Bora Pearl Beach One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Polinés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Church Bay Beach Southampton Bermu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4659480" y="449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659480" y="521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788000" y="115920"/>
            <a:ext cx="64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Church Bay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outhampton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ermud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Tagbulo Island Taytay Philippin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429080" y="285840"/>
            <a:ext cx="64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agbulo Island Taytay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Filipin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Waianapanapa Beach Maui Hawa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4356000" y="260280"/>
            <a:ext cx="727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Waianapanap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(Black Sand Beach)</a:t>
            </a:r>
            <a:r>
              <a:rPr b="1" lang="en-GB" sz="12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Maui - Hawaii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iani Beach ken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79280" y="6272280"/>
            <a:ext cx="199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Diani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Quén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lifton Beach Tasman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300720" y="6127920"/>
            <a:ext cx="22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Clifton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asman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uerto de San Miguel Ibi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3930840" y="6119640"/>
            <a:ext cx="169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Playa de San Miguel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Ibiza 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Blue Lagoon Fij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4643280" y="6272280"/>
            <a:ext cx="30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lue Lagoon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Fiji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Beach Bottom Bay Barbad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5867280" y="6272280"/>
            <a:ext cx="293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each Bottom Bay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arbado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Ile aux Cerfs Mauriti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7257960" y="1143000"/>
            <a:ext cx="18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Iles aux Cerf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Ilhas Mauríci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Baros Maldi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34920" y="612792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Baro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Maldive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Thailand Phi Ph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5143680" y="6215040"/>
            <a:ext cx="53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Kristen ITC"/>
              </a:rPr>
              <a:t>Phi Phi Island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Kristen ITC"/>
              </a:rPr>
              <a:t>Tailand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Arub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7264440" y="6207120"/>
            <a:ext cx="173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Arub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Antilhas Holandes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-900000" y="115920"/>
            <a:ext cx="453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t. Jean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t. Barthelemy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Caraíb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57120" y="1139760"/>
            <a:ext cx="8031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66ff66"/>
                </a:solidFill>
                <a:latin typeface="Harrington"/>
              </a:rPr>
              <a:t>Vai preparando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66ff66"/>
                </a:solidFill>
                <a:latin typeface="Harrington"/>
              </a:rPr>
              <a:t>as próximas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66ff66"/>
                </a:solidFill>
                <a:latin typeface="Harrington"/>
              </a:rPr>
              <a:t>FÉRIAS!!!</a:t>
            </a: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La Digue - Anse Source d'Arg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4286160" y="6211800"/>
            <a:ext cx="627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La Dique - Anse Source D'Argent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Seychelle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lue Lagoon -Oldeniz Beach - Fethiye - Turke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143680" y="6058080"/>
            <a:ext cx="54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Lagoa Azul- Oldeniz Beach 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Fethiye 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urqui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7 Mile Beach Negril Jama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859280" y="6093000"/>
            <a:ext cx="49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Seven Mile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Negril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Jamaic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Smuggler's C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715000" y="5929200"/>
            <a:ext cx="325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Smuggler's Cove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Tortol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Ilhas Virgens Britânica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Tobago Cay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3492360" y="0"/>
            <a:ext cx="914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Tobago Cay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Kristen ITC"/>
              </a:rPr>
              <a:t>Windward Islands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Lanikai Bea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900000" y="50133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Kristen ITC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-2071800" y="585792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Lanikai Beach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Kailua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Kristen ITC"/>
              </a:rPr>
              <a:t>Hawaii</a:t>
            </a:r>
            <a:endParaRPr b="1" lang="en-US" sz="1200" spc="-1" strike="noStrike">
              <a:solidFill>
                <a:srgbClr val="333399"/>
              </a:solidFill>
              <a:latin typeface="Kristen ITC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9:19:38Z</dcterms:created>
  <dc:creator/>
  <dc:description/>
  <dc:language>en-US</dc:language>
  <cp:lastModifiedBy>Antas Guimarães</cp:lastModifiedBy>
  <dcterms:modified xsi:type="dcterms:W3CDTF">2009-02-02T01:27:52Z</dcterms:modified>
  <cp:revision>6</cp:revision>
  <dc:subject/>
  <dc:title>Diapositiva 1</dc:title>
</cp:coreProperties>
</file>