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32000" y="6557400"/>
            <a:ext cx="6697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Levantamento Preparado por Harold McCardell - Consultor Financeiro - L L A I N V E S T I M E N T O S - t: (11) 3095-7073 | c: (11) 9982-0573 - f: (11) 3095-7071 - www.lla.com.b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upload.wikimedia.org/wikipedia/commons/thumb/2/2b/Avenida_Paulista.svg/800px-Avenida_Paulista.svg.pn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689200" cy="3456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447480"/>
            <a:ext cx="78483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Estufa o peito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84720" y="2895480"/>
            <a:ext cx="37400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mos falar da Cidade de    São Pa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5960" y="33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A única cidade do mundo que tem 4 lojas TIFFANY´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2948" r="0" b="0"/>
          <a:stretch/>
        </p:blipFill>
        <p:spPr>
          <a:xfrm>
            <a:off x="-181080" y="2421000"/>
            <a:ext cx="9721800" cy="47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702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990960"/>
            <a:ext cx="2952720" cy="2867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407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rcRect l="0" t="29739" r="0" b="41550"/>
          <a:stretch/>
        </p:blipFill>
        <p:spPr>
          <a:xfrm>
            <a:off x="2124000" y="2852640"/>
            <a:ext cx="7020000" cy="2016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3640" y="1095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imes New Roman"/>
              </a:rPr>
              <a:t>A única cidade do mundo que tem 3 lojas Bulg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2411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2707920"/>
            <a:ext cx="20858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ilial que deu mais lucro em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88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6308640"/>
            <a:ext cx="6912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66978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87640" y="765000"/>
            <a:ext cx="3957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filial          Mont Blanc que mais vende caneta fora da Suiç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48360" y="0"/>
            <a:ext cx="3995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0160" y="3182760"/>
            <a:ext cx="323856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 mil paulistas têm residência na Europa e Estados Unidos como 2ª. op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332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051000"/>
            <a:ext cx="5148360" cy="380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843120"/>
            <a:ext cx="5508720" cy="546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2520" y="358920"/>
            <a:ext cx="2590560" cy="43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É cidade que mais consome Romanée Co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627960" y="4437000"/>
            <a:ext cx="2047680" cy="21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sim como vinhos          Grand Crus, Champagnes  Küg Rosé,  Cristal e    Gran D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572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9180360" cy="112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nde São Pa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ão Paulo já cresceu tanto que "emendou-se" com 38 cidades ao seu redor, sendo a população da Grande São Paulo por volta de 22.000.000 de pesso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54560" y="3645000"/>
            <a:ext cx="4681440" cy="29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23755" r="0" b="0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91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ção na cidade é de              10.434.252 milh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9280" y="1628280"/>
            <a:ext cx="8964720" cy="50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 3º maior cidade do Mu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56360" y="6381720"/>
            <a:ext cx="1655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558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0"/>
            <a:ext cx="216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36702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idade de São Paulo tem um território de 1.530 km2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26880" y="4052880"/>
            <a:ext cx="2408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amanho de Cu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1840" y="0"/>
            <a:ext cx="4502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3543" b="2756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9280" y="3789000"/>
            <a:ext cx="474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taxa de alfabetização está em 95,4% da populaçã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aior frota de jatos particula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7640" y="3017880"/>
            <a:ext cx="37796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passou Nova York este ano (2008)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30 j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PIB da cidade de São Paulo é de US$ 76 bilhõ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gião Metropolitana possui PIB de US$ 147 bilh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77200" cy="459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128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ão mais de 70 shoppings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Maior número do Brasil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5781600"/>
            <a:ext cx="8497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 shoppings da cidade recebem mais de 30 milhões de pessoas / mê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ão mais de 5,5 milhões de automóveis circulando em toda a cid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io milhão de pessoas andam diariamente pela Rua 25 de Març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4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% de todos milionários do Brasil, vivem na cidade de São Paul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84720" y="4868640"/>
            <a:ext cx="28051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ão efetuados 10 compras              por segundo          via cartão de crédito / déb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5038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la Avenida Paulista passam mais de 5.700 carros e 1.400 ônibus por hora em horários de p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Ver a imagem no tamanho original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619200"/>
            <a:ext cx="2305080" cy="1225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3666" r="0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11640" y="4479840"/>
            <a:ext cx="5254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idade tem mais de 120 teatros e casas de show, 71 museus e 11 centros cultura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ão Paulo é a maior realizadora de eventos da América Latina, com 70 mil eventos por 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287360"/>
            <a:ext cx="9144000" cy="557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 cidade são mais de 100 peças teatrais por semana, ou 4.800 peças por a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03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maior revendedora Ferrari do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5516280"/>
            <a:ext cx="6400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2ª. é Los Ang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280" y="6356520"/>
            <a:ext cx="8964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bairro do Itaim, existe uma Oficina Mecânica especializada somente em Ferr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96720" y="50544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idade tem em torno de 1.500 agências de bancos nacionais e internaciona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35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12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eroporto de Congonhas, Campo de Marte e Guarulhos têm mais de 380 mil pousos e decolage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1737"/>
          <a:stretch/>
        </p:blipFill>
        <p:spPr>
          <a:xfrm>
            <a:off x="826920" y="404640"/>
            <a:ext cx="7417080" cy="4783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ão Paulo é a 3ª maior cidade italiana do mu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26920" y="3836520"/>
            <a:ext cx="705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a maior cidade japonesa fora do Japão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ior cidade portuguesa fora de Portug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ª maior cidade libanesa fora do Líb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2353" t="4021" r="2665" b="4973"/>
          <a:stretch/>
        </p:blipFill>
        <p:spPr>
          <a:xfrm>
            <a:off x="826920" y="5324400"/>
            <a:ext cx="1873440" cy="11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706920" y="5327640"/>
            <a:ext cx="1944720" cy="1204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299280" y="530064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689200" cy="3456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47480"/>
            <a:ext cx="78483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Pode relaxar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2895480"/>
            <a:ext cx="37400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dade de    São Paulo é muito grande 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pre caberá mais um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8780" r="0" b="11073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31005" t="15365" r="2540" b="62224"/>
          <a:stretch/>
        </p:blipFill>
        <p:spPr>
          <a:xfrm>
            <a:off x="0" y="4622760"/>
            <a:ext cx="9144000" cy="22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7083" t="19222" r="5981" b="14626"/>
          <a:stretch/>
        </p:blipFill>
        <p:spPr>
          <a:xfrm>
            <a:off x="34920" y="3068640"/>
            <a:ext cx="3600360" cy="1565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08000" y="-57240"/>
            <a:ext cx="543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4ª. maior revendedora Maserati, a 2ª. Porche e a 2ª. Lamborg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6338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 única cidade da América Latina  com revendedor Rolls Bentl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6 Bugati Veyron circulam na c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379920" y="5661000"/>
            <a:ext cx="2655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ste encomenda para pelo menos mai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9 encomendas de Paga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6684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 milhões de reais e leva 6 meses para entre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302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87120"/>
            <a:ext cx="8424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maior frota de helicópteros do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843280" y="1649160"/>
            <a:ext cx="3311280" cy="55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 York, Tókio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O maior comprador de Yatches de longo 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189400" y="5565600"/>
            <a:ext cx="2695680" cy="11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RETTI VIAREGGIO LU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4:09:15Z</dcterms:created>
  <dc:creator>Jose Luiz Meinberg</dc:creator>
  <dc:description/>
  <dc:language>en-US</dc:language>
  <cp:lastModifiedBy>Mih</cp:lastModifiedBy>
  <dcterms:modified xsi:type="dcterms:W3CDTF">2008-12-19T04:43:03Z</dcterms:modified>
  <cp:revision>8</cp:revision>
  <dc:subject/>
  <dc:title>Estufa o peito !</dc:title>
</cp:coreProperties>
</file>