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(WAVE)If%20Tomorrow%20Never%20Co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(WAVE)If%20Tomorrow%20Never%20Co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547640" y="2781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a de Fal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  <p:sndAc>
      <p:stSnd>
        <p:snd r:embed="rId1" name="(WAVE)If%20Tomorrow%20Never%20Co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8000" y="2710800"/>
            <a:ext cx="525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 visor do caixão havia um espelho e cada um via a si mesmo..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5640" y="2805840"/>
            <a:ext cx="5400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ó existe uma pessoa capaz de limi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u crescimen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OCÊ MESMO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2636280"/>
            <a:ext cx="57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ocê é a única pessoa que p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azer a revolução de sua vid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3428280"/>
            <a:ext cx="47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ocê é a única pessoa que pode prejudicar a sua vid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255200"/>
            <a:ext cx="47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ocê é a única pessoa que pode ajudar a si mesmo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9280" y="22834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"SUA VIDA NÃO MU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NDO SEU CHEFE MU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NDO SUA EMPRESA  MU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NDO SEUS PAIS MUDA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NDO SEU(SUA) NAMORADO(A) MUD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2089800"/>
            <a:ext cx="6048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UA VIDA MUDA... QUANDO VOCÊ MUDA!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2852640"/>
            <a:ext cx="55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VOCÊ É O ÚNICO RESPONSÁVEL POR ELA.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00" y="2524680"/>
            <a:ext cx="55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 mundo é como um espel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e devolve a cada pesso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 reflexo de seus próprios pens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68360" y="2950200"/>
            <a:ext cx="53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maneira como você encara a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é que faz toda diferença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vida muda, quando "você muda"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0920" y="615240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uiz Fernando Veríssim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63640" y="2742120"/>
            <a:ext cx="61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m dia, quando os funcionários chega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ara trabalhar, encontraram na por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m cartaz enorme, no qual estava escrito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26643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"Faleceu ontem a pessoa que atrapalh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ua vida na Empresa.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ocê está convidado para o veló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a quadra de esportes"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1924560"/>
            <a:ext cx="58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 início, todos se entristece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 a morte de algué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s depois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gum temp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icaram curiosos para sa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em estava atrapalhando sua vida e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oqueando seu crescimento na empresa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19280" y="2586600"/>
            <a:ext cx="59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agitação na quadra de espor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ra tão grande, que foi preciso cha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 seguranças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ara organizar a fila do velório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0920" y="1796040"/>
            <a:ext cx="51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forme as pesso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am se aproximando do caix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excitação aumentava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3189960"/>
            <a:ext cx="64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66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Quem será que estava atrapalh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o meu progresso?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38599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- Ainda bem que esse infeliz morreu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9640" y="2165040"/>
            <a:ext cx="56181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m a um, os funcionários, agit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 aproximavam do caix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lhavam pelo visor do caix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fim de reconhecer o defu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goliam em se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 saiam 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abeça abaixa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m nada falar uns com 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95640" y="2121480"/>
            <a:ext cx="49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icavam no mais absoluto silêncio, como se tivessem sido atingidos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 fundo da alma e dirigiam-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ara suas sala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3483360"/>
            <a:ext cx="63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dos, muito curiosos mantinham-se na f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té chegar a su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ez de verific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em estava no caix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 que tinha atrapalhado ta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 cada um dele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2636640"/>
            <a:ext cx="56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pergunta ecoava na 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to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Arial"/>
              </a:rPr>
              <a:t>"Quem está nesse caixão"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47:44Z</dcterms:created>
  <dc:creator>C.A.A.A.</dc:creator>
  <dc:description/>
  <dc:language>en-US</dc:language>
  <cp:lastModifiedBy>C.A.A.A.</cp:lastModifiedBy>
  <dcterms:modified xsi:type="dcterms:W3CDTF">2007-12-04T19:04:44Z</dcterms:modified>
  <cp:revision>3</cp:revision>
  <dc:subject/>
  <dc:title>Nota de Falecimento</dc:title>
</cp:coreProperties>
</file>