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media/Secret%20Garden%20-%20White%20Stones%20-%20ILLUMINATION-16x11025.wav" ContentType="audio/x-wav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D7FB-1219-48FE-BBE6-59EF73F7D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F6E5-0D04-4F2F-84DB-B721C2A22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A2F4-F88C-4813-8338-B8E33310F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3AE4-519E-47D7-8E6E-7B5C6201C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24A3-07D4-42CF-8558-4DCDCF8AA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A45B-70E3-485C-839E-2D16E17B8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FDED-E939-409D-B45A-29E954D84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E0DD-A9BB-4166-BB15-6459A7172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E21D-C11E-46B8-A50F-CA8B81A56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36B4-A603-4A40-A234-04D08A39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9F43-8F98-41F3-BE0D-CA259ED7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3FD7-6306-4B75-A53A-FB2AAB7A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DBC1B-3EA1-4BA2-8F12-53284A6483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840" y="79200"/>
            <a:ext cx="9072720" cy="6715440"/>
          </a:xfrm>
          <a:prstGeom prst="rect">
            <a:avLst/>
          </a:prstGeom>
          <a:noFill/>
          <a:ln w="7632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00160" y="231840"/>
            <a:ext cx="8712000" cy="6427800"/>
          </a:xfrm>
          <a:prstGeom prst="rect">
            <a:avLst/>
          </a:prstGeom>
          <a:noFill/>
          <a:ln w="7632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95280" y="385920"/>
            <a:ext cx="8353440" cy="6086160"/>
          </a:xfrm>
          <a:prstGeom prst="rect">
            <a:avLst/>
          </a:prstGeom>
          <a:noFill/>
          <a:ln w="7632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ecret%20Garden%20-%20White%20Stones%20-%20ILLUMINATION-16x11025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7993080" cy="5832360"/>
          </a:xfrm>
          <a:prstGeom prst="rect">
            <a:avLst/>
          </a:prstGeom>
          <a:ln w="0">
            <a:noFill/>
          </a:ln>
        </p:spPr>
      </p:pic>
      <p:grpSp>
        <p:nvGrpSpPr>
          <p:cNvPr id="45" name=""/>
          <p:cNvGrpSpPr/>
          <p:nvPr/>
        </p:nvGrpSpPr>
        <p:grpSpPr>
          <a:xfrm>
            <a:off x="1042920" y="1916280"/>
            <a:ext cx="7056360" cy="2519280"/>
            <a:chOff x="1042920" y="1916280"/>
            <a:chExt cx="7056360" cy="2519280"/>
          </a:xfrm>
        </p:grpSpPr>
        <p:sp>
          <p:nvSpPr>
            <p:cNvPr id="46" name=""/>
            <p:cNvSpPr/>
            <p:nvPr/>
          </p:nvSpPr>
          <p:spPr>
            <a:xfrm>
              <a:off x="1042920" y="1916280"/>
              <a:ext cx="7056360" cy="2519280"/>
            </a:xfrm>
            <a:prstGeom prst="flowChartAlternateProcess">
              <a:avLst/>
            </a:prstGeom>
            <a:gradFill rotWithShape="0">
              <a:gsLst>
                <a:gs pos="0">
                  <a:srgbClr val="006600">
                    <a:alpha val="63137"/>
                  </a:srgbClr>
                </a:gs>
                <a:gs pos="50000">
                  <a:srgbClr val="00cc99">
                    <a:alpha val="62352"/>
                  </a:srgbClr>
                </a:gs>
                <a:gs pos="100000">
                  <a:srgbClr val="006600">
                    <a:alpha val="63137"/>
                  </a:srgbClr>
                </a:gs>
              </a:gsLst>
              <a:lin ang="10800000"/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 txBox="1"/>
            <p:nvPr/>
          </p:nvSpPr>
          <p:spPr>
            <a:xfrm>
              <a:off x="1290600" y="2203560"/>
              <a:ext cx="6562800" cy="19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25560">
                    <a:solidFill>
                      <a:srgbClr val="ff0000"/>
                    </a:solidFill>
                    <a:miter/>
                  </a:ln>
                  <a:solidFill>
                    <a:srgbClr val="ffff00"/>
                  </a:solidFill>
                  <a:latin typeface="Arial Black"/>
                </a:rPr>
                <a:t>Sabe como capturar porcos </a:t>
              </a:r>
              <a:endParaRPr b="1" lang="en-US" sz="24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25560">
                    <a:solidFill>
                      <a:srgbClr val="ff0000"/>
                    </a:solidFill>
                    <a:miter/>
                  </a:ln>
                  <a:solidFill>
                    <a:srgbClr val="ffff00"/>
                  </a:solidFill>
                  <a:latin typeface="Arial Black"/>
                </a:rPr>
                <a:t>selvagens?</a:t>
              </a:r>
              <a:endParaRPr b="1" lang="en-US" sz="24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8" name=""/>
          <p:cNvSpPr txBox="1"/>
          <p:nvPr/>
        </p:nvSpPr>
        <p:spPr>
          <a:xfrm>
            <a:off x="2641680" y="666720"/>
            <a:ext cx="38592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5840">
                  <a:solidFill>
                    <a:srgbClr val="0000ff"/>
                  </a:solidFill>
                  <a:miter/>
                </a:ln>
                <a:solidFill>
                  <a:srgbClr val="ffffff">
                    <a:alpha val="73000"/>
                  </a:srgbClr>
                </a:solidFill>
                <a:latin typeface="Arial Black"/>
              </a:rPr>
              <a:t>AUMENTE  O  SOM!</a:t>
            </a:r>
            <a:endParaRPr b="1" lang="en-US" sz="2400" spc="1" strike="noStrike">
              <a:ln w="15840">
                <a:solidFill>
                  <a:srgbClr val="0000ff"/>
                </a:solidFill>
                <a:miter/>
              </a:ln>
              <a:solidFill>
                <a:srgbClr val="ffffff">
                  <a:alpha val="73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26920" y="5516640"/>
            <a:ext cx="7417080" cy="28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eformatado por eliofernandes@uol.com.br</a:t>
            </a:r>
            <a:endParaRPr b="1" lang="en-US" sz="14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559320" y="5877000"/>
            <a:ext cx="2307960" cy="30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Abril  2008</a:t>
            </a:r>
            <a:endParaRPr b="1" lang="en-US" sz="1600" spc="1" strike="noStrike">
              <a:ln w="12600">
                <a:solidFill>
                  <a:srgbClr val="0000ff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4437000"/>
            <a:ext cx="734400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Formatado por Cris So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ADAPTAÇÃO-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OVA VISÃO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(JAN-200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885080" y="6381720"/>
            <a:ext cx="287280" cy="476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8901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2901"/>
                            </p:stCondLst>
                            <p:childTnLst>
                              <p:par>
                                <p:cTn id="21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401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4113360" cy="46911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219640" y="2109960"/>
            <a:ext cx="3384720" cy="2850840"/>
          </a:xfrm>
          <a:prstGeom prst="rect">
            <a:avLst/>
          </a:prstGeom>
          <a:solidFill>
            <a:srgbClr val="3366f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pt-BR" sz="2000" spc="-1" strike="noStrike">
                <a:solidFill>
                  <a:srgbClr val="ffffff"/>
                </a:solidFill>
                <a:latin typeface="Tahoma"/>
              </a:rPr>
              <a:t>Sempre e sempre novas leis de acordo com os que dominam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ahoma"/>
              </a:rPr>
              <a:t>Tudo a custo da perda contínua da liberdade (expressão, economica, cultural, social...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ahoma"/>
              </a:rPr>
              <a:t>Migalha a migalh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comb dir="horz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0" t="11576" r="0" b="29877"/>
          <a:stretch/>
        </p:blipFill>
        <p:spPr>
          <a:xfrm>
            <a:off x="1496880" y="549360"/>
            <a:ext cx="6150240" cy="32702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68360" y="4508640"/>
            <a:ext cx="8207280" cy="1557000"/>
          </a:xfrm>
          <a:prstGeom prst="rect">
            <a:avLst/>
          </a:prstGeom>
          <a:solidFill>
            <a:srgbClr val="3366f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Devemos lembrarmo-nos que NÃO EXISTE ESTE NEGÓCIO DE ALMOÇOS GRÁTIS e, também, que NÃO É POSSÍVEL ALGUÉM PRESTAR UM SERVIÇO MAIS BARATO DO QUE SE VOCÊ MESMO O FIZES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6000">
    <p:comb dir="ver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901880" y="1268280"/>
            <a:ext cx="5319720" cy="36165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55640" y="1268280"/>
            <a:ext cx="7704000" cy="3460680"/>
          </a:xfrm>
          <a:prstGeom prst="rect">
            <a:avLst/>
          </a:prstGeom>
          <a:solidFill>
            <a:srgbClr val="3366f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inalmente, se você percebe que toda esta maravilhosa “ajuda” governamental opõe-se ao futuro da democracia no nosso país, você irá reenviar esta mensagem para os seus amig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Mas se você concorda que políticos passam pedir mais poder para as classes deles, tirarem a liberdade e o dinheiro a todos nós para beneficiar a sua classe dominante de banqueiros, grandes empresas,  então você, provavelmente, irá apagar  este PP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 que Deus o ajude quando trancarem a porta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3000">
    <p:comb dir="horz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11280" y="966960"/>
            <a:ext cx="4653000" cy="49240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508720" y="1268280"/>
            <a:ext cx="2952720" cy="4400640"/>
          </a:xfrm>
          <a:prstGeom prst="rect">
            <a:avLst/>
          </a:prstGeom>
          <a:solidFill>
            <a:srgbClr val="3366f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Já faz algum tempo que o milho está sendo lançado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s cercas estão sendo colocadas aos pouco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mperceptivelm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9000">
    <p:comb dir="vert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0" t="11339" r="0" b="0"/>
          <a:stretch/>
        </p:blipFill>
        <p:spPr>
          <a:xfrm>
            <a:off x="979560" y="485640"/>
            <a:ext cx="7157880" cy="42944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906560" y="4853160"/>
            <a:ext cx="5329440" cy="14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 quando menos se espera.. PRONT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TRANCAM A POR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7000">
    <p:newsflash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22600" y="465120"/>
            <a:ext cx="5697360" cy="43880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39640" y="5013360"/>
            <a:ext cx="7936200" cy="1374480"/>
          </a:xfrm>
          <a:prstGeom prst="rect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Um dia um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rofessor de Química de um grande colégio, enquanto a turma estava no laboratório,  notou que um jovem coçava continuamente as costas e esticava-se como se elas doess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8000">
    <p:comb dir="horz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1643" r="0" b="16240"/>
          <a:stretch/>
        </p:blipFill>
        <p:spPr>
          <a:xfrm>
            <a:off x="1506600" y="453960"/>
            <a:ext cx="6129360" cy="44481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68360" y="4581360"/>
            <a:ext cx="8207280" cy="1618560"/>
          </a:xfrm>
          <a:prstGeom prst="rect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o ser questionado, o aluno respondeu que tinha uma bala alojada nas costas, pois tinha sido alvejado quando lutava contra os Fascistas do seu país, que estavam tentando derrubar o governo e instalar um novo regime, um “</a:t>
            </a:r>
            <a:r>
              <a:rPr b="1" i="1" lang="en-US" sz="2000" spc="-1" strike="noStrike" u="sng">
                <a:solidFill>
                  <a:srgbClr val="ff9933"/>
                </a:solidFill>
                <a:uFillTx/>
                <a:latin typeface="Tahoma"/>
              </a:rPr>
              <a:t>outro mundo possível</a:t>
            </a:r>
            <a:r>
              <a:rPr b="1" i="1" lang="en-US" sz="2000" spc="-1" strike="noStrike">
                <a:solidFill>
                  <a:srgbClr val="ff9933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5000">
    <p:comb dir="ver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90560" y="890640"/>
            <a:ext cx="7485120" cy="5040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211640" y="765000"/>
            <a:ext cx="4176720" cy="3400920"/>
          </a:xfrm>
          <a:prstGeom prst="rect">
            <a:avLst/>
          </a:prstGeom>
          <a:solidFill>
            <a:srgbClr val="3366f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No meio do relato ele olhou para o professor e perguntou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O senhor Professor sabe  como se capturam os porcos selvagen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Não, respondeu o profess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comb dir="horz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82480" y="404640"/>
            <a:ext cx="7979040" cy="5413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39640" y="4076640"/>
            <a:ext cx="8064720" cy="2241000"/>
          </a:xfrm>
          <a:prstGeom prst="rect">
            <a:avLst/>
          </a:prstGeom>
          <a:solidFill>
            <a:srgbClr val="3366f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apturam-se os porcos selvagens encontrando um lugar adequado na floresta e lançando algum milho no chã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Os porcos vêm todos os dias comer o milho gratui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Quando eles se acostumam a vir todos os dias, coloca-se uma cerca. Mas só de um lado do lugar onde eles se acostumaram a v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9000">
    <p:comb dir="ver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23164" r="0" b="11009"/>
          <a:stretch/>
        </p:blipFill>
        <p:spPr>
          <a:xfrm>
            <a:off x="708120" y="514440"/>
            <a:ext cx="7723080" cy="3274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95280" y="4365720"/>
            <a:ext cx="8353440" cy="1936080"/>
          </a:xfrm>
          <a:prstGeom prst="rect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Quando eles se acostumam com a cerca, eles voltam para comer o milho e coloca-se, do outro lado, uma nova cerc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Mais uma vez eles se acostumam e voltam para com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ontinua-se assim, até colocar os quatro lados da cerca em volta deles, com uma porta no último l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1000">
    <p:comb dir="horz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9216" r="0" b="0"/>
          <a:stretch/>
        </p:blipFill>
        <p:spPr>
          <a:xfrm>
            <a:off x="-117360" y="-11160"/>
            <a:ext cx="9372600" cy="68691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50920" y="5084640"/>
            <a:ext cx="8713800" cy="1777320"/>
          </a:xfrm>
          <a:prstGeom prst="rect">
            <a:avLst/>
          </a:prstGeom>
          <a:solidFill>
            <a:srgbClr val="0000ff">
              <a:alpha val="58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Os porcos, que já se acostumaram  ao milho fácil e às cercas e continuam a vi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ntão, fecha-se a porta e captura-se o grupo inteiro.                                                  E assim, em pouco tempo, os porcos perdem a sua liberda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9000">
    <p:comb dir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>
            <a:alphaModFix amt="63000"/>
          </a:blip>
          <a:srcRect l="11511" t="13619" r="0" b="-431"/>
          <a:stretch/>
        </p:blipFill>
        <p:spPr>
          <a:xfrm>
            <a:off x="468360" y="555480"/>
            <a:ext cx="8139240" cy="5689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95280" y="4797360"/>
            <a:ext cx="8209080" cy="1313640"/>
          </a:xfrm>
          <a:prstGeom prst="rect">
            <a:avLst/>
          </a:prstGeom>
          <a:solidFill>
            <a:srgbClr val="3366f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les ficam correndo e dando voltas dentro das cercas, mas logo voltam a comer o milho fácil e gratuito. E ficam tão acostumados a ele, que esquecem como caçar na floresta             por si próprios. E por isso, aceitam a servidã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6000">
    <p:comb dir="horz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2738520" cy="2054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348000" y="476280"/>
            <a:ext cx="5256360" cy="5912280"/>
          </a:xfrm>
          <a:prstGeom prst="rect">
            <a:avLst/>
          </a:prstGeom>
          <a:gradFill rotWithShape="0">
            <a:gsLst>
              <a:gs pos="0">
                <a:srgbClr val="006600">
                  <a:alpha val="17254"/>
                </a:srgbClr>
              </a:gs>
              <a:gs pos="100000">
                <a:srgbClr val="00cc99">
                  <a:alpha val="1725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Unicode MS"/>
              </a:rPr>
              <a:t>O jovem, então, disse ao professor que </a:t>
            </a:r>
            <a:r>
              <a:rPr b="1" i="1" lang="pt-BR" sz="1800" spc="-1" strike="noStrike">
                <a:solidFill>
                  <a:srgbClr val="ffffff"/>
                </a:solidFill>
                <a:latin typeface="Arial Unicode MS"/>
              </a:rPr>
              <a:t>era isso o que ele via acontecer ao seu paí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Unicode MS"/>
              </a:rPr>
              <a:t>O governo ficava empurrando o povo para o Capitalismo e espalhando o milho gratuito, na forma 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 Unicode MS"/>
              </a:rPr>
              <a:t>sopa aos excluídos, para conter revolta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 Unicode MS"/>
              </a:rPr>
              <a:t>programas de televisão manipuladore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 Unicode MS"/>
              </a:rPr>
              <a:t>futebol como um bem soci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 Unicode MS"/>
              </a:rPr>
              <a:t>justiça com duas caras ( ricos e pobre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 Unicode MS"/>
              </a:rPr>
              <a:t>impostos variados sobre os mais humilde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 Unicode MS"/>
              </a:rPr>
              <a:t>estatutos de proteção banqueiros e político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 Unicode MS"/>
              </a:rPr>
              <a:t>reformas de muitos milhares para os seu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 Unicode MS"/>
              </a:rPr>
              <a:t>programas falsos de bem-estar social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 Unicode MS"/>
              </a:rPr>
              <a:t>medicina e medicamentos para quem dinhei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9000">
    <p:comb dir="ver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11:13:49Z</dcterms:created>
  <dc:creator>MARIA CRISTINA</dc:creator>
  <dc:description>JMF</dc:description>
  <dc:language>en-US</dc:language>
  <cp:lastModifiedBy>Jose Manuel Ferreira</cp:lastModifiedBy>
  <dcterms:modified xsi:type="dcterms:W3CDTF">2010-04-16T10:44:39Z</dcterms:modified>
  <cp:revision>49</cp:revision>
  <dc:subject/>
  <dc:title>Capturar porcos</dc:title>
</cp:coreProperties>
</file>