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Secret%20Garden%20-%20White%20Stones%20-%20ILLUMINATION-16x11025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E59-4884-4459-A44E-44F4A3A8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998-C8A8-4D60-A0EF-062BE57D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1D9-4641-4B4E-B4F3-75864794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2F1-63BE-4B69-A821-8D41055B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BC1-2CCF-427B-91A4-37816CC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4EE-6D46-472D-989C-16729582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822-C88B-4327-99E3-EF24F6A5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D79-BDC2-428F-BDB0-4B3EEAA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427-5BE0-4ABB-B459-DF6AE85F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004-C53C-4DAB-BA12-A1554C8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175-36D4-4C9B-8997-422A4D7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D93-CE68-4BB3-AEE6-C8BF9C7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DDE0-E60E-4553-A40F-1A70EEA5F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40" y="79200"/>
            <a:ext cx="9072720" cy="671544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0160" y="231840"/>
            <a:ext cx="8712000" cy="642780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385920"/>
            <a:ext cx="8353440" cy="60861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White%20Stones%20-%20ILLUMINATION-16x11025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42920" y="1916280"/>
            <a:ext cx="7056360" cy="2519280"/>
            <a:chOff x="1042920" y="1916280"/>
            <a:chExt cx="7056360" cy="2519280"/>
          </a:xfrm>
        </p:grpSpPr>
        <p:sp>
          <p:nvSpPr>
            <p:cNvPr id="46" name=""/>
            <p:cNvSpPr/>
            <p:nvPr/>
          </p:nvSpPr>
          <p:spPr>
            <a:xfrm>
              <a:off x="1042920" y="1916280"/>
              <a:ext cx="7056360" cy="2519280"/>
            </a:xfrm>
            <a:prstGeom prst="flowChartAlternateProcess">
              <a:avLst/>
            </a:prstGeom>
            <a:gradFill rotWithShape="0">
              <a:gsLst>
                <a:gs pos="0">
                  <a:srgbClr val="006600">
                    <a:alpha val="63137"/>
                  </a:srgbClr>
                </a:gs>
                <a:gs pos="50000">
                  <a:srgbClr val="00cc99">
                    <a:alpha val="62352"/>
                  </a:srgbClr>
                </a:gs>
                <a:gs pos="100000">
                  <a:srgbClr val="006600">
                    <a:alpha val="63137"/>
                  </a:srgbClr>
                </a:gs>
              </a:gsLst>
              <a:lin ang="108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290600" y="2203560"/>
              <a:ext cx="6562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abe como capturar porcos 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elvagens?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2641680" y="666720"/>
            <a:ext cx="385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ffff">
                    <a:alpha val="73000"/>
                  </a:srgbClr>
                </a:solidFill>
                <a:latin typeface="Arial Black"/>
              </a:rPr>
              <a:t>AUMENTE  O  SOM!</a:t>
            </a:r>
            <a:endParaRPr b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ffff">
                  <a:alpha val="73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516640"/>
            <a:ext cx="74170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ormatado por eliofernandes@uol.com.br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9320" y="5877000"/>
            <a:ext cx="23079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bril  2008</a:t>
            </a:r>
            <a:endParaRPr b="1" lang="en-US" sz="16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437000"/>
            <a:ext cx="7344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ormatado por Cris So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DAPTAÇÃO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VA VISÃ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(JAN-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85080" y="6381720"/>
            <a:ext cx="287280" cy="476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90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1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401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4113360" cy="469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19640" y="2109960"/>
            <a:ext cx="3384720" cy="28508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mpre e sempre novas leis de acordo com os que dominam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udo a custo da perda contínua da liberdade (expressão, economica, cultural, so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igalha a miga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1576" r="0" b="29877"/>
          <a:stretch/>
        </p:blipFill>
        <p:spPr>
          <a:xfrm>
            <a:off x="1496880" y="549360"/>
            <a:ext cx="6150240" cy="327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508640"/>
            <a:ext cx="8207280" cy="1557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mos lembrarmo-nos que NÃO EXISTE ESTE NEGÓCIO DE ALMOÇOS GRÁTIS e, também, que NÃO É POSSÍVEL ALGUÉM PRESTAR UM SERVIÇO MAIS BARATO DO QUE SE VOCÊ MESMO O FI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1880" y="1268280"/>
            <a:ext cx="5319720" cy="361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268280"/>
            <a:ext cx="7704000" cy="346068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lmente, se você percebe que toda esta maravilhosa “ajuda” governamental opõe-se ao futuro da democracia no nosso país, você irá reenviar esta mensagem para os seus am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se você concorda que políticos passam pedir mais poder para as classes deles, tirarem a liberdade e o dinheiro a todos nós para beneficiar a sua classe dominante de banqueiros, grandes empresas,  então você, provavelmente, irá apagar  este P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que Deus o ajude quando trancarem a por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966960"/>
            <a:ext cx="4653000" cy="49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1268280"/>
            <a:ext cx="2952720" cy="4400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á faz algum tempo que o milho está sendo lançado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 cercas estão sendo colocadas aos pouc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erceptive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979560" y="485640"/>
            <a:ext cx="7157880" cy="42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6560" y="4853160"/>
            <a:ext cx="5329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quando menos se espera.. PRO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RANCAM A POR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22600" y="465120"/>
            <a:ext cx="5697360" cy="438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013360"/>
            <a:ext cx="7936200" cy="13744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m dia u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fessor de Química de um grande colégio, enquanto a turma estava no laboratório,  notou que um jovem coçava continuamente as costas e esticava-se como se elas doess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1643" r="0" b="16240"/>
          <a:stretch/>
        </p:blipFill>
        <p:spPr>
          <a:xfrm>
            <a:off x="1506600" y="453960"/>
            <a:ext cx="6129360" cy="4448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4581360"/>
            <a:ext cx="8207280" cy="161856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 ser questionado, o aluno respondeu que tinha uma bala alojada nas costas, pois tinha sido alvejado quando lutava contra os Fascistas do seu país, que estavam tentando derrubar o governo e instalar um novo regime, um “</a:t>
            </a:r>
            <a:r>
              <a:rPr b="1" i="1" lang="en-US" sz="2000" spc="-1" strike="noStrike" u="sng">
                <a:solidFill>
                  <a:srgbClr val="ff9933"/>
                </a:solidFill>
                <a:uFillTx/>
                <a:latin typeface="Tahoma"/>
              </a:rPr>
              <a:t>outro mundo possível</a:t>
            </a:r>
            <a:r>
              <a:rPr b="1" i="1" lang="en-US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0560" y="890640"/>
            <a:ext cx="74851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765000"/>
            <a:ext cx="4176720" cy="340092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 meio do relato ele olhou para o professor e pergunto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 Professor sabe  como se capturam os porcos selvage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ão, respondeu o prof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79040" cy="541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4076640"/>
            <a:ext cx="8064720" cy="2241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turam-se os porcos selvagens encontrando um lugar adequado na floresta e lançando algum milho no ch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 vêm todos os dias comer o milho gratu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a vir todos os dias, coloca-se uma cerca. Mas só de um lado do lugar onde eles se acostumaram a 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23164" r="0" b="11009"/>
          <a:stretch/>
        </p:blipFill>
        <p:spPr>
          <a:xfrm>
            <a:off x="708120" y="514440"/>
            <a:ext cx="7723080" cy="327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4365720"/>
            <a:ext cx="8353440" cy="19360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com a cerca, eles voltam para comer o milho e coloca-se, do outro lado, uma nova cer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is uma vez eles se acostumam e voltam para co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inua-se assim, até colocar os quatro lados da cerca em volta deles, com uma porta no últi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9216" r="0" b="0"/>
          <a:stretch/>
        </p:blipFill>
        <p:spPr>
          <a:xfrm>
            <a:off x="-117360" y="-11160"/>
            <a:ext cx="937260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5084640"/>
            <a:ext cx="8713800" cy="1777320"/>
          </a:xfrm>
          <a:prstGeom prst="rect">
            <a:avLst/>
          </a:prstGeom>
          <a:solidFill>
            <a:srgbClr val="0000ff">
              <a:alpha val="58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, que já se acostumaram  ao milho fácil e às cercas e continuam a v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ão, fecha-se a porta e captura-se o grupo inteiro.                                                  E assim, em pouco tempo, os porcos perdem a sua liber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alphaModFix amt="63000"/>
          </a:blip>
          <a:srcRect l="11511" t="13619" r="0" b="-431"/>
          <a:stretch/>
        </p:blipFill>
        <p:spPr>
          <a:xfrm>
            <a:off x="468360" y="555480"/>
            <a:ext cx="8139240" cy="568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s ficam correndo e dando voltas dentro das cercas, mas logo voltam a comer o milho fácil e gratuito. E ficam tão acostumados a ele, que esquecem como caçar na floresta             por si próprios. E por isso, aceitam a servi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8520" cy="205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48000" y="476280"/>
            <a:ext cx="5256360" cy="5912280"/>
          </a:xfrm>
          <a:prstGeom prst="rect">
            <a:avLst/>
          </a:prstGeom>
          <a:gradFill rotWithShape="0">
            <a:gsLst>
              <a:gs pos="0">
                <a:srgbClr val="006600">
                  <a:alpha val="17254"/>
                </a:srgbClr>
              </a:gs>
              <a:gs pos="100000">
                <a:srgbClr val="00cc99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jovem, então, disse ao professor que 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era isso o que ele via acontecer ao seu paí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governo ficava empurrando o povo para o Capitalismo e espalhando o milho gratuito, na forma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sopa aos excluídos, para conter revolt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de televisão manipul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futebol como um bem soc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justiça com duas caras ( ricos e po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impostos variados sobre os mais humild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estatutos de proteção banqueiros e polít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reformas de muitos milhares para os se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falsos de bem-estar soci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medicina e medicamentos para quem dinh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3:49Z</dcterms:created>
  <dc:creator>MARIA CRISTINA</dc:creator>
  <dc:description>JMF</dc:description>
  <dc:language>en-US</dc:language>
  <cp:lastModifiedBy>Jose Manuel Ferreira</cp:lastModifiedBy>
  <dcterms:modified xsi:type="dcterms:W3CDTF">2010-04-16T10:44:39Z</dcterms:modified>
  <cp:revision>49</cp:revision>
  <dc:subject/>
  <dc:title>Capturar porcos</dc:title>
</cp:coreProperties>
</file>