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C3C-E594-49EA-8F3A-B2E257B4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34B-13DF-4335-A244-8C56A9FF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9CB-2697-4394-907A-1BDE4DEC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E25-897F-468D-BB6D-18345B3E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274B-984D-4518-A075-A25253BE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5A40-446D-4758-938A-D5EA9063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CD01-F1A2-45D9-BC04-56E82AE8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1970-AFD7-49AB-B1A6-31855BF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678F-2C1B-4715-91CC-44BE748B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626F-D49F-40EF-82D8-2CB1B382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FEF4-025E-4712-91D3-9C6A5FD1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E40-6B29-44B7-9075-A3B2EFC3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32EF-C0CC-4601-8B7B-74B1BE41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DC71-6ACE-4E59-86CC-5673B441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4202-7627-4540-B5A7-8F8CAEBE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0689-47E4-46EE-9091-0A05D694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3F82-98F6-4BAC-B04E-2DBD0E55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F2F-0CFB-4F41-95BB-B78B916C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5D9-D671-4DCC-AC43-5B75A843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6FA-778C-4E48-AE31-374E873A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709-FB57-4967-9186-00854C08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E19-0D83-4705-A86D-C2521CF6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C1E-135F-43E6-B6F7-C6181CA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26E-8B28-4B17-988E-41E84238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1921-4D0C-4A10-B480-E1F6C547E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AD9C-01DD-4C77-A935-7ED031100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567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TÓPiCOS </a:t>
            </a:r>
            <a:br>
              <a:rPr sz="6000"/>
            </a:b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DE </a:t>
            </a:r>
            <a:br>
              <a:rPr sz="6000"/>
            </a:b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SEGURANÇA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92360" y="458136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FAVOR LEI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ATENÇÃO A ESTA SITUAÇÃ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Se vires um papel no vidro traseiro , depois de entrares no carro, NÃO SAIAS para ver o que é…ARRANCA e noutro local retiras o papel. Pode estar algum ladrão à tua espera, enquanto vais ver o que diz o pa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or último, o "truque" do bebé chora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Se escutares o choro de um bebé em algum carro, deixa o teu instinto maternal de l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NÃO te aproximes, avisa algum guarda, pode ser uma gravaçã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O mesmo pode suceder se ouvires esse choro na porta ou cerca de tua ca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Chama a polícia e NUNCA abras a p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Isto foi mencionado no programa  America's Most Wanted, ao estar a fazer a análise do perfil de un assassino em séri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or favor envia esta mensagem a todas as pessoas que conheces. Poderá salvar uma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Quanto mais informados estamos, mais seguros nos sentire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Uma vela acesa não perde a sua luz, se se acender outra v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Tinha pensado enviar esta mensagem únicamente aos meus amigos, mas seguramente TODOS terão alguém a quem o envia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541440"/>
            <a:ext cx="777240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s-ES" sz="4800" spc="-1" strike="noStrike">
                <a:solidFill>
                  <a:srgbClr val="ffffff"/>
                </a:solidFill>
                <a:latin typeface="Arial Black"/>
              </a:rPr>
              <a:t>Tips do Tae Kwon D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O cotovelo é o ponto mais duro do corpo, se estás suficientemente perto, usa-o.</a:t>
            </a:r>
            <a:br>
              <a:rPr sz="4800"/>
            </a:br>
            <a:br>
              <a:rPr sz="2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9325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e um ladrão te pede a carte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NÃO LHA ENTREGUES NA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 M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Atira-a para o mais longe que puder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Enquanto ele a vai apanh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NA DIRECÇÃO OPOST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Se alguma vez te fecharem na mala de un carro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Parte os farolins traseiros, coloca o teu braço pelo buraco e acena..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O  condutor não verá, mas os outros condutores, sim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Isto já salvou muitas pessoa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79360" y="-27000"/>
            <a:ext cx="8569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s mulheres têm tendencia de entrar no carro e ficar a ver a carteira, a lista do supermercado, retocar a maquillage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NUNCA FAÇAS I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É a oportunidade para que alguém entre no lugar do passageiro e te obrigue a ir onde ele quei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LOGO QUE ENTRES NO CARRO, FECHA DE IMEDIATO AS PORT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... ARRANCA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Algunmas notas sobre os estacionament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A.) Antes de entrar  no carro, verifica que não esteja ninguém  dentro, ou alguém à volta da viatura que te observe.  Se assim for, afasta-te e procura um guard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B.) Se estás estacionada junto a una carrinha, entra no carro  pela  porta contrária à que está do lado da van. A maioría dos assassinos em série ataca as suas vítimas trancando-as entre a carrinha e o carr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C.) Olha o carro que está a seguir ao teu. Se alguém com aspecto “suspeito” ou “perigoso’’ estiver lá sentado, não te aproximes, e vai à procura de um guar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MELHOR PREVENIR QUE REMED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SEMPRE!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Usar o elevador em vez das escadas.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As escadas são alguns dos lugares preferidos pelos meleantes para atacar as suas vítima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576000"/>
            <a:ext cx="8748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e estás numa situação em que o ladrão tem uma arma mas não te tem de baixo de contro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RÁPI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O ladrão só poderá acertar 1 tiro em cada 25 (objecto em movimento) E mais, é quase certo que não te acerte num órgão vi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SEMP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As mulheres são muito fáceis de sentir compaix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Ted Bundy, um assassino em série era muito atractivo e de bons modos, e aproveitava-se deste sentimento muito feminino; usava uma bengala e fingia não poder com os pacotes para subir ao seu carro, pedia ajuda a alguma mulher só, e depois abusava del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21:05:30Z</dcterms:created>
  <dc:creator>JOAQUIN MARTINEZ</dc:creator>
  <dc:description/>
  <cp:keywords/>
  <dc:language>en-US</dc:language>
  <cp:lastModifiedBy>Normal User</cp:lastModifiedBy>
  <dcterms:modified xsi:type="dcterms:W3CDTF">2008-08-23T11:31:27Z</dcterms:modified>
  <cp:revision>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203082</vt:lpwstr>
  </property>
</Properties>
</file>