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FC14-5687-402E-831F-B9B27314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7985-0605-499F-A915-24E4C143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9876-394F-4F4C-B6AA-7ACAD038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2ED2-BF71-40A3-8A7F-1D66A1CF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2347-AADA-459B-956F-A1A525B0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9CA2-79D1-40E4-9BEB-721C907C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14E1-D53A-4089-8C5F-F6D9017F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236D-0EC9-4206-8AB1-5B6EE80E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14C2-94B5-4E37-93F9-D4546000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5136-E2E7-40B1-9F43-37DE99CD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A266-BB31-4D70-9777-D4058A57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E51-190D-4F2A-8278-1F3B5B71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8432-6B10-4A6B-8460-EBDDFE07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1FEF-37FE-47D5-BD94-8C8831E4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D648-74F9-474F-B1E5-1B0F4816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845B-44F2-48A3-8B45-93C0EBF3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AF44-2D9A-44A5-BD29-F4D073BC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FE1-9E9D-4B41-8DFE-30EE1525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8AA-ADE1-49D6-A000-DC7FECC5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7AAB-7A73-4DDE-A4BF-AE43C2BB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AD53-F9A2-414F-82EC-103C8648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D99-4001-419C-A070-C3CB80FF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2291-01CE-4BCA-ADBF-E9335FF7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D07-D830-4F8E-9463-84F512A6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7DF8-123F-4293-994A-453324EA00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B006-C24B-4B2F-8C9B-1FF44447C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5674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cc00"/>
                </a:solidFill>
                <a:latin typeface="Arial Black"/>
              </a:rPr>
              <a:t>TÓPiCOS </a:t>
            </a:r>
            <a:br>
              <a:rPr sz="6000"/>
            </a:br>
            <a:r>
              <a:rPr b="0" lang="es-ES" sz="6000" spc="-1" strike="noStrike">
                <a:solidFill>
                  <a:srgbClr val="ffcc00"/>
                </a:solidFill>
                <a:latin typeface="Arial Black"/>
              </a:rPr>
              <a:t>DE </a:t>
            </a:r>
            <a:br>
              <a:rPr sz="6000"/>
            </a:br>
            <a:r>
              <a:rPr b="0" lang="es-ES" sz="6000" spc="-1" strike="noStrike">
                <a:solidFill>
                  <a:srgbClr val="ffcc00"/>
                </a:solidFill>
                <a:latin typeface="Arial Black"/>
              </a:rPr>
              <a:t>SEGURANÇA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92360" y="458136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 FAVOR LEI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ATENÇÃO A ESTA SITUAÇÃ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Se vires um papel no vidro traseiro , depois de entrares no carro, NÃO SAIAS para ver o que é…ARRANCA e noutro local retiras o papel. Pode estar algum ladrão à tua espera, enquanto vais ver o que diz o pap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Por último, o "truque" do bebé choran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Se escutares o choro de um bebé em algum carro, deixa o teu instinto maternal de l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cc00"/>
                </a:solidFill>
                <a:latin typeface="Arial Black"/>
              </a:rPr>
              <a:t>NÃO te aproximes, avisa algum guarda, pode ser uma gravaçã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O mesmo pode suceder se ouvires esse choro na porta ou cerca de tua ca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2400" spc="-1" strike="noStrike">
                <a:solidFill>
                  <a:srgbClr val="ffcc00"/>
                </a:solidFill>
                <a:latin typeface="Arial Black"/>
              </a:rPr>
              <a:t>Chama a polícia e NUNCA abras a po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Isto foi mencionado no programa  America's Most Wanted, ao estar a fazer a análise do perfil de un assassino em série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4978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Por favor envia esta mensagem a todas as pessoas que conheces. Poderá salvar uma vi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Quanto mais informados estamos, mais seguros nos sentirem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Uma vela acesa não perde a sua luz, se se acender outra ve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Tinha pensado enviar esta mensagem únicamente aos meus amigos, mas seguramente TODOS terão alguém a quem o enviar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541440"/>
            <a:ext cx="777240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s-ES" sz="4800" spc="-1" strike="noStrike">
                <a:solidFill>
                  <a:srgbClr val="ffffff"/>
                </a:solidFill>
                <a:latin typeface="Arial Black"/>
              </a:rPr>
              <a:t>Tips do Tae Kwon Do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00"/>
                </a:solidFill>
                <a:latin typeface="Arial Black"/>
              </a:rPr>
              <a:t>O cotovelo é o ponto mais duro do corpo, se estás suficientemente perto, usa-o.</a:t>
            </a:r>
            <a:br>
              <a:rPr sz="4800"/>
            </a:br>
            <a:br>
              <a:rPr sz="2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9325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Se um ladrão te pede a cartei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NÃO LHA ENTREGUES NA</a:t>
            </a: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 M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Atira-a para o mais longe que pudere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Enquanto ele a vai apanha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CORRE NA DIRECÇÃO OPOST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Se alguma vez te fecharem na mala de un carro. 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Parte os farolins traseiros, coloca o teu braço pelo buraco e acena... 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O  condutor não verá, mas os outros condutores, sim. 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Isto já salvou muitas pessoas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79360" y="-27000"/>
            <a:ext cx="85694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As mulheres têm tendencia de entrar no carro e ficar a ver a carteira, a lista do supermercado, retocar a maquillage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NUNCA FAÇAS I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É a oportunidade para que alguém entre no lugar do passageiro e te obrigue a ir onde ele queir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LOGO QUE ENTRES NO CARRO, FECHA DE IMEDIATO AS PORTA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E... ARRANCA!!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 Black"/>
              </a:rPr>
              <a:t>Algunmas notas sobre os estacionamentos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A.) Antes de entrar  no carro, verifica que não esteja ninguém  dentro, ou alguém à volta da viatura que te observe.  Se assim for, afasta-te e procura um guarda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B.) Se estás estacionada junto a una carrinha, entra no carro  pela  porta contrária à que está do lado da van. A maioría dos assassinos em série ataca as suas vítimas trancando-as entre a carrinha e o carro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C.) Olha o carro que está a seguir ao teu. Se alguém com aspecto “suspeito” ou “perigoso’’ estiver lá sentado, não te aproximes, e vai à procura de um guar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 Black"/>
              </a:rPr>
              <a:t>MELHOR PREVENIR QUE REMED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42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SEMPRE!!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Black"/>
              </a:rPr>
              <a:t>Usar o elevador em vez das escadas. 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Black"/>
              </a:rPr>
              <a:t>As escadas são alguns dos lugares preferidos pelos meleantes para atacar as suas vítimas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79280" y="576000"/>
            <a:ext cx="8748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Se estás numa situação em que o ladrão tem uma arma mas não te tem de baixo de contro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CORRE RÁPID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O ladrão só poderá acertar 1 tiro em cada 25 (objecto em movimento) E mais, é quase certo que não te acerte num órgão vi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CORRE SEMPR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893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As mulheres são muito fáceis de sentir compaixã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Ted Bundy, um assassino em série era muito atractivo e de bons modos, e aproveitava-se deste sentimento muito feminino; usava uma bengala e fingia não poder com os pacotes para subir ao seu carro, pedia ajuda a alguma mulher só, e depois abusava dela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9T21:05:30Z</dcterms:created>
  <dc:creator>JOAQUIN MARTINEZ</dc:creator>
  <dc:description/>
  <cp:keywords/>
  <dc:language>en-US</dc:language>
  <cp:lastModifiedBy>Normal User</cp:lastModifiedBy>
  <dcterms:modified xsi:type="dcterms:W3CDTF">2008-08-23T11:31:27Z</dcterms:modified>
  <cp:revision>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203082</vt:lpwstr>
  </property>
</Properties>
</file>