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169-4D59-45BC-8A47-CB71226E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095-8803-4DA3-8C46-323250FC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1E6-2DD8-4589-B256-3BEF39E9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988-3959-4C90-B40C-5B90A1A3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022A-FDEE-4FBD-9D58-F6F55033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0F3-3924-4F2F-A9E7-58C398D8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63C2-05F5-4851-ADC0-95F912CC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81D-DFDF-4A65-874D-7386F6DE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217C-0959-4490-9917-91ABD0F7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5D14-9C3F-4F5C-B993-B0218663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CDE5-0B1B-4CDA-986F-2FBC29DB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03A-01FC-4D46-9587-5AE4BC75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E2CD-3316-4231-86F0-E3FA49814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67640" y="6400800"/>
            <a:ext cx="1298520" cy="313920"/>
            <a:chOff x="7667640" y="6400800"/>
            <a:chExt cx="1298520" cy="313920"/>
          </a:xfrm>
        </p:grpSpPr>
        <p:sp>
          <p:nvSpPr>
            <p:cNvPr id="6" name=""/>
            <p:cNvSpPr txBox="1"/>
            <p:nvPr/>
          </p:nvSpPr>
          <p:spPr>
            <a:xfrm>
              <a:off x="7906320" y="6400800"/>
              <a:ext cx="832320" cy="16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Arial Black"/>
                </a:rPr>
                <a:t>Produções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" name=""/>
            <p:cNvSpPr txBox="1"/>
            <p:nvPr/>
          </p:nvSpPr>
          <p:spPr>
            <a:xfrm>
              <a:off x="7667640" y="6493320"/>
              <a:ext cx="129852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1435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908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HUMORDATRETA</a:t>
              </a:r>
              <a:endPara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26028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Um homem casado decide passar férias numa praia do Caribe, no mesmo hotel aonde passou a Lua de Mel à 20 anos atr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Devido a problemas de trabalho , a mulher não pôde viajar com ele, ficando combinado que ela se juntaria a ele uns dias mais ta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1905120"/>
            <a:ext cx="6096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4653000"/>
            <a:ext cx="830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uando o homem chegou aos alojamentos do hotel, verificou com admiração, que no quarto existia um computador com ligação à Internet, então decidiu enviar um E-mail à sua esposa, mas por engano este foi enviado para outro endereço…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981000"/>
            <a:ext cx="784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E-mail foi recebido por engano no computador de uma viúva que acabara de chegar do funeral do seu marido, e ao ler o correio electrónico, desmaiou instantane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filho da viúva ao entrar em casa encontrou a sua mãe, no chão sem sentidos aos pés do computador, em cujo monitor se podia l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0720" y="404640"/>
            <a:ext cx="5029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00"/>
                </a:solidFill>
                <a:latin typeface="Arial"/>
              </a:rPr>
              <a:t>Querida espo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00"/>
                </a:solidFill>
                <a:latin typeface="Arial"/>
              </a:rPr>
              <a:t>Cheguei bem. Provavelmente estás  surpreendida por receberes notícias por esta via, mas agora aqui já há computadores para enviar-mos mensagens aos entes quer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00"/>
                </a:solidFill>
                <a:latin typeface="Arial"/>
              </a:rPr>
              <a:t>Acabo de chegar e constatei que está tudo preparado para quando chegares no próximo fim de sem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00"/>
                </a:solidFill>
                <a:latin typeface="Arial"/>
              </a:rPr>
              <a:t>Tenho muitas saudades tuas, espero que a tua viagem seja tão tranquila e agradável como a minha.                                                      Beij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981000"/>
            <a:ext cx="808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S: Não tragas muita roupa, que aqui está um calor infer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2:46:02Z</dcterms:created>
  <dc:creator>M. Silvestre</dc:creator>
  <dc:description>Produções Humordatreta</dc:description>
  <dc:language>en-US</dc:language>
  <cp:lastModifiedBy>M. Silvestre</cp:lastModifiedBy>
  <dcterms:modified xsi:type="dcterms:W3CDTF">2006-10-15T03:01:12Z</dcterms:modified>
  <cp:revision>3</cp:revision>
  <dc:subject/>
  <dc:title>Diapositivo 1</dc:title>
</cp:coreProperties>
</file>