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B0B-5446-4D05-85C1-AFC66145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E72-4E1A-40CB-BD1B-BFBBB81D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4B8-7436-4D29-A9E1-9172E1A5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B9A-49A7-4625-A3F1-56AC420C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568-BB16-4602-B808-56A132F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992-7E55-49B0-9A6F-BCF4FF8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0E8-843C-4A60-AAAB-7D39F474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98F-7E60-4EB8-928A-1C59FCB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ADE-B46D-4B83-99A0-3DEA891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DDD-847B-40A4-8758-D0B4D3E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EEF-FBAA-4AFA-A97F-2D57C98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B24-FB95-4878-85BC-1521206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7AF-DEDB-4FCB-A218-2910D8A6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67640" y="6400800"/>
            <a:ext cx="1298520" cy="313920"/>
            <a:chOff x="7667640" y="6400800"/>
            <a:chExt cx="1298520" cy="313920"/>
          </a:xfrm>
        </p:grpSpPr>
        <p:sp>
          <p:nvSpPr>
            <p:cNvPr id="6" name=""/>
            <p:cNvSpPr txBox="1"/>
            <p:nvPr/>
          </p:nvSpPr>
          <p:spPr>
            <a:xfrm>
              <a:off x="7906320" y="6400800"/>
              <a:ext cx="832320" cy="16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Arial Black"/>
                </a:rPr>
                <a:t>Produções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7667640" y="6493320"/>
              <a:ext cx="129852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908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HUMORDATRETA</a:t>
              </a:r>
              <a:endPara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Um homem casado decide passar férias numa praia do Caribe, no mesmo hotel aonde passou a Lua de Mel à 20 anos atr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Devido a problemas de trabalho , a mulher não pôde viajar com ele, ficando combinado que ela se juntaria a ele uns dias mais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653000"/>
            <a:ext cx="83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o o homem chegou aos alojamentos do hotel, verificou com admiração, que no quarto existia um computador com ligação à Internet, então decidiu enviar um E-mail à sua esposa, mas por engano este foi enviado para outro endereço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98100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E-mail foi recebido por engano no computador de uma viúva que acabara de chegar do funeral do seu marido, e ao ler o correio electrónico, desmaiou instantane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filho da viúva ao entrar em casa encontrou a sua mãe, no chão sem sentidos aos pés do computador, em cujo monitor se podia 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404640"/>
            <a:ext cx="5029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Querida espo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Cheguei bem. Provavelmente estás  surpreendida por receberes notícias por esta via, mas agora aqui já há computadores para enviar-mos mensagens aos entes quer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Acabo de chegar e constatei que está tudo preparado para quando chegares no próximo fim de sem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Arial"/>
              </a:rPr>
              <a:t>Tenho muitas saudades tuas, espero que a tua viagem seja tão tranquila e agradável como a minha.                                                      Be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981000"/>
            <a:ext cx="80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S: Não tragas muita roupa, que aqui está um calor infe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2:46:02Z</dcterms:created>
  <dc:creator>M. Silvestre</dc:creator>
  <dc:description>Produções Humordatreta</dc:description>
  <dc:language>en-US</dc:language>
  <cp:lastModifiedBy>M. Silvestre</cp:lastModifiedBy>
  <dcterms:modified xsi:type="dcterms:W3CDTF">2006-10-15T03:01:12Z</dcterms:modified>
  <cp:revision>3</cp:revision>
  <dc:subject/>
  <dc:title>Diapositivo 1</dc:title>
</cp:coreProperties>
</file>