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sound002.wav" ContentType="audio/x-wav"/>
  <Override PartName="/ppt/media/image32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1B58-635F-4068-96A8-AEB1A699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6B5B-B0F3-4E8D-BB65-AA0420A9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493A-750D-4977-98CD-4AD67BE45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7BC1-F09D-432A-9B73-845B5CC5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9B54-CDF0-4973-91E4-215A7BA6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0A74-B913-40C8-B385-7F90C289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769A-BA11-45EE-A6EA-7B7D2DE6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0C22-B85D-40C5-8C5B-24EAAB8E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0D76-CB7B-437A-91A3-047F8D71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971C-10E4-41AB-A013-E06918BE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3B53-4842-47BC-B61D-E7475E28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CD42-F776-43C6-8FAB-227FDC34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3C7A-8EE2-478F-9C58-F7EA137FBE8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ound002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400" spc="-1" strike="noStrike">
                <a:solidFill>
                  <a:srgbClr val="66ff33"/>
                </a:solidFill>
                <a:latin typeface="Cobalt Extended"/>
              </a:rPr>
              <a:t>Unusual 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342900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66ffff"/>
                </a:solidFill>
                <a:latin typeface="Cobalt Extended"/>
              </a:rPr>
              <a:t>Fotos Poco Us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52560" y="2362320"/>
            <a:ext cx="7277040" cy="1752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133720"/>
            <a:ext cx="7619760" cy="2286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681120"/>
            <a:ext cx="9144000" cy="57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37960"/>
            <a:ext cx="9144000" cy="621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4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652320"/>
            <a:ext cx="9144000" cy="544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706320"/>
            <a:ext cx="9144000" cy="538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406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65360" y="0"/>
            <a:ext cx="5786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619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608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9080" y="0"/>
            <a:ext cx="8459640" cy="693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75640" cy="69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7964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744480"/>
            <a:ext cx="9144000" cy="54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212760"/>
            <a:ext cx="9144000" cy="643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39920" y="0"/>
            <a:ext cx="4662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77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50920" y="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51000"/>
            <a:ext cx="9144000" cy="61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144360"/>
            <a:ext cx="9144000" cy="652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8000" y="88920"/>
            <a:ext cx="8964720" cy="672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747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503280"/>
            <a:ext cx="9144000" cy="587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758880"/>
            <a:ext cx="9144000" cy="54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2120" y="-380880"/>
            <a:ext cx="7619760" cy="76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76320" y="457200"/>
            <a:ext cx="929664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601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262080"/>
            <a:ext cx="9144000" cy="63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1280" y="0"/>
            <a:ext cx="8893440" cy="691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459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39852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cc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ef6e6"/>
                </a:solidFill>
                <a:latin typeface="Short Hand Heavy"/>
              </a:rPr>
              <a:t>Live every day with enjoyment -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390600"/>
            <a:ext cx="9144000" cy="606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68280"/>
            <a:ext cx="9144000" cy="62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480960"/>
            <a:ext cx="9144000" cy="59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12:36:18Z</dcterms:created>
  <dc:creator>PORTATIL</dc:creator>
  <dc:description/>
  <dc:language>en-US</dc:language>
  <cp:lastModifiedBy>A.M.Acevedo</cp:lastModifiedBy>
  <dcterms:modified xsi:type="dcterms:W3CDTF">2009-06-20T04:05:40Z</dcterms:modified>
  <cp:revision>26</cp:revision>
  <dc:subject/>
  <dc:title>Diapositiva 1</dc:title>
</cp:coreProperties>
</file>