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sound002.wav" ContentType="audio/x-wav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BA0-10D5-4581-9B74-CC5AF3E3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2DF-784D-4C0F-A858-F893DBC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670-C85F-4D89-BE27-CC41AE2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734-0A49-47FA-9612-9486122E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AA0-B9B5-4E03-BCD5-6CF42BC4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9B5-7FBB-44B3-A5D1-4EEA8BB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732-E2C5-403C-A3E2-A273CB8C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AE3-866D-42E6-98D6-057544C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9E0-7E2B-415E-80BF-9BDCF08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CF2-E29D-42B6-8CDE-BF36ECE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F13-0C58-4E88-B18B-A82B78C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FD3-9CC4-42EB-95A3-2D3E517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94A-06C3-4CC5-8AD7-6A2D76D83F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66ff33"/>
                </a:solidFill>
                <a:latin typeface="Cobalt Extended"/>
              </a:rPr>
              <a:t>Unusual 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34290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66ffff"/>
                </a:solidFill>
                <a:latin typeface="Cobalt Extended"/>
              </a:rPr>
              <a:t>Fotos Poco Us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2560" y="2362320"/>
            <a:ext cx="7277040" cy="1752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133720"/>
            <a:ext cx="7619760" cy="2286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21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3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6536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61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08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080" y="0"/>
            <a:ext cx="8459640" cy="69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992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8000" y="88920"/>
            <a:ext cx="8964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-380880"/>
            <a:ext cx="761976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457200"/>
            <a:ext cx="92966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601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89344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59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ef6e6"/>
                </a:solidFill>
                <a:latin typeface="Short Hand Heavy"/>
              </a:rPr>
              <a:t>Live every day with enjoyment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2:36:18Z</dcterms:created>
  <dc:creator>PORTATIL</dc:creator>
  <dc:description/>
  <dc:language>en-US</dc:language>
  <cp:lastModifiedBy>A.M.Acevedo</cp:lastModifiedBy>
  <dcterms:modified xsi:type="dcterms:W3CDTF">2009-06-20T04:05:40Z</dcterms:modified>
  <cp:revision>26</cp:revision>
  <dc:subject/>
  <dc:title>Diapositiva 1</dc:title>
</cp:coreProperties>
</file>