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C4120-6005-482F-B0EA-2C1BE7599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D51F1-BA5A-47D7-A94A-8BADE3255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749AE-1EAA-4E6E-8178-8B8AA59A3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47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7496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219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47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7496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1CDD1-B12F-49B0-B1B4-76EF8A103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B3D1F-5F95-4A19-965E-92A0DE343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4AB2B-75F2-49F4-A0C6-36DA8AE7F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1222F-D918-4B90-8511-33C99D2FC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DE13C-8C3B-4D0A-A62D-4E988EECC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D3370-2FF2-4532-A333-EB0C0163F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1219320" y="418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2AA01-020F-4BE6-988C-C32BFF0DB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1ADC2-E0A0-4C2A-9694-93EF43DBB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A66F1-8F14-4297-9495-0B391B208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37607-5668-4544-92E6-2F3B50D9B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7663B-6596-41BE-BEFA-6DD35B420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21DD1-9486-4D7E-A8A8-9F6323836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26225-094F-4B93-8C3A-7E06931A7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847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47496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1219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847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47496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3A0BB-9491-4C45-8D54-BAE5C75D0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CE5B8-2F47-45F0-9D71-4877CE5F5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F77F0-8198-4129-B0C2-152C73A84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4F240-E33F-4073-A1F1-8307716B9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219320" y="418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3B6B8-0585-4D75-9E57-0343A9007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F489E-6DD2-4308-8127-3BE33E4DF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E6BB1-0B19-4230-AAF2-D3B3F35BF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FC3CF-A72C-4BD6-9BED-035C50309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735480" indent="-282960">
              <a:spcBef>
                <a:spcPts val="799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63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2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7005F-74F2-471D-A24B-F7D8CA5D49B2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51920" y="313920"/>
            <a:ext cx="848160" cy="6543720"/>
            <a:chOff x="151920" y="313920"/>
            <a:chExt cx="848160" cy="6543720"/>
          </a:xfrm>
        </p:grpSpPr>
        <p:sp>
          <p:nvSpPr>
            <p:cNvPr id="6" name=""/>
            <p:cNvSpPr/>
            <p:nvPr/>
          </p:nvSpPr>
          <p:spPr>
            <a:xfrm flipH="1" rot="5400000">
              <a:off x="129240" y="31658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 flipH="1" rot="5400000">
              <a:off x="129240" y="410868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flipH="1" rot="5400000">
              <a:off x="126720" y="505008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flipH="1" rot="5400000">
              <a:off x="131400" y="5991480"/>
              <a:ext cx="885960" cy="846360"/>
            </a:xfrm>
            <a:prstGeom prst="parallelogram">
              <a:avLst>
                <a:gd name="adj" fmla="val 554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5400000">
              <a:off x="129240" y="33840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 rot="5400000">
              <a:off x="126720" y="1275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 flipH="1" rot="5400000">
              <a:off x="126720" y="222120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546840" y="1703520"/>
            <a:ext cx="8596440" cy="25380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3800"/>
              <a:gd name="textAreaBottom" fmla="*/ 254160 h 253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>
            <a:off x="460440" y="170640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>
            <a:off x="463680" y="1913040"/>
            <a:ext cx="190440" cy="46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9209160" y="16765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457200" y="173988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" name="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20" name="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55520" y="0"/>
              <a:ext cx="84456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50840" y="6445080"/>
              <a:ext cx="72540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5" name=""/>
            <p:cNvSpPr/>
            <p:nvPr/>
          </p:nvSpPr>
          <p:spPr>
            <a:xfrm>
              <a:off x="0" y="0"/>
              <a:ext cx="9144000" cy="849240"/>
            </a:xfrm>
            <a:prstGeom prst="rect">
              <a:avLst/>
            </a:prstGeom>
            <a:gradFill rotWithShape="0">
              <a:gsLst>
                <a:gs pos="0">
                  <a:srgbClr val="1c6d9a"/>
                </a:gs>
                <a:gs pos="100000">
                  <a:srgbClr val="2181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0" y="4995720"/>
              <a:ext cx="9144000" cy="1862280"/>
            </a:xfrm>
            <a:prstGeom prst="rect">
              <a:avLst/>
            </a:prstGeom>
            <a:gradFill rotWithShape="0">
              <a:gsLst>
                <a:gs pos="0">
                  <a:srgbClr val="2181b7"/>
                </a:gs>
                <a:gs pos="100000">
                  <a:srgbClr val="1c6d9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9528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dt" idx="4"/>
          </p:nvPr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ftr" idx="5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sldNum" idx="6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C3802-E4F9-4A48-8E2F-C225D32A45FA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1920" y="313920"/>
            <a:ext cx="848160" cy="6543720"/>
            <a:chOff x="151920" y="313920"/>
            <a:chExt cx="848160" cy="6543720"/>
          </a:xfrm>
        </p:grpSpPr>
        <p:sp>
          <p:nvSpPr>
            <p:cNvPr id="72" name=""/>
            <p:cNvSpPr/>
            <p:nvPr/>
          </p:nvSpPr>
          <p:spPr>
            <a:xfrm flipH="1" rot="5400000">
              <a:off x="129240" y="31658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 rot="5400000">
              <a:off x="129240" y="410868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 rot="5400000">
              <a:off x="126720" y="505008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5400000">
              <a:off x="131400" y="5991480"/>
              <a:ext cx="885960" cy="846360"/>
            </a:xfrm>
            <a:prstGeom prst="parallelogram">
              <a:avLst>
                <a:gd name="adj" fmla="val 554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rot="5400000">
              <a:off x="129240" y="33840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 rot="5400000">
              <a:off x="126720" y="1275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rot="5400000">
              <a:off x="126720" y="222120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546840" y="2717640"/>
            <a:ext cx="8596440" cy="25416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4160"/>
              <a:gd name="textAreaBottom" fmla="*/ 254520 h 254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33440" y="269712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63680" y="2700360"/>
            <a:ext cx="161640" cy="41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236160" y="26971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84200" y="276084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86" name="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55520" y="0"/>
              <a:ext cx="84456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50840" y="6445080"/>
              <a:ext cx="72540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Para o Meu Filho!!!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680" y="4343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ccffff"/>
                </a:solidFill>
                <a:latin typeface="Impact"/>
                <a:ea typeface="Times New Roman"/>
              </a:rPr>
              <a:t>Apenas nesta tarde,</a:t>
            </a:r>
            <a:br>
              <a:rPr sz="4400"/>
            </a:br>
            <a:r>
              <a:rPr b="0" lang="pt-BR" sz="4400" spc="-1" strike="noStrike">
                <a:solidFill>
                  <a:srgbClr val="ccffff"/>
                </a:solidFill>
                <a:latin typeface="Impact"/>
                <a:ea typeface="Times New Roman"/>
              </a:rPr>
              <a:t>vamos ao McDonald's e comprar um Mc Lanche Feliz para</a:t>
            </a:r>
            <a:br>
              <a:rPr sz="4400"/>
            </a:br>
            <a:r>
              <a:rPr b="0" lang="pt-BR" sz="4400" spc="-1" strike="noStrike">
                <a:solidFill>
                  <a:srgbClr val="ccffff"/>
                </a:solidFill>
                <a:latin typeface="Impact"/>
                <a:ea typeface="Times New Roman"/>
              </a:rPr>
              <a:t> nós dois, para que você possa ganhar dois brinquedos.</a:t>
            </a:r>
            <a:r>
              <a:rPr b="0" lang="pt-BR" sz="4400" spc="-1" strike="noStrike">
                <a:solidFill>
                  <a:srgbClr val="ccff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43000" y="4800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ccffff"/>
                </a:solidFill>
                <a:latin typeface="Impact"/>
                <a:ea typeface="Times New Roman"/>
              </a:rPr>
              <a:t>Apenas nesta noite,</a:t>
            </a:r>
            <a:br>
              <a:rPr sz="4400"/>
            </a:br>
            <a:r>
              <a:rPr b="0" lang="pt-BR" sz="4400" spc="-1" strike="noStrike">
                <a:solidFill>
                  <a:srgbClr val="ccffff"/>
                </a:solidFill>
                <a:latin typeface="Impact"/>
                <a:ea typeface="Times New Roman"/>
              </a:rPr>
              <a:t>vou segurá-lo em meus braços e contar-lhe uma história sobre como você nasceu e como eu amo você</a:t>
            </a:r>
            <a:r>
              <a:rPr b="0" lang="pt-BR" sz="4400" spc="-1" strike="noStrike">
                <a:solidFill>
                  <a:srgbClr val="ccffff"/>
                </a:solidFill>
                <a:latin typeface="Impact"/>
              </a:rPr>
              <a:t>.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680" y="3962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Times New Roman"/>
              </a:rPr>
              <a:t>Apenas nesta noite, </a:t>
            </a:r>
            <a:br>
              <a:rPr sz="4400"/>
            </a:b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Times New Roman"/>
              </a:rPr>
              <a:t>eu vou deixar você espirrar a água do banho e não ficar</a:t>
            </a:r>
            <a:br>
              <a:rPr sz="4400"/>
            </a:b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Times New Roman"/>
              </a:rPr>
              <a:t> nervoso, nem reclamar.</a:t>
            </a: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71600" y="472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Times New Roman"/>
              </a:rPr>
              <a:t>Apenas nesta noite, </a:t>
            </a:r>
            <a:br>
              <a:rPr sz="4400"/>
            </a:b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Times New Roman"/>
              </a:rPr>
              <a:t>vou deixar você ficar acordado até tarde, enquanto ficamos sentados na soleira, contando todas as estrelas</a:t>
            </a: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.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6680" y="3657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Times New Roman"/>
              </a:rPr>
              <a:t>Apenas nesta noite,</a:t>
            </a:r>
            <a:br>
              <a:rPr sz="4400"/>
            </a:b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Times New Roman"/>
              </a:rPr>
              <a:t>eu vou me aconchegar ao seu lado por horas e perder meus</a:t>
            </a:r>
            <a:br>
              <a:rPr sz="4400"/>
            </a:b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Times New Roman"/>
              </a:rPr>
              <a:t> shows favoritos na TV.</a:t>
            </a: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71600" y="5105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ccffff"/>
                </a:solidFill>
                <a:latin typeface="Impact"/>
                <a:ea typeface="Times New Roman"/>
              </a:rPr>
              <a:t>Apenas nesta noite, </a:t>
            </a:r>
            <a:br>
              <a:rPr sz="4400"/>
            </a:br>
            <a:r>
              <a:rPr b="0" lang="pt-BR" sz="4400" spc="-1" strike="noStrike">
                <a:solidFill>
                  <a:srgbClr val="ccffff"/>
                </a:solidFill>
                <a:latin typeface="Impact"/>
                <a:ea typeface="Times New Roman"/>
              </a:rPr>
              <a:t>enquanto eu passar meus dedos entre seus cabelos enquanto você reza, eu vou, simplesmente, ser grato a Deus por ter me dado o maior presente do mundo.</a:t>
            </a:r>
            <a:r>
              <a:rPr b="0" lang="pt-BR" sz="4400" spc="-1" strike="noStrike">
                <a:solidFill>
                  <a:srgbClr val="ccff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71600" y="4114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Impact"/>
                <a:ea typeface="Times New Roman"/>
              </a:rPr>
              <a:t>Eu vou pensar nas mães e pais que procuram por seus filhos perdidos; nas</a:t>
            </a:r>
            <a:br>
              <a:rPr sz="4000"/>
            </a:br>
            <a:r>
              <a:rPr b="0" lang="en-US" sz="4000" spc="-1" strike="noStrike">
                <a:solidFill>
                  <a:srgbClr val="ccffff"/>
                </a:solidFill>
                <a:latin typeface="Impact"/>
                <a:ea typeface="Times New Roman"/>
              </a:rPr>
              <a:t>mães e pais que visitam a sepultura de seus filhos ao invés de suas camas;</a:t>
            </a:r>
            <a:endParaRPr b="0" lang="en-US" sz="4000" spc="-1" strike="noStrike">
              <a:solidFill>
                <a:srgbClr val="ccffff"/>
              </a:solidFill>
              <a:latin typeface="Impact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371600" y="56386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Impact"/>
                <a:ea typeface="Times New Roman"/>
              </a:rPr>
              <a:t>nas</a:t>
            </a:r>
            <a:br>
              <a:rPr sz="4000"/>
            </a:br>
            <a:r>
              <a:rPr b="0" lang="en-US" sz="4000" spc="-1" strike="noStrike">
                <a:solidFill>
                  <a:srgbClr val="ccffff"/>
                </a:solidFill>
                <a:latin typeface="Impact"/>
                <a:ea typeface="Times New Roman"/>
              </a:rPr>
              <a:t>mães e pais que estão em hospitais vendo seus filhos sofrerem sem que isto tenha sentido e gritando por dentro que não podem  mais suportar isto</a:t>
            </a:r>
            <a:r>
              <a:rPr b="0" lang="en-US" sz="4000" spc="-1" strike="noStrike">
                <a:solidFill>
                  <a:srgbClr val="ccffff"/>
                </a:solidFill>
                <a:latin typeface="Impact"/>
              </a:rPr>
              <a:t>.</a:t>
            </a:r>
            <a:endParaRPr b="0" lang="en-US" sz="4000" spc="-1" strike="noStrike">
              <a:solidFill>
                <a:srgbClr val="ccffff"/>
              </a:solidFill>
              <a:latin typeface="Impact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71600" y="4571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Times New Roman"/>
              </a:rPr>
              <a:t>E, quando eu lhe der um beijo de boa noite,  vou  segurar você um pouquinho mais forte por </a:t>
            </a:r>
            <a:br>
              <a:rPr sz="4400"/>
            </a:b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Times New Roman"/>
              </a:rPr>
              <a:t>um pouquinho mais de tempo</a:t>
            </a: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!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371600" y="449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ccffff"/>
                </a:solidFill>
                <a:latin typeface="Impact"/>
                <a:ea typeface="Times New Roman"/>
              </a:rPr>
              <a:t>Então  vou agradecer a Deus por você e não pedir nada a Ele, </a:t>
            </a:r>
            <a:br>
              <a:rPr sz="4400"/>
            </a:br>
            <a:r>
              <a:rPr b="0" lang="pt-BR" sz="4400" spc="-1" strike="noStrike">
                <a:solidFill>
                  <a:srgbClr val="ccffff"/>
                </a:solidFill>
                <a:latin typeface="Impact"/>
                <a:ea typeface="Times New Roman"/>
              </a:rPr>
              <a:t>exceto....</a:t>
            </a:r>
            <a:br>
              <a:rPr sz="4400"/>
            </a:br>
            <a:r>
              <a:rPr b="0" lang="pt-BR" sz="4400" spc="-1" strike="noStrike">
                <a:solidFill>
                  <a:srgbClr val="ccffff"/>
                </a:solidFill>
                <a:latin typeface="Impact"/>
                <a:ea typeface="Times New Roman"/>
              </a:rPr>
              <a:t>                         </a:t>
            </a:r>
            <a:br>
              <a:rPr sz="4400"/>
            </a:br>
            <a:r>
              <a:rPr b="0" lang="pt-BR" sz="4400" spc="-1" strike="noStrike">
                <a:solidFill>
                  <a:srgbClr val="ccffff"/>
                </a:solidFill>
                <a:latin typeface="Impact"/>
                <a:ea typeface="Times New Roman"/>
              </a:rPr>
              <a:t>                                 .... Mais um dia!!!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Times New Roman"/>
              </a:rPr>
              <a:t>Apenas nesta manhã, </a:t>
            </a:r>
            <a:br>
              <a:rPr sz="4400"/>
            </a:b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Times New Roman"/>
              </a:rPr>
              <a:t>eu vou sorrir quando vir o seu rosto, e rir mesmo sentindo vontade de chorar.</a:t>
            </a: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19320" y="9903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Times New Roman"/>
              </a:rPr>
              <a:t>Oi,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Times New Roman"/>
              </a:rPr>
              <a:t>Eu sou um pai de 29 anos. </a:t>
            </a:r>
            <a:br>
              <a:rPr sz="4400"/>
            </a:b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Times New Roman"/>
              </a:rPr>
              <a:t>Eu e minha esposa temos uma vida maravilhosa juntos.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43000" y="5562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ccffff"/>
                </a:solidFill>
                <a:latin typeface="Impact"/>
                <a:ea typeface="Times New Roman"/>
              </a:rPr>
              <a:t>Deus nos abençoou com uma criança também. </a:t>
            </a:r>
            <a:br>
              <a:rPr sz="4400"/>
            </a:br>
            <a:r>
              <a:rPr b="0" lang="pt-BR" sz="4400" spc="-1" strike="noStrike">
                <a:solidFill>
                  <a:srgbClr val="ccffff"/>
                </a:solidFill>
                <a:latin typeface="Impact"/>
                <a:ea typeface="Times New Roman"/>
              </a:rPr>
              <a:t>O nome de minha filha é Rachel e ela tem 10 anos de idade. </a:t>
            </a:r>
            <a:br>
              <a:rPr sz="4400"/>
            </a:br>
            <a:r>
              <a:rPr b="0" lang="pt-BR" sz="4400" spc="-1" strike="noStrike">
                <a:solidFill>
                  <a:srgbClr val="ccffff"/>
                </a:solidFill>
                <a:latin typeface="Impact"/>
                <a:ea typeface="Times New Roman"/>
              </a:rPr>
              <a:t>Há não muito tempo atrás, os médicos detectaram um câncer de cérebro  em seu pequeno corpo. 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3276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ccffff"/>
                </a:solidFill>
                <a:latin typeface="Impact"/>
                <a:ea typeface="Times New Roman"/>
              </a:rPr>
              <a:t>  </a:t>
            </a:r>
            <a:r>
              <a:rPr b="0" lang="pt-BR" sz="4400" spc="-1" strike="noStrike">
                <a:solidFill>
                  <a:srgbClr val="ccffff"/>
                </a:solidFill>
                <a:latin typeface="Impact"/>
                <a:ea typeface="Times New Roman"/>
              </a:rPr>
              <a:t>Há apenas um jeito de salvá-la, operando-a. 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7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ccffff"/>
                </a:solidFill>
                <a:latin typeface="Impact"/>
                <a:ea typeface="Times New Roman"/>
              </a:rPr>
              <a:t>Infelizmente,  não temos o dinheiro para a operação. 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71600" y="495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ccffff"/>
                </a:solidFill>
                <a:latin typeface="Impact"/>
                <a:ea typeface="Times New Roman"/>
              </a:rPr>
              <a:t>A AOL e a Zdenet (em Zimbabwe) concordaram em nos ajudar. </a:t>
            </a:r>
            <a:br>
              <a:rPr sz="4400"/>
            </a:br>
            <a:r>
              <a:rPr b="0" lang="pt-BR" sz="4400" spc="-1" strike="noStrike">
                <a:solidFill>
                  <a:srgbClr val="ccffff"/>
                </a:solidFill>
                <a:latin typeface="Impact"/>
                <a:ea typeface="Times New Roman"/>
              </a:rPr>
              <a:t>O único jeito deles nos ajudarem é você enviar este e-mail para outras pessoas. 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43000" y="342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ccffff"/>
                </a:solidFill>
                <a:latin typeface="Impact"/>
                <a:ea typeface="Times New Roman"/>
              </a:rPr>
              <a:t>A AOL vai rastrear este e-mail e contar quantas pessoas o receberam.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43000" y="4266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ccffff"/>
                </a:solidFill>
                <a:latin typeface="Impact"/>
                <a:ea typeface="Times New Roman"/>
              </a:rPr>
              <a:t>Cada pessoa que abrir este e-mail e o re-enviar a, pelo menos, três pessoas vai nos render 32 centavos (em dólares de Zimbabwe). </a:t>
            </a:r>
            <a:br>
              <a:rPr sz="4400"/>
            </a:br>
            <a:br>
              <a:rPr sz="4400"/>
            </a:br>
            <a:r>
              <a:rPr b="0" lang="pt-BR" sz="4400" spc="-1" strike="noStrike">
                <a:solidFill>
                  <a:srgbClr val="ccffff"/>
                </a:solidFill>
                <a:latin typeface="Impact"/>
                <a:ea typeface="Times New Roman"/>
              </a:rPr>
              <a:t>                                    George Arlington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ccffff"/>
                </a:solidFill>
                <a:latin typeface="Impact"/>
                <a:ea typeface="Times New Roman"/>
              </a:rPr>
              <a:t>Por favor, ajude-nos.</a:t>
            </a:r>
            <a:br>
              <a:rPr sz="4400"/>
            </a:br>
            <a:br>
              <a:rPr sz="4400"/>
            </a:br>
            <a:r>
              <a:rPr b="0" lang="pt-BR" sz="4400" spc="-1" strike="noStrike">
                <a:solidFill>
                  <a:srgbClr val="ccffff"/>
                </a:solidFill>
                <a:latin typeface="Impact"/>
                <a:ea typeface="Times New Roman"/>
              </a:rPr>
              <a:t> 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57" name=""/>
          <p:cNvSpPr/>
          <p:nvPr/>
        </p:nvSpPr>
        <p:spPr>
          <a:xfrm>
            <a:off x="2286000" y="685800"/>
            <a:ext cx="5715000" cy="59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ffcc"/>
                </a:solidFill>
                <a:latin typeface="Balloon Bd BT"/>
              </a:rPr>
              <a:t>Você já imaginou a angústia e o sofrimento destes pai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ffcc"/>
                </a:solidFill>
                <a:latin typeface="Balloon Bd BT"/>
              </a:rPr>
              <a:t>“</a:t>
            </a:r>
            <a:r>
              <a:rPr b="1" lang="pt-BR" sz="3200" spc="-1" strike="noStrike">
                <a:solidFill>
                  <a:srgbClr val="00ffcc"/>
                </a:solidFill>
                <a:latin typeface="Balloon Bd BT"/>
              </a:rPr>
              <a:t>Que DEUS, pai de JESUS CRISTO, na sua infinita bondade e misericórdia possa abençoar esse casal e sua filhinha.“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ffcc"/>
                </a:solidFill>
                <a:latin typeface="Balloon Bd BT"/>
              </a:rPr>
              <a:t>E que as bênçãos de Deus sejam derramadas sobre quem colaborar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90720" y="4343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Times New Roman"/>
              </a:rPr>
              <a:t>Apenas nesta manhã, </a:t>
            </a:r>
            <a:br>
              <a:rPr sz="4400"/>
            </a:b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Times New Roman"/>
              </a:rPr>
              <a:t>eu vou deixar você escolher o que vai vestir, e sorrir e dizer o quanto você está ótimo</a:t>
            </a: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!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43000" y="4266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ccffff"/>
                </a:solidFill>
                <a:latin typeface="Impact"/>
                <a:ea typeface="Times New Roman"/>
              </a:rPr>
              <a:t>Apenas nesta manhã, </a:t>
            </a:r>
            <a:br>
              <a:rPr sz="4400"/>
            </a:br>
            <a:r>
              <a:rPr b="0" lang="pt-BR" sz="4400" spc="-1" strike="noStrike">
                <a:solidFill>
                  <a:srgbClr val="ccffff"/>
                </a:solidFill>
                <a:latin typeface="Impact"/>
                <a:ea typeface="Times New Roman"/>
              </a:rPr>
              <a:t>eu vou deixar a roupa para lavar de lado, pegar você e levá-lo </a:t>
            </a:r>
            <a:br>
              <a:rPr sz="4400"/>
            </a:br>
            <a:r>
              <a:rPr b="0" lang="pt-BR" sz="4400" spc="-1" strike="noStrike">
                <a:solidFill>
                  <a:srgbClr val="ccffff"/>
                </a:solidFill>
                <a:latin typeface="Impact"/>
                <a:ea typeface="Times New Roman"/>
              </a:rPr>
              <a:t>ao parque para brincar.</a:t>
            </a:r>
            <a:r>
              <a:rPr b="0" lang="pt-BR" sz="4400" spc="-1" strike="noStrike">
                <a:solidFill>
                  <a:srgbClr val="ccff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90720" y="3962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Times New Roman"/>
              </a:rPr>
              <a:t>Apenas nesta manhã, </a:t>
            </a:r>
            <a:br>
              <a:rPr sz="4400"/>
            </a:b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Times New Roman"/>
              </a:rPr>
              <a:t>eu vou deixar a louça na pia e deixar você me ensinar</a:t>
            </a:r>
            <a:br>
              <a:rPr sz="4400"/>
            </a:b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Times New Roman"/>
              </a:rPr>
              <a:t> a montar seu quebra-cabeça.</a:t>
            </a: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71600" y="4419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Times New Roman"/>
              </a:rPr>
              <a:t>Apenas nesta tarde, </a:t>
            </a:r>
            <a:br>
              <a:rPr sz="4400"/>
            </a:b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Times New Roman"/>
              </a:rPr>
              <a:t>eu vou desligar o telefone, manter o computador fora</a:t>
            </a:r>
            <a:br>
              <a:rPr sz="4400"/>
            </a:b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Times New Roman"/>
              </a:rPr>
              <a:t> do ar e sentar-me com você no quintal e soltar bolhas de sabão.</a:t>
            </a: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66680" y="449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Times New Roman"/>
              </a:rPr>
              <a:t>Apenas nesta tarde, </a:t>
            </a:r>
            <a:br>
              <a:rPr sz="4400"/>
            </a:b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Times New Roman"/>
              </a:rPr>
              <a:t>eu não vou gritar nenhuma vez, nem mesmo resmungar, </a:t>
            </a:r>
            <a:br>
              <a:rPr sz="4400"/>
            </a:b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Times New Roman"/>
              </a:rPr>
              <a:t>quando você gritar e acenar para o carrinho de sorvetes; e vou comprar um se ele passar</a:t>
            </a: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.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71600" y="3733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Times New Roman"/>
              </a:rPr>
              <a:t>Apenas nesta tarde, </a:t>
            </a:r>
            <a:br>
              <a:rPr sz="4400"/>
            </a:b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Times New Roman"/>
              </a:rPr>
              <a:t>eu não vou me preocupar </a:t>
            </a:r>
            <a:br>
              <a:rPr sz="4400"/>
            </a:b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Times New Roman"/>
              </a:rPr>
              <a:t>com o que você vai ser quando crescer.</a:t>
            </a: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680" y="4724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ccffff"/>
                </a:solidFill>
                <a:latin typeface="Impact"/>
                <a:ea typeface="Times New Roman"/>
              </a:rPr>
              <a:t>Apenas nesta tarde, </a:t>
            </a:r>
            <a:br>
              <a:rPr sz="4400"/>
            </a:br>
            <a:r>
              <a:rPr b="0" lang="pt-BR" sz="4400" spc="-1" strike="noStrike">
                <a:solidFill>
                  <a:srgbClr val="ccffff"/>
                </a:solidFill>
                <a:latin typeface="Impact"/>
                <a:ea typeface="Times New Roman"/>
              </a:rPr>
              <a:t>eu vou deixar você ajudar-me </a:t>
            </a:r>
            <a:br>
              <a:rPr sz="4400"/>
            </a:br>
            <a:r>
              <a:rPr b="0" lang="pt-BR" sz="4400" spc="-1" strike="noStrike">
                <a:solidFill>
                  <a:srgbClr val="ccffff"/>
                </a:solidFill>
                <a:latin typeface="Impact"/>
                <a:ea typeface="Times New Roman"/>
              </a:rPr>
              <a:t>a assar biscoitos e não vou ficar atrás de você, tentando </a:t>
            </a:r>
            <a:br>
              <a:rPr sz="4400"/>
            </a:br>
            <a:r>
              <a:rPr b="0" lang="pt-BR" sz="4400" spc="-1" strike="noStrike">
                <a:solidFill>
                  <a:srgbClr val="ccffff"/>
                </a:solidFill>
                <a:latin typeface="Impact"/>
                <a:ea typeface="Times New Roman"/>
              </a:rPr>
              <a:t>consertá-los</a:t>
            </a:r>
            <a:r>
              <a:rPr b="0" lang="pt-BR" sz="4400" spc="-1" strike="noStrike">
                <a:solidFill>
                  <a:srgbClr val="ccffff"/>
                </a:solidFill>
                <a:latin typeface="Impact"/>
              </a:rPr>
              <a:t>.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4T13:56:10Z</dcterms:created>
  <dc:creator>Yassin Taha</dc:creator>
  <dc:description/>
  <dc:language>en-US</dc:language>
  <cp:lastModifiedBy>ACAMAR</cp:lastModifiedBy>
  <dcterms:modified xsi:type="dcterms:W3CDTF">2005-11-30T13:24:11Z</dcterms:modified>
  <cp:revision>10</cp:revision>
  <dc:subject/>
  <dc:title>Para o Meu Filho</dc:title>
</cp:coreProperties>
</file>