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AFD-F180-4986-8DF4-619CB2F1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DFA-DBF2-454C-9F9C-2A641679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406-60B7-4A65-B18B-1020A9B0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0DC-87DD-4A79-913E-620D9111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BD4-DB01-4C99-B1ED-33984681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E316-6134-48A5-936D-1C94B554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242C-530E-46A1-A42A-6A30F1F7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A000-0F9E-4580-8390-DA880085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4857-1C64-4288-AEA9-F5366A1C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96A1-086A-4A80-AB1D-3C89B196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2EA-C91B-4F59-8CC4-731BD74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911-AD6A-4463-A874-FCC14DA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6808-DCB5-4C43-B612-5BBA854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DB16-FC0D-4CDC-82C9-B51A1F8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B94E-F750-471E-8C41-9D18BC8F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E595-7F8B-4A50-982B-CFB99F25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63AD-B306-49C9-BB2D-4426ABE0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BB4-7FF8-4C81-857B-8113EEFD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6E2-FA5B-42AA-A4F0-668E4C0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2A0-CBEF-497B-9ADD-C6103B49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186-9F5B-4076-8559-2E932CDC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2D5-578C-4762-B370-84CE8B4D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C5E-DDB4-4FD0-BE31-5444103C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AC5-0728-4724-9B83-78B95E6A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607F-3506-44E0-B6C0-E8971EF7D6F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EE92-3613-4818-BAAE-BAE31EE391B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ara o Meu Filho!!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vamos ao McDonald's e comprar um Mc Lanche Feliz para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nós dois, para que você possa ganhar dois brinquedos.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vou segurá-lo em meus braços e contar-lhe uma história sobre como você nasceu e como eu amo você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você espirrar a água do banho e não ficar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nervoso, nem reclamar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vou deixar você ficar acordado até tarde, enquanto ficamos sentados na soleira, contando todas as estrela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me aconchegar ao seu lado por horas e perder meu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shows favoritos na TV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nquanto eu passar meus dedos entre seus cabelos enquanto você reza, eu vou, simplesmente, ser grato a Deus por ter me dado o maior presente do mundo.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4114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pensar nas mães e pais que procuram por seus filhos perdidos; na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Impact"/>
                <a:ea typeface="Times New Roman"/>
              </a:rPr>
              <a:t>mães e pais que visitam a sepultura de seus filhos ao invés de suas camas;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  <a:ea typeface="Times New Roman"/>
              </a:rPr>
              <a:t>na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Impact"/>
                <a:ea typeface="Times New Roman"/>
              </a:rPr>
              <a:t>mães e pais que estão em hospitais vendo seus filhos sofrerem sem que isto tenha sentido e gritando por dentro que não podem  mais suportar isto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, quando eu lhe der um beijo de boa noite,  vou  segurar você um pouquinho mais forte por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um pouquinho mais de tempo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ntão  vou agradecer a Deus por você e não pedir nada a Ele,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xceto....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                        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                                 .... Mais um dia!!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manhã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sorrir quando vir o seu rosto, e rir mesmo sentindo vontade de chorar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Oi,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sou um pai de 29 anos.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e minha esposa temos uma vida maravilhosa juntos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5562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Deus nos abençoou com uma criança também.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O nome de minha filha é Rachel e ela tem 10 anos de idade.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Há não muito tempo atrás, os médicos detectaram um câncer de cérebro  em seu pequeno corpo.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 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Há apenas um jeito de salvá-la, operando-a.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Infelizmente,  não temos o dinheiro para a operação.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 AOL e a Zdenet (em Zimbabwe) concordaram em nos ajudar.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O único jeito deles nos ajudarem é você enviar este e-mail para outras pessoas.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 AOL vai rastrear este e-mail e contar quantas pessoas o receberam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Cada pessoa que abrir este e-mail e o re-enviar a, pelo menos, três pessoas vai nos render 32 centavos (em dólares de Zimbabwe).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                                    George Arlingt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Por favor, ajude-nos.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685800"/>
            <a:ext cx="5715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cc"/>
                </a:solidFill>
                <a:latin typeface="Balloon Bd BT"/>
              </a:rPr>
              <a:t>Você já imaginou a angústia e o sofrimento destes pa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cc"/>
                </a:solidFill>
                <a:latin typeface="Balloon Bd BT"/>
              </a:rPr>
              <a:t>“</a:t>
            </a:r>
            <a:r>
              <a:rPr b="1" lang="pt-BR" sz="3200" spc="-1" strike="noStrike">
                <a:solidFill>
                  <a:srgbClr val="00ffcc"/>
                </a:solidFill>
                <a:latin typeface="Balloon Bd BT"/>
              </a:rPr>
              <a:t>Que DEUS, pai de JESUS CRISTO, na sua infinita bondade e misericórdia possa abençoar esse casal e sua filhinha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cc"/>
                </a:solidFill>
                <a:latin typeface="Balloon Bd BT"/>
              </a:rPr>
              <a:t>E que as bênçãos de Deus sejam derramadas sobre quem colabora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manhã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você escolher o que vai vestir, e sorrir e dizer o quanto você está ótimo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manhã,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a roupa para lavar de lado, pegar você e levá-lo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o parque para brincar.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manhã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a louça na pia e deixar você me ensinar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a montar seu quebra-cabeça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sligar o telefone, manter o computador fora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do ar e sentar-me com você no quintal e soltar bolhas de sabão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não vou gritar nenhuma vez, nem mesmo resmungar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quando você gritar e acenar para o carrinho de sorvetes; e vou comprar um se ele passar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não vou me preocupar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com o que você vai ser quando crescer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4724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você ajudar-me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 assar biscoitos e não vou ficar atrás de você, tentando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consertá-los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3:56:10Z</dcterms:created>
  <dc:creator>Yassin Taha</dc:creator>
  <dc:description/>
  <dc:language>en-US</dc:language>
  <cp:lastModifiedBy>ACAMAR</cp:lastModifiedBy>
  <dcterms:modified xsi:type="dcterms:W3CDTF">2005-11-30T13:24:11Z</dcterms:modified>
  <cp:revision>10</cp:revision>
  <dc:subject/>
  <dc:title>Para o Meu Filho</dc:title>
</cp:coreProperties>
</file>