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628-AEC5-45E0-A847-45B94CB3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1160" y="39304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8FC-5C4F-4337-B54F-F9270F45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952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55B-D156-4027-810B-943965A3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504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116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504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31C-DE0A-458D-AF9C-AF8C7EC3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E89E-E18A-4CEB-B8F2-21FAFB3D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44D4-1224-45DE-8EFA-FDDFF073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4126-818E-4DE8-B74A-823429EB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B3AC-55F7-4C92-A194-DC0B53C8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0AE9-BF18-43D9-A35A-046663A0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520" y="206280"/>
            <a:ext cx="858204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BACC-79D0-4D3D-A67C-2B26142F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87C1-9F21-42C4-883A-460CB73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D8D-E06E-406F-AEA8-607182D6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952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F0F3-A5A3-4144-A98C-406D163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5DAD-AEC3-4E0E-9F31-001BC8D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1160" y="39304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1638-DCCC-4CC9-AC80-D7ABD428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952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E7F5-6026-45E0-A3F4-01542722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328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504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116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328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504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346D-7413-4B48-A6E7-EC85DEE9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13A-D74F-4E0C-B3CF-6A0AD070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929-F2D1-4D7C-9BBE-3504A088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1CB-04D6-4361-BB6A-76F7CA73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2520" y="206280"/>
            <a:ext cx="858204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515-D585-40A4-ACB9-A793342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1BB-F5CB-44A3-AE5C-3DB61EF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952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AA2-8274-44D7-9CBD-39DCC8FB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715-CF3D-4E95-A6E4-757E6B8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74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D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2360" y="6400800"/>
            <a:ext cx="1903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34B-45E0-462C-A8ED-CF19241A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895320"/>
            <a:ext cx="9144000" cy="40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33680" y="228564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2651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D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255560" y="640080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7BCD-3A50-4CC5-9435-1E9D4E54A7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641600"/>
            <a:ext cx="9144000" cy="36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25480" indent="88920" algn="ctr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236600" indent="135000" algn="ctr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649520" indent="179280" algn="ctr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649520" indent="1792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649520" indent="1792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3680" y="228564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 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71760" y="3649680"/>
            <a:ext cx="66722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Con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ógic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lgumas vezes é um erro julgar o valor de uma actividade apenas pelo tempo que demora a realizar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Um bom exemplo é o caso de um Engenheiro que foi chamado para arranjar um computador muito grande e extremamente complicado de uma empresa, um computador que valia 10 milhões de eu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entado em frente ao ecrã carregou meia dúzia de teclas, abanou lentamente a cabeça, cochichou qualquer coisa para si próprio e desligou o aparelh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irou do bolso uma pequena chave de fenda e apertou um minúsculo parafus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igou novamente o computador e comprovou que funcionava perfeitam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O presidente da companhia ficou impressionado e propôs-se pagar a conta de imediat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“</a:t>
            </a:r>
            <a:r>
              <a:rPr b="0" lang="pt-PT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nto é que lhe devo</a:t>
            </a: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? "-pergunto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“São mil euros, se faz favor."</a:t>
            </a:r>
            <a:r>
              <a:rPr b="0" lang="es-DO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O 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“Mil euros!? Mil euros por uns minutos de trabalho!? Mil euros por apertar a m* de um parafuso!?!” Eu sei que o computador custa 10 milhões de euros, mas mil euros pelo seu trabalho é um preço disparatado!! Pagar-lhe-ei apenas se me enviar a factura perfeitamente detalhada e que se justifique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 Engenheiro aceitou e foi-se embor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o dia seguinte, o presidente recebeu a factura, viu-a com calma e procedeu de imediato ao seu pagamento, sem qualquer objecção. A factura dizi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O 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Detalhe de serviços prestados:</a:t>
            </a: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pertar um parafuso.............................      1 e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aber que parafuso apertar..................... 999 euros</a:t>
            </a: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680" y="205704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O 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71760" y="3200040"/>
            <a:ext cx="6672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nvia isto a profissionais que que conheças e que cada dia enfrentam a desconsideração e incompreensão daqueles que, pela sua própria ignorância, não os conseguem perceber e oferece-lhes um momento de bom humor!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c3300"/>
                </a:solidFill>
                <a:latin typeface="Trebuchet MS"/>
                <a:ea typeface="Arial Unicode MS"/>
              </a:rPr>
              <a:t>LEMBRA-TE:</a:t>
            </a:r>
            <a:r>
              <a:rPr b="1" lang="pt-PT" sz="2000" spc="-1" strike="noStrike">
                <a:solidFill>
                  <a:srgbClr val="6699ff"/>
                </a:solidFill>
                <a:latin typeface="Trebuchet MS"/>
                <a:ea typeface="Arial Unicode MS"/>
              </a:rPr>
              <a:t> “GANHA-SE PELO QUE SE SABE E NÃO SÓ PELO QUE SE FAZ”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4:33:29Z</dcterms:created>
  <dc:creator>LeHernandez</dc:creator>
  <dc:description/>
  <dc:language>en-US</dc:language>
  <cp:lastModifiedBy>Joaquim Manuel de Almeida Correia Pinto</cp:lastModifiedBy>
  <dcterms:modified xsi:type="dcterms:W3CDTF">2007-06-13T20:51:49Z</dcterms:modified>
  <cp:revision>8</cp:revision>
  <dc:subject/>
  <dc:title>El Tornillo</dc:title>
</cp:coreProperties>
</file>