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509-E650-4A90-9234-544E8B47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FAF-349C-4184-A90F-C986E60E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93A-C6EC-40DD-AEE5-B261735C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504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116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504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98A-2051-4052-8944-4B67FCD4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C39D-552D-4F77-9B66-5F936E39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0AD0-20E2-471B-B0CC-7D7E311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8511-7BCB-4E7F-B347-551A155C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90D8-0A82-41EC-9DB3-0D7F144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C8A6-BD25-4D25-9C4F-3952D57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520" y="206280"/>
            <a:ext cx="85820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1029-710A-4CC4-866C-E9D686AD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4F8E-CFC4-436A-BDCE-1E8CF1F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A75-5BA3-4FFD-8A01-C4E29400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CAB-0151-4EAB-B169-B725D737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3709-AA6B-4327-BC52-963E5A3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B3F9-26BA-4083-B409-67A9177B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1A71-726F-42F3-AE11-02523FD3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328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5040" y="13762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116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328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5040" y="3930480"/>
            <a:ext cx="27824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938F-DF65-4F61-A8B0-AF9BCA40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0D0-37F2-4902-AA25-3386D6C7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245-2687-4371-8674-648B484D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D11-FCBA-446C-8C5B-19274A4D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2520" y="206280"/>
            <a:ext cx="85820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4E8-BB67-4738-8AD4-119B116E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5A8-4C7B-48BA-BDEA-09D0770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9520" y="39304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006-FEDA-407C-B5ED-E89A7378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9520" y="1376280"/>
            <a:ext cx="421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1160" y="3930480"/>
            <a:ext cx="864216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CD5-4709-4678-BA6B-D43FAAC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74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D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2360" y="6400800"/>
            <a:ext cx="1903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AC0E-0EBC-4AAB-9A33-CBC8317B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895320"/>
            <a:ext cx="9144000" cy="40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33680" y="228564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651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D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255560" y="640080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B1F3-00CC-4F2A-834C-4BBC23C87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641600"/>
            <a:ext cx="9144000" cy="36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825480" indent="8892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236600" indent="135000" algn="ctr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649520" indent="179280" algn="ctr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649520" indent="1792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649520" indent="17928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3680" y="228564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71760" y="3649680"/>
            <a:ext cx="66722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Con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PT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ógic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lgumas vezes é um erro julgar o valor de uma actividade apenas pelo tempo que demora a realizar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Um bom exemplo é o caso de um Engenheiro que foi chamado para arranjar um computador muito grande e extremamente complicado de uma empresa, um computador que valia 10 milhões de eu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entado em frente ao ecrã carregou meia dúzia de teclas, abanou lentamente a cabeça, cochichou qualquer coisa para si próprio e desligou o aparelh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irou do bolso uma pequena chave de fenda e apertou um minúsculo parafus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igou novamente o computador e comprovou que funcionava perfeitam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O presidente da companhia ficou impressionado e propôs-se pagar a conta de imediat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“</a:t>
            </a:r>
            <a:r>
              <a:rPr b="0" lang="pt-PT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anto é que lhe devo</a:t>
            </a: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? "-pergunto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“São mil euros, se faz favor."</a:t>
            </a:r>
            <a:r>
              <a:rPr b="0" lang="es-DO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“Mil euros!? Mil euros por uns minutos de trabalho!? Mil euros por apertar a m* de um parafuso!?!” Eu sei que o computador custa 10 milhões de euros, mas mil euros pelo seu trabalho é um preço disparatado!! Pagar-lhe-ei apenas se me enviar a factura perfeitamente detalhada e que se justifique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 Engenheiro aceitou e foi-se embor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o dia seguinte, o presidente recebeu a factura, viu-a com calma e procedeu de imediato ao seu pagamento, sem qualquer objecção. A factura dizi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52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160" y="137628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Detalhe de serviços prestados:</a:t>
            </a: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pertar um parafuso.............................      1 e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aber que parafuso apertar..................... 999 euros</a:t>
            </a:r>
            <a:r>
              <a:rPr b="0" lang="pt-PT" sz="2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3680" y="2057040"/>
            <a:ext cx="75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00"/>
                </a:solidFill>
                <a:latin typeface="Arial"/>
              </a:rPr>
              <a:t>O Parafus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71760" y="3200040"/>
            <a:ext cx="667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nvia isto a profissionais que que conheças e que cada dia enfrentam a desconsideração e incompreensão daqueles que, pela sua própria ignorância, não os conseguem perceber e oferece-lhes um momento de bom humor!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c3300"/>
                </a:solidFill>
                <a:latin typeface="Trebuchet MS"/>
                <a:ea typeface="Arial Unicode MS"/>
              </a:rPr>
              <a:t>LEMBRA-TE:</a:t>
            </a:r>
            <a:r>
              <a:rPr b="1" lang="pt-PT" sz="2000" spc="-1" strike="noStrike">
                <a:solidFill>
                  <a:srgbClr val="6699ff"/>
                </a:solidFill>
                <a:latin typeface="Trebuchet MS"/>
                <a:ea typeface="Arial Unicode MS"/>
              </a:rPr>
              <a:t> “GANHA-SE PELO QUE SE SABE E NÃO SÓ PELO QUE SE FAZ”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4:33:29Z</dcterms:created>
  <dc:creator>LeHernandez</dc:creator>
  <dc:description/>
  <dc:language>en-US</dc:language>
  <cp:lastModifiedBy>Joaquim Manuel de Almeida Correia Pinto</cp:lastModifiedBy>
  <dcterms:modified xsi:type="dcterms:W3CDTF">2007-06-13T20:51:49Z</dcterms:modified>
  <cp:revision>8</cp:revision>
  <dc:subject/>
  <dc:title>El Tornillo</dc:title>
</cp:coreProperties>
</file>