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3.jpeg" ContentType="image/jpeg"/>
  <Override PartName="/ppt/media/sound-L'amour%20r%C3%AAve(Andr%C3%A9Gagnon)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21E-53E4-4A5D-BB7C-B4F09427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451-7849-4C83-A46C-3A99F46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1DC-C847-427C-8E54-62C00246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7B2-7A0F-49E8-9253-8B358A8D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2C8-E4EF-49FF-87DE-2DC9943F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046-AE5E-4D69-9E9D-8BA4BDD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3C2-C837-46F1-8B56-F6DDF264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FEF-587F-4485-B1FF-09948F3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F13-1AA0-4530-A580-77BAB80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272-0727-46B3-94A3-6E21F35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061-DFA8-477D-939F-BE58698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FD8-DBDE-40EA-A9D2-F40CA28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49D5-35C2-4F3F-AD81-658D008E53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audio" Target="../media/sound-L&apos;amour%20r&#234;ve(Andr&#233;Gagnon)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24280" y="6308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948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05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052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19280" y="33336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ocando o Cé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sem  Braç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40000" y="5661000"/>
            <a:ext cx="42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 Jéssica   Cox 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044720" y="1773360"/>
            <a:ext cx="6840360" cy="38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0" name="sound-L'amour%20r%C3%AAve(Andr%C3%A9Gagnon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624720" cy="403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121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Graduada em Psicología pela Universidade do Arizona, ainda atrai olhares quando abastece seu carro nas bombas de gasol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704000" cy="532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8626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Ela pode escrever 25 palavras por minu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37372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secar o cabelo, e maquiar-se norm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3625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Trocar as lentes de contacto como qualquer outra pesso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888000" cy="27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522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65760" y="3500280"/>
            <a:ext cx="3809880" cy="302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9640" y="3500280"/>
            <a:ext cx="3888000" cy="302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9080" y="260280"/>
            <a:ext cx="8604000" cy="6381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4005360"/>
            <a:ext cx="71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1360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5337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Jéssica com 26 anos e 1,55 metros de altura, é a primeira mulher piloto na historia da aviação que pilota sem braç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14280"/>
            <a:ext cx="7417080" cy="354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3933720"/>
            <a:ext cx="8424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Esta mulher, inspiradora e heroína para muitos, irradia felicidade e um grande senso de hum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no Día das Mães em maio do ano pasado, voou sozinha com um letreiro suspenso que acertadamente diz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Olha mamãe, sem mãos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327640" cy="374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30600"/>
            <a:ext cx="7921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ando ainda não voava, me dei conta de que meu temor era porque eu não sabia muito sobre 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á um medo universal na gente, é o temor da insuficiência e da falta de fé em nós mesmos"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54936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té a data, tinha contabilizado aproximadamente 130 horas de vôo soz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17720"/>
            <a:ext cx="27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afirma: o medo pode basear-se no des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90920" cy="59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4000" y="14860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Graças a sua confiança, perseverança, preparação e ambição, Jéssica tem percorrido um longo caminho para converter-se em quem é hoje em 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81040" y="549360"/>
            <a:ext cx="4135320" cy="568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91280" y="1341360"/>
            <a:ext cx="316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lém de ser uma oradora motivacional (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www.rightfooted.com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), ela também tem sido incentivadora na Rede Internacional de Crianças Amputadas nos últimos cinco a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803160"/>
            <a:ext cx="4176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Jéssica nasceu sem braços, devido a uma rara enfermidade congên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omo qualquer criança, não 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ntendia porque  não tinha braços como as demais pesso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Era difícil ser diferen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010040" cy="576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289080"/>
            <a:ext cx="8280360" cy="630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54560" y="5154480"/>
            <a:ext cx="47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"Sei que será difícil ter uma familia, mas sei que serei uma boa mã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94172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Jéssica espera casar-se e ter fil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 diz entre ri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501336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ifícil vai ser para o pretendente pedir minha “mão” a meus p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1640" y="58104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ão tenho braços, mas não é isso que determina até onde eu posso chegar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7840" y="2924280"/>
            <a:ext cx="381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"Nosso temor mais profundo não é que sejamos insuficientes, é que sejamos poderosos além da medi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47628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 ser humano precisa ter momentos baixos na vida, para sentir, ainda mais fortes, os momentos emocionant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6100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Quanto maior for a dificuldade, maior será a glor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91520" cy="597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4620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a você, o que te faz falta para “tocar” o cé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6157800"/>
            <a:ext cx="57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Traduzido do Espanhol por SC Antonio Rodri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4720" y="431640"/>
            <a:ext cx="4643640" cy="602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35640" y="186048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m embargo, tomou parte em diversas atividades como ginástica, baile e canto para crianças, realizadas em grandes cen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103640" cy="568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447920"/>
            <a:ext cx="34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Quando era jovenzinha se enfadava, batendo os pés e gritando em suas birras por não ter braç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ão obstante, centrou toda sua energia na prática de es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547560"/>
            <a:ext cx="41036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5280" y="1928880"/>
            <a:ext cx="33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Jéssica, o maior desafio por ter nascido sem braços, mais que a adversidade física, eram as constantes encaradas das pesso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77720"/>
            <a:ext cx="540072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46134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Porém tinha aprendido a ver o lado positivo dessas situações que me deram a oportunidade de utilizar esse canal de vibrações positivas e ser um exemplo de otimismo.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62712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Eu me irritava muito quando as pessoas me olhavam caminhando pela rua ou pela  maneira de comer com os p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76360" y="479520"/>
            <a:ext cx="5904000" cy="34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4238640"/>
            <a:ext cx="7777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Seus pais foram seus modelos de conduta e seus pilares de apo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"Minha mãe é meu modelo e sempre me diz que posso fazer qualquer coisa a que eu me prop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622440"/>
            <a:ext cx="5040360" cy="345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4543560"/>
            <a:ext cx="6408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É difícil ser pai de um filho incap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Papai foi minha rocha durante os tempos difíceis e é quem formou a pessoa que eu sou atualment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080" y="144360"/>
            <a:ext cx="8712000" cy="6524640"/>
          </a:xfrm>
          <a:prstGeom prst="foldedCorner">
            <a:avLst>
              <a:gd name="adj" fmla="val 12500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1197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eu pai não derramou uma lágrima quando nasci porque não me vê como uma ví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32000" y="501480"/>
            <a:ext cx="6408720" cy="3648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4281480"/>
            <a:ext cx="7991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Quando pela primeira vez aprendeu a diirigir um auto, foi graças ao uso de modificações especia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ahoma"/>
              </a:rPr>
              <a:t>Sem embargo, depois de ter aprendido bem, decidiu suprimir as modificações e agora é titular de uma permissão para dirigir sem restr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260280"/>
            <a:ext cx="8604000" cy="6381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59Z</dcterms:created>
  <dc:creator>Client</dc:creator>
  <dc:description/>
  <dc:language>en-US</dc:language>
  <cp:lastModifiedBy>Antonio</cp:lastModifiedBy>
  <dcterms:modified xsi:type="dcterms:W3CDTF">2009-08-27T17:49:10Z</dcterms:modified>
  <cp:revision>69</cp:revision>
  <dc:subject/>
  <dc:title>Diapositive 1</dc:title>
</cp:coreProperties>
</file>