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sound-L'amour%20r%C3%AAve(Andr%C3%A9Gagnon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4AB-A70E-487D-904B-D55AF51F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615-4333-41E5-835D-3B9FE0F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423-8FD0-46C8-AE6B-20F47E14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5D4-AF41-4291-8C06-00F25F92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A07-11F3-4749-9F3A-032128C1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047-344A-4D19-8904-7BF2AE2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4C8-ADB9-4A75-8EC5-9A81B2E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B12-9C6D-4A7D-ACF2-B5C896D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1C6-A168-4D92-92DB-C34CDA83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E85-F295-4975-BA28-A4D93D6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228-DE32-4156-A32A-53B23F55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4A3-7C77-4186-B78A-6A7647E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8EBD-E8AC-4414-B6B1-08B096A356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audio" Target="../media/sound-L&apos;amour%20r&#234;ve(Andr&#233;Gagnon)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24280" y="6308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948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05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052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33336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ocando o Cé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sem  Braç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40000" y="5661000"/>
            <a:ext cx="42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 Jéssica   Cox 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044720" y="1773360"/>
            <a:ext cx="6840360" cy="38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0" name="sound-L'amour%20r%C3%AAve(Andr%C3%A9Gagnon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121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Graduada em Psicología pela Universidade do Arizona, ainda atrai olhares quando abastece seu carro nas bombas de gasol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704000" cy="532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8626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Ela pode escrever 25 palavras por minu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3737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secar o cabelo, e maquiar-se norm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3625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Trocar as lentes de contacto como qualquer outra pess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888000" cy="27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65760" y="3500280"/>
            <a:ext cx="3809880" cy="302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9640" y="3500280"/>
            <a:ext cx="3888000" cy="302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400536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1360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337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Jéssica com 26 anos e 1,55 metros de altura, é a primeira mulher piloto na historia da aviação que pilota sem braç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14280"/>
            <a:ext cx="7417080" cy="354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3933720"/>
            <a:ext cx="8424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sta mulher, inspiradora e heroína para muitos, irradia felicidade e um grande senso de hum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no Día das Mães em maio do ano pasado, voou sozinha com um letreiro suspenso que acertadamente diz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Olha mamãe, sem mão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327640" cy="37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30600"/>
            <a:ext cx="7921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ando ainda não voava, me dei conta de que meu temor era porque eu não sabia muito sobre 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á um medo universal na gente, é o temor da insuficiência e da falta de fé em nós mesmos"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54936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é a data, tinha contabilizado aproximadamente 130 horas de vôo soz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1772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afirma: o medo pode basear-se no des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90920" cy="59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4000" y="14860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raças a sua confiança, perseverança, preparação e ambição, Jéssica tem percorrido um longo caminho para converter-se em quem é hoje em 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1040" y="549360"/>
            <a:ext cx="413532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91280" y="1341360"/>
            <a:ext cx="316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lém de ser uma oradora motivacional (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www.rightfooted.com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), ela também tem sido incentivadora na Rede Internacional de Crianças Amputadas nos últimos cinco 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803160"/>
            <a:ext cx="4176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Jéssica nasceu sem braços, devido a uma rara enfermidade congên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omo qualquer criança, não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ntendia porque  não tinha braços como as demais pesso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ra difícil ser diferen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01004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289080"/>
            <a:ext cx="8280360" cy="630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54560" y="5154480"/>
            <a:ext cx="47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"Sei que será difícil ter uma familia, mas sei que serei uma boa mã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94172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Jéssica espera casar-se e ter fil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 diz entre ri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01336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ifícil vai ser para o pretendente pedir minha “mão” a meus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1640" y="58104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ão tenho braços, mas não é isso que determina até onde eu posso chega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7840" y="2924280"/>
            <a:ext cx="381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Nosso temor mais profundo não é que sejamos insuficientes, é que sejamos poderosos além da medi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47628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 ser humano precisa ter momentos baixos na vida, para sentir, ainda mais fortes, os momentos emocionant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6100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to maior for a dificuldade, maior será a glor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915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620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 você, o que te faz falta para “tocar” o cé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615780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raduzido do Espanhol por SC Antonio Rodri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4720" y="431640"/>
            <a:ext cx="4643640" cy="602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186048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m embargo, tomou parte em diversas atividades como ginástica, baile e canto para crianças, realizadas em grandes cen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447920"/>
            <a:ext cx="34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Quando era jovenzinha se enfadava, batendo os pés e gritando em suas birras por não ter braç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ão obstante, centrou toda sua energia na prática de es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5280" y="1928880"/>
            <a:ext cx="33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Jéssica, o maior desafio por ter nascido sem braços, mais que a adversidade física, eram as constantes encaradas das pesso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772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46134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orém tinha aprendido a ver o lado positivo dessas situações que me deram a oportunidade de utilizar esse canal de vibrações positivas e ser um exemplo de otimismo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2712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u me irritava muito quando as pessoas me olhavam caminhando pela rua ou pela  maneira de comer com os p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479520"/>
            <a:ext cx="5904000" cy="34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4238640"/>
            <a:ext cx="7777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us pais foram seus modelos de conduta e seus pilares de apo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Minha mãe é meu modelo e sempre me diz que posso fazer qualquer coisa a que eu me prop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622440"/>
            <a:ext cx="5040360" cy="345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4543560"/>
            <a:ext cx="6408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É difícil ser pai de um filho incap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apai foi minha rocha durante os tempos difíceis e é quem formou a pessoa que eu sou atualment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197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u pai não derramou uma lágrima quando nasci porque não me vê como uma ví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501480"/>
            <a:ext cx="6408720" cy="3648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4281480"/>
            <a:ext cx="799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do pela primeira vez aprendeu a diirigir um auto, foi graças ao uso de modificações especia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m embargo, depois de ter aprendido bem, decidiu suprimir as modificações e agora é titular de uma permissão para dirigir sem restr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59Z</dcterms:created>
  <dc:creator>Client</dc:creator>
  <dc:description/>
  <dc:language>en-US</dc:language>
  <cp:lastModifiedBy>Antonio</cp:lastModifiedBy>
  <dcterms:modified xsi:type="dcterms:W3CDTF">2009-08-27T17:49:10Z</dcterms:modified>
  <cp:revision>69</cp:revision>
  <dc:subject/>
  <dc:title>Diapositive 1</dc:title>
</cp:coreProperties>
</file>