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Carl%20Orff%20-%20Fortuna%20Imperatrix%20Mundi%20-%20I_%20O%20Fortuna.wav" ContentType="audio/x-wav"/>
  <Override PartName="/ppt/media/image17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95F3-F32B-4096-97AA-C43ECC3C7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67E7-2EAE-44B3-B65A-DD3DABD1D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CF84-9BBB-461D-BC7E-BEE148EBD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C1A8-58D0-433C-86BA-031712EB1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2B50-2426-4659-A259-ACA6456C2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1048-C05E-4BB3-9F61-D6AEECD5E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3A77-5579-4574-8A94-04EE9F3D9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5F7E-E75C-4B16-A2E7-CC5832395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3E1C-3405-4179-9E77-44CFBBBC1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B1C5-E311-4FCC-BEFA-F910A138C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AF58-EBC9-408E-AB8A-584862F57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E93D-FCD3-4C9A-97B5-DC010F7A4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5E2BF-11D7-4958-8935-EABCA03C34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rl%20Orff%20-%20Fortuna%20Imperatrix%20Mundi%20-%20I_%20O%20Fortuna.wav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4360" y="2205000"/>
            <a:ext cx="763272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VOTE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THE BEST EMAIL                    OF THIS YE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(votado como o melhor email de 200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5580000" y="213372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studar te chateia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616572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eles não!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796000" y="213372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Estudar chateia-te?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950080"/>
            <a:ext cx="2808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5148360" y="177336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Odeias verduras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6381720"/>
            <a:ext cx="32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Eles morrem de fome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50920" y="6491160"/>
            <a:ext cx="42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 carinho dos teus pais cansa-te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6524640"/>
            <a:ext cx="37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Eles não têm nenhum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24000" y="6308640"/>
            <a:ext cx="38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Enjoado dos mesmos jogos?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003640" y="6524640"/>
            <a:ext cx="38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Eles não tem opção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55640" y="602136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800" spc="-1" strike="noStrike">
                <a:solidFill>
                  <a:srgbClr val="ffffff"/>
                </a:solidFill>
                <a:latin typeface="Arial"/>
              </a:rPr>
              <a:t>Alguém te deu um Adidas em vez de um Nike?</a:t>
            </a: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788000" y="65246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s só tem uma marca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438160" y="6491160"/>
            <a:ext cx="285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les só tem uma marca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5614920" y="2205000"/>
            <a:ext cx="352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Não estás agradecido                         por uma cama para dormir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6491160"/>
            <a:ext cx="39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Eles gostariam de não acorda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95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re are many things in your life          that will catch your eye,                             but only a few will catch your heart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4005000"/>
            <a:ext cx="8229600" cy="21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Existem muitas coisas na tua vida                                   que irão surpreender os teus olhos,                                  mas poucas coisas irão surpreender o teu coração…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0"/>
                            </p:stCondLst>
                            <p:childTnLst>
                              <p:par>
                                <p:cTn id="13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619280" y="494172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Ainda reclama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684360" y="5661000"/>
            <a:ext cx="784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Observa à tua volta e sê agradecido                                                      por tudo o que tens nesta vida passageira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0" y="5516640"/>
            <a:ext cx="914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000" spc="-1" strike="noStrike">
                <a:solidFill>
                  <a:srgbClr val="ffff00"/>
                </a:solidFill>
                <a:latin typeface="Arial"/>
              </a:rPr>
              <a:t>Nós somos afortunados, nós temos muito mais do que precisamos para ser feliz...</a:t>
            </a:r>
            <a:r>
              <a:rPr b="0" lang="pt-PT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pt-PT" sz="2000" spc="-1" strike="noStrike">
                <a:solidFill>
                  <a:srgbClr val="ffff00"/>
                </a:solidFill>
                <a:latin typeface="Arial"/>
              </a:rPr>
              <a:t>Vamos tentar não alimentar esse ciclo sem fim de consumismo e imoralidade no qual esta sociedade 'moderna e avançada' esquece, e ignora os outros dois trilhões de irmãos e irmã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84360" y="620640"/>
            <a:ext cx="7704000" cy="49546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826920" y="5877000"/>
            <a:ext cx="7490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you think you are unhappy, look at th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2000" spc="-1" strike="noStrike">
                <a:solidFill>
                  <a:srgbClr val="000000"/>
                </a:solidFill>
                <a:latin typeface="Arial"/>
              </a:rPr>
              <a:t>Se acha que é infeliz, olhe para e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0"/>
                            </p:stCondLst>
                            <p:childTnLst>
                              <p:par>
                                <p:cTn id="1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684360" y="5445000"/>
            <a:ext cx="784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Envie esta apresentação sem nenhuma obrigação ou expectativa em receber sor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Não a mantenha, envie-a e não será em vã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258920" y="5589720"/>
            <a:ext cx="734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Vamos reclamar menos e dar mais!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528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s email                                   needs to circulate forever..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47242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2400" spc="-1" strike="noStrike">
                <a:solidFill>
                  <a:srgbClr val="ffff00"/>
                </a:solidFill>
                <a:latin typeface="Arial"/>
              </a:rPr>
              <a:t>este email precisa circular sempre...</a:t>
            </a: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0"/>
                            </p:stCondLst>
                            <p:childTnLst>
                              <p:par>
                                <p:cTn id="14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755640" y="692280"/>
            <a:ext cx="7704000" cy="51130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900000" y="5950080"/>
            <a:ext cx="770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you think your salary is low, how about h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2000" spc="-1" strike="noStrike">
                <a:solidFill>
                  <a:srgbClr val="000000"/>
                </a:solidFill>
                <a:latin typeface="Arial"/>
              </a:rPr>
              <a:t>Se acha que o seu salário é baixo, que tal o del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0"/>
                            </p:stCondLst>
                            <p:childTnLst>
                              <p:par>
                                <p:cTn id="3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619280" y="765000"/>
            <a:ext cx="5688000" cy="48992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9640" y="5877000"/>
            <a:ext cx="806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you think you don't have many friends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2000" spc="-1" strike="noStrike">
                <a:solidFill>
                  <a:srgbClr val="000000"/>
                </a:solidFill>
                <a:latin typeface="Arial"/>
              </a:rPr>
              <a:t>Se acha que não tem tem muitos amigos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042920" y="692280"/>
            <a:ext cx="6985080" cy="52117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95280" y="6021360"/>
            <a:ext cx="79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 you feel like giving up, think of this man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2400" spc="-1" strike="noStrike">
                <a:solidFill>
                  <a:srgbClr val="000000"/>
                </a:solidFill>
                <a:latin typeface="Arial"/>
              </a:rPr>
              <a:t>Quando pensar em desistir, pense neste homem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71640" y="836640"/>
            <a:ext cx="7127640" cy="48243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39640" y="5805360"/>
            <a:ext cx="799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you think you suffer in life, do you suffer as much as he do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2000" spc="-1" strike="noStrike">
                <a:solidFill>
                  <a:srgbClr val="000000"/>
                </a:solidFill>
                <a:latin typeface="Arial"/>
              </a:rPr>
              <a:t>Se acha que sofre na vida, sofre tanto quanto el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0"/>
                            </p:stCondLst>
                            <p:childTnLst>
                              <p:par>
                                <p:cTn id="6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900000" y="836640"/>
            <a:ext cx="7128000" cy="48132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39640" y="5877000"/>
            <a:ext cx="813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you complain about your transport system, how about the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2000" spc="-1" strike="noStrike">
                <a:solidFill>
                  <a:srgbClr val="000000"/>
                </a:solidFill>
                <a:latin typeface="Arial"/>
              </a:rPr>
              <a:t>Se reclama sobre o seu sistema de transporte, que tal o del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0"/>
                            </p:stCondLst>
                            <p:childTnLst>
                              <p:par>
                                <p:cTn id="7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268360" y="907920"/>
            <a:ext cx="4104000" cy="46087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684360" y="5877000"/>
            <a:ext cx="806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your society is unfair to you, how about h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2000" spc="-1" strike="noStrike">
                <a:solidFill>
                  <a:srgbClr val="000000"/>
                </a:solidFill>
                <a:latin typeface="Arial"/>
              </a:rPr>
              <a:t>Se a sua sociedade é injusta consigo, que tal a del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0"/>
                            </p:stCondLst>
                            <p:childTnLst>
                              <p:par>
                                <p:cTn id="9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joy the life                                             how it is and as it comes.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things are worse for others                and much better for us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00000" y="3645000"/>
            <a:ext cx="6624720" cy="24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3" marL="1600200" indent="0" algn="ctr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Aproveite a v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 algn="ctr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como ela é e como ela ve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 algn="ctr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 algn="ctr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As coisas são piores para os out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 algn="ctr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e muito melhores para nó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0"/>
                            </p:stCondLst>
                            <p:childTnLst>
                              <p:par>
                                <p:cTn id="10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000"/>
                            </p:stCondLst>
                            <p:childTnLst>
                              <p:par>
                                <p:cTn id="12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1T18:37:28Z</dcterms:created>
  <dc:creator>Utilizador</dc:creator>
  <dc:description/>
  <dc:language>en-US</dc:language>
  <cp:lastModifiedBy>Utilizador</cp:lastModifiedBy>
  <dcterms:modified xsi:type="dcterms:W3CDTF">2008-09-22T19:22:31Z</dcterms:modified>
  <cp:revision>2</cp:revision>
  <dc:subject/>
  <dc:title>Diapositivo 1</dc:title>
</cp:coreProperties>
</file>