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Carl%20Orff%20-%20Fortuna%20Imperatrix%20Mundi%20-%20I_%20O%20Fortuna.wav" ContentType="audio/x-wav"/>
  <Override PartName="/ppt/media/image1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CE4-4E5A-459D-AA36-74F426C4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718-9513-43AA-B7A0-08A60AE5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F8F-65D0-464E-A903-DFF55F8D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00B-311F-4209-A546-F376D6CE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BCB-30A5-48A9-B1F2-283F4663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2D6-4C6A-4819-855C-C4A95B3D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525-8AA0-4417-8BEE-227E09B9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5A5-8A8E-4717-AEDC-6317C0B9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3BE-10BD-437F-BDDC-BF793CA5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B9A-19C3-45C2-99F1-B69F5452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F25-DD68-40B4-B49C-085BAF9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F86-EA25-47A8-85A4-98652D2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CDFE-28FD-4997-884E-FFB5004FB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l%20Orff%20-%20Fortuna%20Imperatrix%20Mundi%20-%20I_%20O%20Fortun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5000"/>
            <a:ext cx="7632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VO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E BEST EMAIL                    OF THIS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(votado como o melhor email de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80000" y="213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tudar te chateia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eles não!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13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tudar chateia-t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9500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48360" y="177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deias verdur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38172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morrem de fo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4911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 carinho dos teus pais cansa-t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6524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não têm nenhu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6308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njoado dos mesmos jogo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6524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não tem opçã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6021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ff"/>
                </a:solidFill>
                <a:latin typeface="Arial"/>
              </a:rPr>
              <a:t>Alguém te deu um Adidas em vez de um Nike?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524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s só tem uma marc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8160" y="649116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s só tem uma marc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14920" y="2205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ão estás agradecido                         por uma cama para dormi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gostariam de não acord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hings in your life          that will catch your eye,                             but only a few will catch your heart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xistem muitas coisas na tua vida                                   que irão surpreender os teus olhos,                                  mas poucas coisas irão surpreender o teu coração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19280" y="49417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inda recla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5661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Observa à tua volta e sê agradecido                                                      por tudo o que tens nesta vida passageira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51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00"/>
                </a:solidFill>
                <a:latin typeface="Arial"/>
              </a:rPr>
              <a:t>Nós somos afortunados, nós temos muito mais do que precisamos para ser feliz...</a:t>
            </a:r>
            <a:r>
              <a:rPr b="0" lang="pt-P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t-PT" sz="2000" spc="-1" strike="noStrike">
                <a:solidFill>
                  <a:srgbClr val="ffff00"/>
                </a:solidFill>
                <a:latin typeface="Arial"/>
              </a:rPr>
              <a:t>Vamos tentar não alimentar esse ciclo sem fim de consumismo e imoralidade no qual esta sociedade 'moderna e avançada' esquece, e ignora os outros dois trilhões de irmãos e irmã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4954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5877000"/>
            <a:ext cx="74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 are unhappy, look a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é infeliz, olhe para 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4360" y="544500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nvie esta apresentação sem nenhuma obrigação ou expectativa em receber s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ão a mantenha, envie-a e não será em v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58920" y="55897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mos reclamar menos e dar mais!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email                                   needs to circulate forever.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00"/>
                </a:solidFill>
                <a:latin typeface="Arial"/>
              </a:rPr>
              <a:t>este email precisa circular sempre...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113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95008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r salary is low, how about 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o seu salário é baixo, que tal o de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688000" cy="4899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87700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 don't have many friend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não tem tem muitos amig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6985080" cy="5211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021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you feel like giving up, think of this ma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ando pensar em desistir, pense neste home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127640" cy="482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5805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 suffer in life, do you suffer as much as he d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sofre na vida, sofre tanto quanto 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128000" cy="481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587700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complain about your transport system, how about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reclama sobre o seu sistema de transporte, que tal o de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104000" cy="460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587700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r society is unfair to you, how about 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 sua sociedade é injusta consigo, que tal a de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joy the life                                             how it is and as it come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ings are worse for others                and much better for u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3645000"/>
            <a:ext cx="662472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proveite 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como ela é e como ela v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s coisas são piores para os ou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 muito melhores para nó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8:37:28Z</dcterms:created>
  <dc:creator>Utilizador</dc:creator>
  <dc:description/>
  <dc:language>en-US</dc:language>
  <cp:lastModifiedBy>Utilizador</cp:lastModifiedBy>
  <dcterms:modified xsi:type="dcterms:W3CDTF">2008-09-22T19:22:31Z</dcterms:modified>
  <cp:revision>2</cp:revision>
  <dc:subject/>
  <dc:title>Diapositivo 1</dc:title>
</cp:coreProperties>
</file>