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184-9225-484B-B394-CF5C640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C9B-735D-4BFD-9EF3-6F0299F8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9E5-2551-461D-A877-0090FE51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4DB-52A7-48D8-92DC-AC65C2A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C70-3DF5-445A-B79B-D70ABC6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390-8CA6-4781-A6EB-DFB3A73C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6B8-D079-44D9-8B7D-13D597B3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C06-B0FE-4740-8040-14D984B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CF8-69C1-4604-A93B-08715C6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3D9-84D1-4C62-AD9E-9413FEF2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91C-DF30-4FB3-BC7A-2CEA061C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B4A-6382-4EC7-ABB0-CDF2236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7B72-32D0-4C50-A7BA-6AA45B26A193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9280" y="764280"/>
            <a:ext cx="63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IZEM QUE TRAZ SOR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4760" y="487656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O MEU UNIVERSO MÁGIC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SEM SOLTAR A TUA MÃO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905440" cy="2840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3920" y="5012640"/>
            <a:ext cx="63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AGORA... PEDE UM DESEJ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3268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6040" y="397440"/>
            <a:ext cx="8078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TU O ENVIAS 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 PESSO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 TEU DESEJO SERÁ CONCEDIDO NUM 1 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 PESSOAS - EM 6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5 PESSOAS - EM 3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6 PESSOAS - NUM 1 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7 PESSOAS - EM 2 SEMA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8 PESSOAS - NUMA 1 SEM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9 PESSOAS - EM 5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0 PESSOAS - EM 3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2 PESSOAS - EM 2 D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5 PESSOAS - NUM 1 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0 PESSOAS - EM 3 HORA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07316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E SE TU FORES MEU VERDADEIRO AMI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66ff"/>
                </a:solidFill>
                <a:latin typeface="Comic Sans MS"/>
              </a:rPr>
              <a:t>ENVIAR-MO-ÁS EM MENOS DE 3 HO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69696"/>
                </a:solidFill>
                <a:latin typeface="Comic Sans MS"/>
              </a:rPr>
              <a:t>SE O APAGARES DESPOIS DE O LE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69696"/>
                </a:solidFill>
                <a:latin typeface="Comic Sans MS"/>
              </a:rPr>
              <a:t>TERÁS UM ANO DE MÁ SORTE !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omic Sans MS"/>
              </a:rPr>
              <a:t>MAS, SE O ENVIARES A DOIS DOS TEUS MELHORES AMIGO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Comic Sans MS"/>
              </a:rPr>
              <a:t>TERÁS AUTOMÁTICAMENTE 3 ANOS DE BOA SORTE 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32520" y="4507920"/>
            <a:ext cx="809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CRÊ EM TI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0066ff"/>
                </a:solidFill>
                <a:latin typeface="Comic Sans MS"/>
              </a:rPr>
              <a:t>CRÊ NAQUILO QUE ACREDITA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4000" spc="-1" strike="noStrike">
                <a:solidFill>
                  <a:srgbClr val="ff3300"/>
                </a:solidFill>
                <a:latin typeface="Comic Sans MS"/>
              </a:rPr>
              <a:t>E FAZ COM QUE ACONTEÇA !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15200" cy="3441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39360" y="4508640"/>
            <a:ext cx="777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AGRADEÇO A QU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ME ENVIOU I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ÃO POR PENSAR QUE POD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FAZER MAGIA COM ESTE E-MAIL..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89560" y="622800"/>
            <a:ext cx="71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MAS POR SABER QUE QU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MO ENVIO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ME TEVE EM CONSIDERAÇÃ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s-ES" sz="3600" spc="-1" strike="noStrike">
                <a:solidFill>
                  <a:srgbClr val="ff3300"/>
                </a:solidFill>
                <a:latin typeface="Comic Sans MS"/>
              </a:rPr>
              <a:t>MUITO ESPECIALMENTE...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77840" y="1986120"/>
            <a:ext cx="6986520" cy="2885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33280" y="4581360"/>
            <a:ext cx="682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HAJA SEMP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TRABALHO QUE FAZER PA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AS TUAS MÃO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49840" cy="3519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57080" y="4437000"/>
            <a:ext cx="60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O TEU BOLS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GUARDE SEMP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UMA MOEDA OU DUAS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550200" cy="3343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6440" y="4221000"/>
            <a:ext cx="661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SEMPRE BRIL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 SOL NO VID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A TUA JANEL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5120" cy="3117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0760" y="4365000"/>
            <a:ext cx="739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XALÁ QUE SEMPRE POSS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SEGUIR O ARCO ÍR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EM CADA CHUVA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724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4724280"/>
            <a:ext cx="631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XALÁ QUE SEMP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TENHAS POR PERTO A M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 UM AMIG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848640" cy="357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92080" y="4220280"/>
            <a:ext cx="75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XALÁ QUE DEUS EN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 TEU COR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ÇÃ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O DE ALEG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ARA TE CONFOR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620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146520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5075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ESTA É UMA BENDIÇÃO IRLANDESA 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 BRACELETE DA AMIZADE !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977160" cy="3365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234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BOM, ISTO É O QUE 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QUE FAZ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ENVIA ISTO A TODOS OS TEUS AMIG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MAS TENS DE O F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DENTRO DE UMA H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APÓS TÊ-LO ABERTO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0:39:36Z</dcterms:created>
  <dc:creator>Ricardo</dc:creator>
  <dc:description/>
  <dc:language>en-US</dc:language>
  <cp:lastModifiedBy>cesaria.jimbe</cp:lastModifiedBy>
  <dcterms:modified xsi:type="dcterms:W3CDTF">2003-03-24T14:41:12Z</dcterms:modified>
  <cp:revision>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2584125</vt:r8>
  </property>
  <property fmtid="{D5CDD505-2E9C-101B-9397-08002B2CF9AE}" pid="3" name="_AuthorEmail">
    <vt:lpwstr>AnapaLF@mzsite01.ion.chevron.com</vt:lpwstr>
  </property>
  <property fmtid="{D5CDD505-2E9C-101B-9397-08002B2CF9AE}" pid="4" name="_AuthorEmailDisplayName">
    <vt:lpwstr>Anapaz, Luis F</vt:lpwstr>
  </property>
  <property fmtid="{D5CDD505-2E9C-101B-9397-08002B2CF9AE}" pid="5" name="_EmailSubject">
    <vt:lpwstr>Bonito</vt:lpwstr>
  </property>
</Properties>
</file>