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9CC-D0E4-4060-80C4-2E9F4510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CD0-0EA6-4336-9525-8080773D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6BB-2D66-46C3-89A5-69A064C4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5CE-876B-4FE4-A0EA-79323B2B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526-B821-4DC5-90A9-6AFE664C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877-F2EB-4E08-A21E-C8203DCB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280-722B-4967-AF82-9FD652E8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8A5-434D-4630-8C25-EFB2359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978-1D5F-4CE1-B832-A7DC46F6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327-4DAF-4089-92FC-59414D7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A8B-9DAE-4572-A2A6-105A40B9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1D7-3843-4AC3-A520-8A7D9A9C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5311-1142-48D0-9D50-8FE1275CB10B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9280" y="764280"/>
            <a:ext cx="63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IZEM QUE TRAZ SORT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4760" y="487656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O MEU UNIVERSO MÁGIC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SEM SOLTAR A TUA MÃO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905440" cy="2840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53920" y="5012640"/>
            <a:ext cx="63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AGORA... PEDE UM DESEJ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13268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6040" y="397440"/>
            <a:ext cx="8078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TU O ENVIAS 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 PESSOA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 TEU DESEJO SERÁ CONCEDIDO NUM 1 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 PESSOAS - EM 6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5 PESSOAS - EM 3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6 PESSOAS - NUM 1 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7 PESSOAS - EM 2 SEMA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8 PESSOAS - NUMA 1 SEM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9 PESSOAS - EM 5 D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0 PESSOAS - EM 3 D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2 PESSOAS - EM 2 D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5 PESSOAS - NUM 1 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0 PESSOAS - EM 3 HORA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07316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Comic Sans MS"/>
              </a:rPr>
              <a:t>E SE TU FORES MEU VERDADEIRO AMI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66ff"/>
                </a:solidFill>
                <a:latin typeface="Comic Sans MS"/>
              </a:rPr>
              <a:t>ENVIAR-MO-ÁS EM MENOS DE 3 HOR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69696"/>
                </a:solidFill>
                <a:latin typeface="Comic Sans MS"/>
              </a:rPr>
              <a:t>SE O APAGARES DESPOIS DE O LER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69696"/>
                </a:solidFill>
                <a:latin typeface="Comic Sans MS"/>
              </a:rPr>
              <a:t>TERÁS UM ANO DE MÁ SORTE !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Comic Sans MS"/>
              </a:rPr>
              <a:t>MAS, SE O ENVIARES A DOIS DOS TEUS MELHORES AMIGO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Comic Sans MS"/>
              </a:rPr>
              <a:t>TERÁS AUTOMÁTICAMENTE 3 ANOS DE BOA SORTE 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32520" y="4507920"/>
            <a:ext cx="809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CRÊ EM TI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4000" spc="-1" strike="noStrike">
                <a:solidFill>
                  <a:srgbClr val="0066ff"/>
                </a:solidFill>
                <a:latin typeface="Comic Sans MS"/>
              </a:rPr>
              <a:t>CRÊ NAQUILO QUE ACREDIT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E FAZ COM QUE ACONTEÇA !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315200" cy="3441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39360" y="4508640"/>
            <a:ext cx="777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AGRADEÇO A QU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ME ENVIOU I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NÃO POR PENSAR QUE POD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FAZER MAGIA COM ESTE E-MAIL..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89560" y="622800"/>
            <a:ext cx="71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MAS POR SABER QUE QU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MO ENVIO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3600" spc="-1" strike="noStrike">
                <a:solidFill>
                  <a:srgbClr val="ff3300"/>
                </a:solidFill>
                <a:latin typeface="Comic Sans MS"/>
              </a:rPr>
              <a:t>ME TEVE EM CONSIDERAÇÃ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s-ES" sz="3600" spc="-1" strike="noStrike">
                <a:solidFill>
                  <a:srgbClr val="ff3300"/>
                </a:solidFill>
                <a:latin typeface="Comic Sans MS"/>
              </a:rPr>
              <a:t>MUITO ESPECIALMENTE...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77840" y="1986120"/>
            <a:ext cx="6986520" cy="2885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33280" y="4581360"/>
            <a:ext cx="682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XALÁ QUE HAJA SEMP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TRABALHO QUE FAZER PA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AS TUAS MÃO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549840" cy="3519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57080" y="4437000"/>
            <a:ext cx="60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XALÁ QUE O TEU BOL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GUARDE SEMP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UMA MOEDA OU DUA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550200" cy="3343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06440" y="4221000"/>
            <a:ext cx="661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XALÁ QUE SEMPRE BRIL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 SOL NO VIDR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A TUA JANEL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85120" cy="3117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0760" y="4365000"/>
            <a:ext cx="739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OXALÁ QUE SEMPRE POSS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SEGUIR O ARCO ÍR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EM CADA CHU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7240" cy="3562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4724280"/>
            <a:ext cx="631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XALÁ QUE SEMP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TENHAS POR PERTO A M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 UM AMIG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848640" cy="3570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92080" y="4220280"/>
            <a:ext cx="75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OXALÁ QUE DEUS EN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O TEU COR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ÇÃ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O DE ALEG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PARA TE CONFOR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26200" cy="354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146520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45075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STA É UMA BENDIÇÃO IRLANDESA CHAM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 BRACELETE DA AMIZADE !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977160" cy="3365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234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BOM, ISTO É O QUE 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QUE FAZ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ENVIA ISTO A TODOS OS TEUS AMIG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MAS TENS DE O FA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DENTRO DE UMA H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APÓS TÊ-LO ABERTO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0:39:36Z</dcterms:created>
  <dc:creator>Ricardo</dc:creator>
  <dc:description/>
  <dc:language>en-US</dc:language>
  <cp:lastModifiedBy>cesaria.jimbe</cp:lastModifiedBy>
  <dcterms:modified xsi:type="dcterms:W3CDTF">2003-03-24T14:41:12Z</dcterms:modified>
  <cp:revision>2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2584125</vt:r8>
  </property>
  <property fmtid="{D5CDD505-2E9C-101B-9397-08002B2CF9AE}" pid="3" name="_AuthorEmail">
    <vt:lpwstr>AnapaLF@mzsite01.ion.chevron.com</vt:lpwstr>
  </property>
  <property fmtid="{D5CDD505-2E9C-101B-9397-08002B2CF9AE}" pid="4" name="_AuthorEmailDisplayName">
    <vt:lpwstr>Anapaz, Luis F</vt:lpwstr>
  </property>
  <property fmtid="{D5CDD505-2E9C-101B-9397-08002B2CF9AE}" pid="5" name="_EmailSubject">
    <vt:lpwstr>Bonito</vt:lpwstr>
  </property>
</Properties>
</file>