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Era%20-%20Ameno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48F-0605-4E5A-9720-5C72241A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C7F-61C2-4C7A-B763-DACF0D8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4A2-43BB-4802-A761-C0AAF1A1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596-BEDE-4D34-AE28-A4B3E5D3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A329A-AA62-48CD-9A3F-048320A7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D358D-FC6D-4D5B-9E9E-5E648D46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0A90F-E453-43CC-8DF1-C23ACC79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2361D-EE54-4C44-AFEF-0C4E0390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0C915-BF5E-48DE-8233-D759658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DC8E8-67EA-4131-877E-2DE4BDE2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88699-2096-4F7D-893A-C484D6C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25B-CE3D-46DF-94A9-9EDF6FEE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0DB88-C472-49DB-9A65-4EE3EEA2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3BEA5-785A-4545-A4E5-563BA65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32509-2FBF-490D-B475-D3B864EB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9F3A7-6B27-49C5-A901-BBC467C6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7E012-6C03-4971-8404-042BFD54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03E-3663-40DD-8841-0213990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EC9-F0F8-4535-AE4F-8F09DB1A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BDC-4E77-44AF-B536-FB94A21A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215-D6BB-4D08-A7E8-0F35875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5A4-0BA1-4FA2-B832-D07B8353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157-3741-4770-89FE-66BCF9B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811-EB63-4AA0-95C7-8367D182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4B3F-9613-4011-8AF0-0C09396502E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6399-0716-49B8-8F2C-D8995F406284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ra%20-%20Ameno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68360" y="836640"/>
            <a:ext cx="7532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9"/>
                </a:solidFill>
                <a:latin typeface="Verdana"/>
              </a:rPr>
              <a:t>Uma breve not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9"/>
                </a:solidFill>
                <a:latin typeface="Verdana"/>
              </a:rPr>
              <a:t>A música desta apresentação chama-se </a:t>
            </a:r>
            <a:r>
              <a:rPr b="1" i="1" lang="pt-BR" sz="2400" spc="-1" strike="noStrike">
                <a:solidFill>
                  <a:srgbClr val="ffffc9"/>
                </a:solidFill>
                <a:latin typeface="Verdana"/>
              </a:rPr>
              <a:t>‘Ameno’</a:t>
            </a:r>
            <a:r>
              <a:rPr b="1" lang="pt-BR" sz="2400" spc="-1" strike="noStrike">
                <a:solidFill>
                  <a:srgbClr val="ffffc9"/>
                </a:solidFill>
                <a:latin typeface="Verdana"/>
              </a:rPr>
              <a:t> (amenizar, libertar), composta pelo grupo Er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9"/>
                </a:solidFill>
                <a:latin typeface="Verdana"/>
              </a:rPr>
              <a:t>A tradução da letra, do latim, está ao lado, e vale alguns instantes de reflexão, antes de prosseguir com a apresent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era"/>
          <p:cNvPicPr/>
          <p:nvPr/>
        </p:nvPicPr>
        <p:blipFill>
          <a:blip r:embed="rId1"/>
          <a:stretch/>
        </p:blipFill>
        <p:spPr>
          <a:xfrm>
            <a:off x="7020000" y="501336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916360" y="5373720"/>
            <a:ext cx="216036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66"/>
                </a:solidFill>
                <a:latin typeface="Tahoma"/>
              </a:rPr>
              <a:t>Ligar S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66"/>
                </a:solidFill>
                <a:latin typeface="Tahoma"/>
              </a:rPr>
              <a:t>Click para avanç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44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9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500040" y="3780000"/>
            <a:ext cx="39607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Comic Sans MS"/>
              </a:rPr>
              <a:t>E, certamente,                      há muito por faze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929120" y="500040"/>
            <a:ext cx="371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Comic Sans MS"/>
              </a:rPr>
              <a:t>O futuro dependerá do que agora fizer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11218"/>
          <p:cNvPicPr/>
          <p:nvPr/>
        </p:nvPicPr>
        <p:blipFill>
          <a:blip r:embed="rId1"/>
          <a:stretch/>
        </p:blipFill>
        <p:spPr>
          <a:xfrm>
            <a:off x="500040" y="428760"/>
            <a:ext cx="3311640" cy="281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255041"/>
          <p:cNvPicPr/>
          <p:nvPr/>
        </p:nvPicPr>
        <p:blipFill>
          <a:blip r:embed="rId2"/>
          <a:srcRect l="8315" t="11613" r="8315" b="11613"/>
          <a:stretch/>
        </p:blipFill>
        <p:spPr>
          <a:xfrm>
            <a:off x="5259240" y="3714840"/>
            <a:ext cx="3456000" cy="280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7120" y="1571760"/>
            <a:ext cx="842976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99"/>
                </a:solidFill>
                <a:latin typeface="Brush Script MT"/>
              </a:rPr>
              <a:t>Para todos vós, Votos de um Bom Dia ...e para eles..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99"/>
                </a:solidFill>
                <a:latin typeface="Brush Script MT"/>
              </a:rPr>
              <a:t>Votos de uma Vida mais Digna !!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1280" y="189000"/>
            <a:ext cx="35272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 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Interi mo, Adapar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Amen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Lantire, Lantire m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Omenare imperavi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Dimere, dimer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Mantiro, Mantire m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Omenare, imperavi emulari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Omenare, imperavi emulari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Ameno dor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 dori m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 dori me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Dom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, Re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 dori m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 dori me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, D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427640" y="189000"/>
            <a:ext cx="45370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inta minha dor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Absorve-me, Toma-me                 Sinta minha dor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Liberta-me, Liberta-me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Descubra-me 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, D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escubra meus sinais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inta minha dor </a:t>
            </a:r>
            <a:br>
              <a:rPr sz="1600"/>
            </a:b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uaviza (esta dor), 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Conforta-me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 Perceba, perceba                   Mutilaram-me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, 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Machucaram-me Liberta-me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1600"/>
            </a:b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uaviza (esta dor), 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Conforta-me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Liberta-me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uaviza (esta dor), 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Conforta-me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Liberta-me, Ameniza a dor      Ameniza minha dor                 Ameniza minha dor </a:t>
            </a:r>
            <a:br>
              <a:rPr sz="1600"/>
            </a:b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Liberta-me, Senhor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Alivia minha dor, Rei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               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Ameniza minha dor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Ameniza minha dor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Tira-me esta dor, Senh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  <p:sndAc>
      <p:stSnd>
        <p:snd r:embed="rId1" name="Era%20-%20Amen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28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3708360" y="333360"/>
            <a:ext cx="49690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ffff99"/>
                </a:solidFill>
                <a:latin typeface="Brush Script MT"/>
                <a:ea typeface="Times New Roman"/>
              </a:rPr>
              <a:t>Mundo Real tão    Virtual !!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395280" y="357120"/>
            <a:ext cx="835344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c9"/>
                </a:solidFill>
                <a:latin typeface="Comic Sans MS"/>
              </a:rPr>
              <a:t> </a:t>
            </a:r>
            <a:r>
              <a:rPr b="1" lang="pt-PT" sz="1800" spc="-1" strike="noStrike">
                <a:solidFill>
                  <a:srgbClr val="ffc000"/>
                </a:solidFill>
                <a:latin typeface="Comic Sans MS"/>
              </a:rPr>
              <a:t>VALE A PENA LER...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Entrei apressado e com muita fome no restaurant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Escolhi uma mesa bem afastada do movimento, porque queria aproveitar os poucos minutos que dispunha naquele dia, para comer e resolver alguns problemas de programação num sistema que estava a desenvolver, além de planear a minha viagem de férias, coisa que há tempos que não sei o que sã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Pedi um filete de salmão com alcaparras em manteiga, uma salada e um sumo de laranja, afinal de contas fome é fome, mas regime é regime não é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Abri o meu portátil e apanhei um susto com aquela voz baixinha atrás de mim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enhor, não tem umas moedinhas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Não tenho, menin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ó uma moedinha para comprar um pã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Está bem, eu compro u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Para variar, a minha caixa de entrada está cheia de e-mail’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Fico distraído a ver poesias, as formatações lindas, rindo com as piadas maluc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Ah! Essa música leva-me até Londres e às boas lembranças de tempos áure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enhor, peça para colocar margarina e queij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Percebi nessa altura que o menino tinha ficado al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Ok. Vou pedir, mas depois deixas-me trabalhar, estou muito ocupado, está bem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916360" y="2852640"/>
            <a:ext cx="3832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33440" y="357120"/>
            <a:ext cx="835344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c9"/>
                </a:solidFill>
                <a:latin typeface="Comic Sans MS"/>
              </a:rPr>
              <a:t> </a:t>
            </a: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Chega a minha refeição e com ela o meu mal-estar. Faço o pedido do menino, e o empregado pergunta-me se quero que mande o menino ir embor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O peso na consciência, impedem-me de o dize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Digo que está tudo bem. Deixe-o fica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Que traga o pão e, mais  uma refeição decente para el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Então sentou-se à minha frente e perguntou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enhor o que está fazer 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Estou a ler uns e-mail’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O que são e-mail’s 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ão mensagens electrónicas mandadas por pessoas via Internet (sabia que ele não ia  entender nada, mas, a título de livrar-me de questionários desses, acrescentei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É como se fosse uma carta, só que vem através da Interne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enhor você tem Internet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Tenho sim, é essencial no mundo de hoj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O que é Internet 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É um local no computador, onde podemos ver e ouvir muitas coisas, notícias, músicas, conhecer pessoas, ler, escrever, sonhar, trabalhar, aprender. Tem de tudo no mundo vir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E o que é virtual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Resolvo dar uma explicação simplificada, sabendo com certeza que ele pouco iria entender e deixar-me-ia almoçar, sem culp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Virtual é um local que imaginamos, algo que não podemos tocar, apanhar, pegar... é lá que criamos um monte de coisas que gostaríamos de faze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Criamos as nossas fantasias, transformamos o mundo em quase como queríamos que foss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916360" y="2852640"/>
            <a:ext cx="3832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95280" y="395280"/>
            <a:ext cx="835344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Que bom isso. Gostei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Menino, entendeste o significado da palavra virtual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im, também vivo nesse mundo vir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Tens computador ?!!! - exclamei eu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Não, mas o meu mundo também é vivido dessa maneira...dessa maneira vir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A minha mãe fica todo dia fora, chega muito tarde, quase não a vejo, enquanto eu fico a cuidar do meu irmão pequeno que vive a chorar de fome e eu dou-lhe água para ele pensar que é sopa, a minha irmã mais velha sai todo dia também, diz que vai vender o corpo, mas não entendo, porque ela volta sempre com o corpo, o meu pai está na cadeia há muito tempo, mas imagino sempre a nossa família toda junta em casa, muita comida, muitos brinquedos de natal e eu a estudar na escola para vir um dia a ser médic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Isto é virtual não é senhor??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Fechei o portátil mas não fui a tempo de </a:t>
            </a: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impedir </a:t>
            </a: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que umas lágrimas caíssem sobre o teclad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Esperei que o menino acabasse de literalmente "devorar" o prato dele, paguei, e dei-lhe o troco, que me retribuiu com um dos mais belos e sinceros sorrisos que já recebi na vida e com um..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c9"/>
                </a:solidFill>
                <a:latin typeface="Comic Sans MS"/>
              </a:rPr>
              <a:t>"Brigado senhor, você é muito simpático!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Comic Sans MS"/>
              </a:rPr>
              <a:t>Ali, naquele instante, tive a maior prova do virtualismo insensato em que vivemos todos os dias, enquanto a realidade cruel nos rodeia de verdade e fazemos de conta que não percebemos!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68360" y="28584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Agora, tens duas escolhas...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24000" y="5013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1. Enviar esta mensagem aos teus amigos </a:t>
            </a: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	</a:t>
            </a: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	</a:t>
            </a: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         ou                            2. Apagá-la, ficando indifer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95280" y="3492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b953"/>
                </a:solidFill>
                <a:latin typeface="Comic Sans MS"/>
              </a:rPr>
              <a:t>Eu fiz a minha escolha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3:23:54Z</dcterms:created>
  <dc:creator>um_peregrino@hotmail.com</dc:creator>
  <dc:description/>
  <dc:language>en-US</dc:language>
  <cp:lastModifiedBy>Pereira Anjos</cp:lastModifiedBy>
  <dcterms:modified xsi:type="dcterms:W3CDTF">2008-03-14T18:40:14Z</dcterms:modified>
  <cp:revision>108</cp:revision>
  <dc:subject/>
  <dc:title>Diapositivo 1</dc:title>
</cp:coreProperties>
</file>