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Era%20-%20Ameno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ADEB-AE18-4B5A-A900-6623CEB9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77BA-93F7-4489-B137-3450ABC0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1E59-6BFF-490B-9FEE-64A2058C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79D8-048B-4702-8520-825F0C78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DA5FE-D3E3-464E-9C93-52A7D45F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93F25-D731-42E9-A982-48FA8AC8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E8C4C-4D89-4C52-8EA5-319D6289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08477-2984-49B4-8D1C-907BA1F1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B7EDA-B457-4C2F-ACE9-D3BF81DC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38752-0AA6-447D-9494-CA3CA5A3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E9B93-B8D2-460A-A72C-F63C3EF0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B742-4A1C-4916-AE68-EBEF18DB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7569E-3E6C-4303-BAF9-EE4E1EB3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FFAC0-B10B-42A8-AA64-61175483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D837B-34E3-48F9-AEF3-4F6825C4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15B86-967D-4B26-984B-D6CB446B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79429-906F-43FB-93DB-17306772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2362-FB12-4C73-B9FA-E9667F82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158F-3DA9-4FF4-B98B-04D6CBC4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E6D4-7879-45CF-8D32-1BE12FB4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8EA8-B9AC-472B-85A1-261C6CB5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236E-D6B0-486E-92AC-24E1C7B1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456F-3DCF-4F48-A0E2-44D87511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0DA8-B205-45E7-8752-BC3BB064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271C-11C2-4604-B196-BAD690031FCA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0256-4DE3-4BA6-81A0-4E8AF8A4BB46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ra%20-%20Ameno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468360" y="836640"/>
            <a:ext cx="75326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9"/>
                </a:solidFill>
                <a:latin typeface="Verdana"/>
              </a:rPr>
              <a:t>Uma breve nota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9"/>
                </a:solidFill>
                <a:latin typeface="Verdana"/>
              </a:rPr>
              <a:t>A música desta apresentação chama-se </a:t>
            </a:r>
            <a:r>
              <a:rPr b="1" i="1" lang="pt-BR" sz="2400" spc="-1" strike="noStrike">
                <a:solidFill>
                  <a:srgbClr val="ffffc9"/>
                </a:solidFill>
                <a:latin typeface="Verdana"/>
              </a:rPr>
              <a:t>‘Ameno’</a:t>
            </a:r>
            <a:r>
              <a:rPr b="1" lang="pt-BR" sz="2400" spc="-1" strike="noStrike">
                <a:solidFill>
                  <a:srgbClr val="ffffc9"/>
                </a:solidFill>
                <a:latin typeface="Verdana"/>
              </a:rPr>
              <a:t> (amenizar, libertar), composta pelo grupo Er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9"/>
                </a:solidFill>
                <a:latin typeface="Verdana"/>
              </a:rPr>
              <a:t>A tradução da letra, do latim, está ao lado, e vale alguns instantes de reflexão, antes de prosseguir com a apresentaçã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6" descr="era"/>
          <p:cNvPicPr/>
          <p:nvPr/>
        </p:nvPicPr>
        <p:blipFill>
          <a:blip r:embed="rId1"/>
          <a:stretch/>
        </p:blipFill>
        <p:spPr>
          <a:xfrm>
            <a:off x="7020000" y="5013360"/>
            <a:ext cx="1546200" cy="1546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2916360" y="5373720"/>
            <a:ext cx="216036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66"/>
                </a:solidFill>
                <a:latin typeface="Tahoma"/>
              </a:rPr>
              <a:t>Ligar S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66"/>
                </a:solidFill>
                <a:latin typeface="Tahoma"/>
              </a:rPr>
              <a:t>Click para avanç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44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490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"/>
          <p:cNvSpPr/>
          <p:nvPr/>
        </p:nvSpPr>
        <p:spPr>
          <a:xfrm>
            <a:off x="500040" y="3780000"/>
            <a:ext cx="396072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99"/>
                </a:solidFill>
                <a:latin typeface="Comic Sans MS"/>
              </a:rPr>
              <a:t>E, certamente,                      há muito por fazer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929120" y="500040"/>
            <a:ext cx="3714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99"/>
                </a:solidFill>
                <a:latin typeface="Comic Sans MS"/>
              </a:rPr>
              <a:t>O futuro dependerá do que agora fizerm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7" descr="11218"/>
          <p:cNvPicPr/>
          <p:nvPr/>
        </p:nvPicPr>
        <p:blipFill>
          <a:blip r:embed="rId1"/>
          <a:stretch/>
        </p:blipFill>
        <p:spPr>
          <a:xfrm>
            <a:off x="500040" y="428760"/>
            <a:ext cx="3311640" cy="2817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255041"/>
          <p:cNvPicPr/>
          <p:nvPr/>
        </p:nvPicPr>
        <p:blipFill>
          <a:blip r:embed="rId2"/>
          <a:srcRect l="8315" t="11613" r="8315" b="11613"/>
          <a:stretch/>
        </p:blipFill>
        <p:spPr>
          <a:xfrm>
            <a:off x="5259240" y="3714840"/>
            <a:ext cx="3456000" cy="2801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7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7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57120" y="1571760"/>
            <a:ext cx="842976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99"/>
                </a:solidFill>
                <a:latin typeface="Brush Script MT"/>
              </a:rPr>
              <a:t>Para todos vós, Votos de um Bom Dia ...e para eles..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99"/>
                </a:solidFill>
                <a:latin typeface="Brush Script MT"/>
              </a:rPr>
              <a:t>Votos de uma Vida mais Digna !!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611280" y="189000"/>
            <a:ext cx="352728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Dori me </a:t>
            </a: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Interi mo, Adapare</a:t>
            </a: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Dori me</a:t>
            </a: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Ameno, Ameno</a:t>
            </a: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Lantire, Lantire mo</a:t>
            </a: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Dori me</a:t>
            </a:r>
            <a:br>
              <a:rPr sz="1600"/>
            </a:b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Ameno, Omenare imperavi</a:t>
            </a: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Ameno, Dimere, dimere</a:t>
            </a: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Mantiro, Mantire mo</a:t>
            </a: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Ameno</a:t>
            </a:r>
            <a:br>
              <a:rPr sz="1600"/>
            </a:b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Omenare, imperavi emulari</a:t>
            </a: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Ameno</a:t>
            </a: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Omenare, imperavi emulari</a:t>
            </a:r>
            <a:br>
              <a:rPr sz="1600"/>
            </a:b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Ameno, Ameno dore</a:t>
            </a: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Ameno dori me</a:t>
            </a: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Ameno dori me</a:t>
            </a:r>
            <a:br>
              <a:rPr sz="1600"/>
            </a:b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Ameno, Dom</a:t>
            </a: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Dori me, Reo</a:t>
            </a: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Ameno dori me</a:t>
            </a: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Ameno dori me</a:t>
            </a:r>
            <a:br>
              <a:rPr sz="1600"/>
            </a:br>
            <a:br>
              <a:rPr sz="1600"/>
            </a:br>
            <a:r>
              <a:rPr b="1" i="1" lang="it-IT" sz="1600" spc="-1" strike="noStrike">
                <a:solidFill>
                  <a:srgbClr val="000000"/>
                </a:solidFill>
                <a:latin typeface="Verdana"/>
              </a:rPr>
              <a:t>Dori me, D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427640" y="189000"/>
            <a:ext cx="453708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Sinta minha dor </a:t>
            </a:r>
            <a:br>
              <a:rPr sz="1600"/>
            </a:b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Absorve-me, Toma-me                 Sinta minha dor </a:t>
            </a:r>
            <a:br>
              <a:rPr sz="1600"/>
            </a:b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Liberta-me, Liberta-me </a:t>
            </a:r>
            <a:br>
              <a:rPr sz="1600"/>
            </a:b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Descubra-me </a:t>
            </a:r>
            <a:r>
              <a:rPr b="1" i="1" lang="it-IT" sz="1600" spc="-1" strike="noStrike">
                <a:solidFill>
                  <a:srgbClr val="ffff99"/>
                </a:solidFill>
                <a:latin typeface="Verdana"/>
              </a:rPr>
              <a:t>, D</a:t>
            </a: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escubra meus sinais </a:t>
            </a:r>
            <a:br>
              <a:rPr sz="1600"/>
            </a:b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Sinta minha dor </a:t>
            </a:r>
            <a:br>
              <a:rPr sz="1600"/>
            </a:br>
            <a:br>
              <a:rPr sz="1600"/>
            </a:b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Suaviza (esta dor), </a:t>
            </a:r>
            <a:r>
              <a:rPr b="1" i="1" lang="it-IT" sz="1600" spc="-1" strike="noStrike">
                <a:solidFill>
                  <a:srgbClr val="ffff99"/>
                </a:solidFill>
                <a:latin typeface="Verdana"/>
              </a:rPr>
              <a:t>Conforta-me</a:t>
            </a: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 Perceba, perceba                   Mutilaram-me</a:t>
            </a:r>
            <a:r>
              <a:rPr b="1" i="1" lang="it-IT" sz="1600" spc="-1" strike="noStrike">
                <a:solidFill>
                  <a:srgbClr val="ffff99"/>
                </a:solidFill>
                <a:latin typeface="Verdana"/>
              </a:rPr>
              <a:t>, </a:t>
            </a: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Machucaram-me Liberta-me</a:t>
            </a:r>
            <a:r>
              <a:rPr b="1" i="1" lang="it-IT" sz="1600" spc="-1" strike="noStrike">
                <a:solidFill>
                  <a:srgbClr val="ffff99"/>
                </a:solidFill>
                <a:latin typeface="Verdana"/>
              </a:rPr>
              <a:t> </a:t>
            </a:r>
            <a:br>
              <a:rPr sz="1600"/>
            </a:br>
            <a:br>
              <a:rPr sz="1600"/>
            </a:b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Suaviza (esta dor), </a:t>
            </a:r>
            <a:r>
              <a:rPr b="1" i="1" lang="it-IT" sz="1600" spc="-1" strike="noStrike">
                <a:solidFill>
                  <a:srgbClr val="ffff99"/>
                </a:solidFill>
                <a:latin typeface="Verdana"/>
              </a:rPr>
              <a:t>Conforta-me</a:t>
            </a: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 </a:t>
            </a:r>
            <a:br>
              <a:rPr sz="1600"/>
            </a:b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Liberta-me</a:t>
            </a:r>
            <a:r>
              <a:rPr b="1" i="1" lang="it-IT" sz="1600" spc="-1" strike="noStrike">
                <a:solidFill>
                  <a:srgbClr val="ffff99"/>
                </a:solidFill>
                <a:latin typeface="Verdana"/>
              </a:rPr>
              <a:t> </a:t>
            </a:r>
            <a:br>
              <a:rPr sz="1600"/>
            </a:b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Suaviza (esta dor), </a:t>
            </a:r>
            <a:r>
              <a:rPr b="1" i="1" lang="it-IT" sz="1600" spc="-1" strike="noStrike">
                <a:solidFill>
                  <a:srgbClr val="ffff99"/>
                </a:solidFill>
                <a:latin typeface="Verdana"/>
              </a:rPr>
              <a:t>Conforta-me</a:t>
            </a: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Liberta-me, Ameniza a dor      Ameniza minha dor                 Ameniza minha dor </a:t>
            </a:r>
            <a:br>
              <a:rPr sz="1600"/>
            </a:br>
            <a:br>
              <a:rPr sz="1600"/>
            </a:b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Liberta-me, Senhor</a:t>
            </a:r>
            <a:r>
              <a:rPr b="1" i="1" lang="it-IT" sz="1600" spc="-1" strike="noStrike">
                <a:solidFill>
                  <a:srgbClr val="ffff99"/>
                </a:solidFill>
                <a:latin typeface="Verdana"/>
              </a:rPr>
              <a:t>                      </a:t>
            </a: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Alivia minha dor, Rei</a:t>
            </a:r>
            <a:r>
              <a:rPr b="1" i="1" lang="it-IT" sz="1600" spc="-1" strike="noStrike">
                <a:solidFill>
                  <a:srgbClr val="ffff99"/>
                </a:solidFill>
                <a:latin typeface="Verdana"/>
              </a:rPr>
              <a:t>               </a:t>
            </a: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Ameniza minha dor </a:t>
            </a:r>
            <a:br>
              <a:rPr sz="1600"/>
            </a:b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Ameniza minha dor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99"/>
                </a:solidFill>
                <a:latin typeface="Verdana"/>
              </a:rPr>
              <a:t>Tira-me esta dor, Senh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  <p:sndAc>
      <p:stSnd>
        <p:snd r:embed="rId1" name="Era%20-%20Ameno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028" descr="324991"/>
          <p:cNvPicPr/>
          <p:nvPr/>
        </p:nvPicPr>
        <p:blipFill>
          <a:blip r:embed="rId1"/>
          <a:srcRect l="5291" t="7602" r="5291" b="7602"/>
          <a:stretch/>
        </p:blipFill>
        <p:spPr>
          <a:xfrm>
            <a:off x="250920" y="260280"/>
            <a:ext cx="8642160" cy="63691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"/>
          <p:cNvSpPr/>
          <p:nvPr/>
        </p:nvSpPr>
        <p:spPr>
          <a:xfrm>
            <a:off x="3708360" y="333360"/>
            <a:ext cx="49690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800" spc="-1" strike="noStrike">
                <a:solidFill>
                  <a:srgbClr val="ffff99"/>
                </a:solidFill>
                <a:latin typeface="Brush Script MT"/>
                <a:ea typeface="Times New Roman"/>
              </a:rPr>
              <a:t>Mundo Real tão    Virtual !!!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324991"/>
          <p:cNvPicPr/>
          <p:nvPr/>
        </p:nvPicPr>
        <p:blipFill>
          <a:blip r:embed="rId1"/>
          <a:srcRect l="5291" t="7602" r="5291" b="7602"/>
          <a:stretch/>
        </p:blipFill>
        <p:spPr>
          <a:xfrm>
            <a:off x="250920" y="260280"/>
            <a:ext cx="8642160" cy="6369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"/>
          <p:cNvSpPr/>
          <p:nvPr/>
        </p:nvSpPr>
        <p:spPr>
          <a:xfrm>
            <a:off x="395280" y="357120"/>
            <a:ext cx="8353440" cy="61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c9"/>
                </a:solidFill>
                <a:latin typeface="Comic Sans MS"/>
              </a:rPr>
              <a:t> </a:t>
            </a:r>
            <a:r>
              <a:rPr b="1" lang="pt-PT" sz="1800" spc="-1" strike="noStrike">
                <a:solidFill>
                  <a:srgbClr val="ffc000"/>
                </a:solidFill>
                <a:latin typeface="Comic Sans MS"/>
              </a:rPr>
              <a:t>VALE A PENA LER...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Entrei apressado e com muita fome no restaurant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Escolhi uma mesa bem afastada do movimento, porque queria aproveitar os poucos minutos que dispunha naquele dia, para comer e resolver alguns problemas de programação num sistema que estava a desenvolver, além de planear a minha viagem de férias, coisa que há tempos que não sei o que sã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Pedi um filete de salmão com alcaparras em manteiga, uma salada e um sumo de laranja, afinal de contas fome é fome, mas regime é regime não é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Abri o meu portátil e apanhei um susto com aquela voz baixinha atrás de mim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Senhor, não tem umas moedinhas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Não tenho, menin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Só uma moedinha para comprar um pã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Está bem, eu compro um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Para variar, a minha caixa de entrada está cheia de e-mail’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Fico distraído a ver poesias, as formatações lindas, rindo com as piadas maluca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Ah! Essa música leva-me até Londres e às boas lembranças de tempos áureo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Senhor, peça para colocar margarina e queij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Percebi nessa altura que o menino tinha ficado ali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Ok. Vou pedir, mas depois deixas-me trabalhar, estou muito ocupado, está bem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324991"/>
          <p:cNvPicPr/>
          <p:nvPr/>
        </p:nvPicPr>
        <p:blipFill>
          <a:blip r:embed="rId1"/>
          <a:srcRect l="5291" t="7602" r="5291" b="7602"/>
          <a:stretch/>
        </p:blipFill>
        <p:spPr>
          <a:xfrm>
            <a:off x="250920" y="260280"/>
            <a:ext cx="8642160" cy="63691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916360" y="2852640"/>
            <a:ext cx="3832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33440" y="357120"/>
            <a:ext cx="8353440" cy="63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c9"/>
                </a:solidFill>
                <a:latin typeface="Comic Sans MS"/>
              </a:rPr>
              <a:t> </a:t>
            </a: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Chega a minha refeição e com ela o meu mal-estar. Faço o pedido do menino, e o empregado pergunta-me se quero que mande o menino ir embor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O peso na consciência, impedem-me de o dizer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Digo que está tudo bem. Deixe-o ficar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Que traga o pão e, mais  uma refeição decente para el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Então sentou-se à minha frente e perguntou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Senhor o que está fazer 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Estou a ler uns e-mail’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O que são e-mail’s 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São mensagens electrónicas mandadas por pessoas via Internet (sabia que ele não ia  entender nada, mas, a título de livrar-me de questionários desses, acrescentei)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É como se fosse uma carta, só que vem através da Interne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Senhor você tem Internet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Tenho sim, é essencial no mundo de hoj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O que é Internet 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É um local no computador, onde podemos ver e ouvir muitas coisas, notícias, músicas, conhecer pessoas, ler, escrever, sonhar, trabalhar, aprender. Tem de tudo no mundo virtual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E o que é virtual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Resolvo dar uma explicação simplificada, sabendo com certeza que ele pouco iria entender e deixar-me-ia almoçar, sem culpa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Virtual é um local que imaginamos, algo que não podemos tocar, apanhar, pegar... é lá que criamos um monte de coisas que gostaríamos de fazer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Criamos as nossas fantasias, transformamos o mundo em quase como queríamos que foss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324991"/>
          <p:cNvPicPr/>
          <p:nvPr/>
        </p:nvPicPr>
        <p:blipFill>
          <a:blip r:embed="rId1"/>
          <a:srcRect l="5291" t="7602" r="5291" b="7602"/>
          <a:stretch/>
        </p:blipFill>
        <p:spPr>
          <a:xfrm>
            <a:off x="250920" y="260280"/>
            <a:ext cx="8642160" cy="63691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2916360" y="2852640"/>
            <a:ext cx="3832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395280" y="395280"/>
            <a:ext cx="8353440" cy="61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Que bom isso. Gostei!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Menino, entendeste o significado da palavra virtual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Sim, também vivo nesse mundo virtual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Tens computador ?!!! - exclamei eu..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- Não, mas o meu mundo também é vivido dessa maneira...dessa maneira virtual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A minha mãe fica todo dia fora, chega muito tarde, quase não a vejo, enquanto eu fico a cuidar do meu irmão pequeno que vive a chorar de fome e eu dou-lhe água para ele pensar que é sopa, a minha irmã mais velha sai todo dia também, diz que vai vender o corpo, mas não entendo, porque ela volta sempre com o corpo, o meu pai está na cadeia há muito tempo, mas imagino sempre a nossa família toda junta em casa, muita comida, muitos brinquedos de natal e eu a estudar na escola para vir um dia a ser médic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Isto é virtual não é senhor??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Fechei o portátil mas não fui a tempo de </a:t>
            </a: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impedir </a:t>
            </a: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que umas lágrimas caíssem sobre o teclad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c9"/>
                </a:solidFill>
                <a:latin typeface="Comic Sans MS"/>
              </a:rPr>
              <a:t>Esperei que o menino acabasse de literalmente "devorar" o prato dele, paguei, e dei-lhe o troco, que me retribuiu com um dos mais belos e sinceros sorrisos que já recebi na vida e com um..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c9"/>
                </a:solidFill>
                <a:latin typeface="Comic Sans MS"/>
              </a:rPr>
              <a:t>"Brigado senhor, você é muito simpático!"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00"/>
                </a:solidFill>
                <a:latin typeface="Comic Sans MS"/>
              </a:rPr>
              <a:t>Ali, naquele instante, tive a maior prova do virtualismo insensato em que vivemos todos os dias, enquanto a realidade cruel nos rodeia de verdade e fazemos de conta que não percebemos!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324991"/>
          <p:cNvPicPr/>
          <p:nvPr/>
        </p:nvPicPr>
        <p:blipFill>
          <a:blip r:embed="rId1"/>
          <a:srcRect l="5291" t="7602" r="5291" b="7602"/>
          <a:stretch/>
        </p:blipFill>
        <p:spPr>
          <a:xfrm>
            <a:off x="250920" y="260280"/>
            <a:ext cx="8642160" cy="63691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468360" y="285840"/>
            <a:ext cx="59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c9"/>
                </a:solidFill>
                <a:latin typeface="Comic Sans MS"/>
              </a:rPr>
              <a:t>Agora, tens duas escolhas...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324991"/>
          <p:cNvPicPr/>
          <p:nvPr/>
        </p:nvPicPr>
        <p:blipFill>
          <a:blip r:embed="rId1"/>
          <a:srcRect l="5291" t="7602" r="5291" b="7602"/>
          <a:stretch/>
        </p:blipFill>
        <p:spPr>
          <a:xfrm>
            <a:off x="250920" y="260280"/>
            <a:ext cx="8642160" cy="636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324000" y="501336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c9"/>
                </a:solidFill>
                <a:latin typeface="Comic Sans MS"/>
              </a:rPr>
              <a:t>1. Enviar esta mensagem aos teus amigos </a:t>
            </a:r>
            <a:r>
              <a:rPr b="1" lang="pt-PT" sz="3200" spc="-1" strike="noStrike">
                <a:solidFill>
                  <a:srgbClr val="ffffc9"/>
                </a:solidFill>
                <a:latin typeface="Comic Sans MS"/>
              </a:rPr>
              <a:t>	</a:t>
            </a:r>
            <a:r>
              <a:rPr b="1" lang="pt-PT" sz="3200" spc="-1" strike="noStrike">
                <a:solidFill>
                  <a:srgbClr val="ffffc9"/>
                </a:solidFill>
                <a:latin typeface="Comic Sans MS"/>
              </a:rPr>
              <a:t>	</a:t>
            </a:r>
            <a:r>
              <a:rPr b="1" lang="pt-PT" sz="3200" spc="-1" strike="noStrike">
                <a:solidFill>
                  <a:srgbClr val="ffffc9"/>
                </a:solidFill>
                <a:latin typeface="Comic Sans MS"/>
              </a:rPr>
              <a:t>         ou                            2. Apagá-la, ficando indifer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324991"/>
          <p:cNvPicPr/>
          <p:nvPr/>
        </p:nvPicPr>
        <p:blipFill>
          <a:blip r:embed="rId1"/>
          <a:srcRect l="5291" t="7602" r="5291" b="7602"/>
          <a:stretch/>
        </p:blipFill>
        <p:spPr>
          <a:xfrm>
            <a:off x="250920" y="260280"/>
            <a:ext cx="8642160" cy="6369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395280" y="34920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b953"/>
                </a:solidFill>
                <a:latin typeface="Comic Sans MS"/>
              </a:rPr>
              <a:t>Eu fiz a minha escolha 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23:23:54Z</dcterms:created>
  <dc:creator>um_peregrino@hotmail.com</dc:creator>
  <dc:description/>
  <dc:language>en-US</dc:language>
  <cp:lastModifiedBy>Pereira Anjos</cp:lastModifiedBy>
  <dcterms:modified xsi:type="dcterms:W3CDTF">2008-03-14T18:40:14Z</dcterms:modified>
  <cp:revision>108</cp:revision>
  <dc:subject/>
  <dc:title>Diapositivo 1</dc:title>
</cp:coreProperties>
</file>