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B16-2CDE-4B7C-9705-56664A03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468-D263-4A6F-9CEB-A5585AD6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411-D400-4927-BD59-FFC372E5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537-167E-439B-ADFD-1467A840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6BC-689A-4384-9247-E5DDAB7F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C8E-E24F-4B36-8B81-6185F2EC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526-EEB4-4F53-901A-45C2ED94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E77-1D56-4F37-82C9-D9FCEA4A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92F-07C4-4A04-A58B-834B0A4A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2CA-A7B4-47C4-9F63-7167B54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F03-200A-4F88-8EB9-A253201B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273-CF04-4808-9F5D-A58A5F4E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B913-FB2D-4EDC-BF59-C8F9E9AB936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9520" y="262080"/>
            <a:ext cx="8724960" cy="63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333360"/>
            <a:ext cx="72072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04000" y="1916280"/>
            <a:ext cx="2340000" cy="21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2924280"/>
            <a:ext cx="309744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35280" y="1557000"/>
            <a:ext cx="72072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3800" y="2347920"/>
            <a:ext cx="13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2349360"/>
            <a:ext cx="122400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" y="231840"/>
            <a:ext cx="863748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2600" y="284040"/>
            <a:ext cx="8578800" cy="629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48360" y="3068640"/>
            <a:ext cx="1871640" cy="309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2133720"/>
            <a:ext cx="792360" cy="57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80360" y="364500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7880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4508640"/>
            <a:ext cx="187164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933720"/>
            <a:ext cx="3744720" cy="230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9120" y="281160"/>
            <a:ext cx="864576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872028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87280"/>
            <a:ext cx="87868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8:50:04Z</dcterms:created>
  <dc:creator>Braskem</dc:creator>
  <dc:description/>
  <dc:language>en-US</dc:language>
  <cp:lastModifiedBy>u</cp:lastModifiedBy>
  <dcterms:modified xsi:type="dcterms:W3CDTF">2009-08-13T19:35:10Z</dcterms:modified>
  <cp:revision>2</cp:revision>
  <dc:subject/>
  <dc:title>Slide 1</dc:title>
</cp:coreProperties>
</file>