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387-60D2-4BE0-A5A4-8A12BBA3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1B5-42B6-4972-B0EB-0BFD9F74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4C1-0D69-4D3E-8DAC-380A07AE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261-3224-4E48-9551-EB0F70A5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072-4A16-4847-9003-F74E3F9B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3FE-4DE3-4C91-AC6B-C590C646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44D-6401-4B78-99B6-0C59E00E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9A5-7E44-497A-80AF-09DFF93A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095-3138-4402-9442-0BAB5522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BFD-34C0-4DFF-A1A8-548955C7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D39-F98A-4C76-A7CA-11983F5A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D59-8EC8-4267-A416-09EEFB1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777B-7113-497A-81D3-86DAB81481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9520" y="262080"/>
            <a:ext cx="872496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333360"/>
            <a:ext cx="72072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04000" y="1916280"/>
            <a:ext cx="2340000" cy="21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2924280"/>
            <a:ext cx="309744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35280" y="1557000"/>
            <a:ext cx="72072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3800" y="2347920"/>
            <a:ext cx="13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2349360"/>
            <a:ext cx="122400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231840"/>
            <a:ext cx="863748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2600" y="284040"/>
            <a:ext cx="8578800" cy="629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48360" y="3068640"/>
            <a:ext cx="1871640" cy="309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2133720"/>
            <a:ext cx="792360" cy="57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80360" y="364500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7880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4508640"/>
            <a:ext cx="187164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933720"/>
            <a:ext cx="3744720" cy="230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9120" y="281160"/>
            <a:ext cx="864576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872028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87280"/>
            <a:ext cx="87868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8:50:04Z</dcterms:created>
  <dc:creator>Braskem</dc:creator>
  <dc:description/>
  <dc:language>en-US</dc:language>
  <cp:lastModifiedBy>u</cp:lastModifiedBy>
  <dcterms:modified xsi:type="dcterms:W3CDTF">2009-08-13T19:35:10Z</dcterms:modified>
  <cp:revision>2</cp:revision>
  <dc:subject/>
  <dc:title>Slide 1</dc:title>
</cp:coreProperties>
</file>