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0E6-4353-4F68-B71A-A8D32FAA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F08-8F47-4F12-8E37-9B71C097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4610F-7164-4DE6-BA07-F5E9381A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41A9F-9695-4FF4-A1CF-28BB138F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0D9C0-254A-41B8-9B80-7E53F63F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DA27C-7455-4C48-BDA5-030C4568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74145-F494-475A-BD19-73EF12BE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E2E2D-2E2C-4E93-9B28-732319B6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9DB1C-A4E3-42DC-859C-850EF102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2C8F8-52BA-4E34-8C22-E6B870D7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7B462-BC3E-4B6B-9CEB-9A8DEA1A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40A-BD84-4245-94C7-25AAE2AF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6574-2D73-4AF3-B4FE-CBD6C9B3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4EB9-2DE2-4D73-9438-D01F77D4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6CC2-9599-4683-8805-1AC19285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44D9-8096-4B69-9350-06FFBF4B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492A-97E4-465E-97F2-57587D58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BBFC-FE24-45C0-A187-02AF0A2E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842F-8E96-4C33-9759-1A937F00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427E-FEE0-485A-B281-E35F4A8F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1B5-8CCE-4973-A67D-FC3E2A1A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6F70-E05E-43C7-93A4-B5738EB6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A570-87FA-42E5-B8EB-12605090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A2FE-1DFA-4FEB-8172-8D5ECE3F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D28C-2829-4385-8571-12F813A1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881A-6B9E-4B4A-A379-BCF5BCFA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36B17-5452-418F-B756-5DCC656D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C7C4-FFB4-46C0-B471-651C76A4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651DD-62ED-4D23-BD2D-DACDA875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72442-50BC-4A21-96C1-9EF407BB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AF74D-D911-48E8-99EB-D0FB35D8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2C5-99D0-4AD8-9973-BB4FB738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F055F-3878-4FD1-ACF0-75B7E3D7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B149F-260C-425C-AFE5-A2EA8DED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2CB97-B730-4E44-A301-7E760568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98384-0E2F-4F63-A5C7-3363CFB4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031F2-9C83-4718-9D6F-E7EC4CF7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C1315-5F77-42CF-B43E-C953F9DE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C185E-67C7-49B0-ACD4-A16F2306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68EC5-6641-4B71-9160-D6F65725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92E58-A1F6-4A20-A207-09A37C44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D9338-68C3-490F-801B-8C808F43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48C-83FD-435F-ABE4-C2F21D62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1E8EF-FC4F-4278-9198-A9BB97D7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6508E-C3E0-4D01-BA71-6F55B00E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3CBC6-0B98-4310-955E-7AE3EFD5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07480-0BFC-4278-92A7-D088131A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61F7A-A338-4982-BC36-6F6E9159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60704-0EFC-4121-81FA-5C6681B2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35897-FAE7-4441-92A0-47B72954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9EB7E-AF39-47F9-B569-249D29A4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56E25-823F-40A7-8017-1534666E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2EFC6-CC76-4811-B348-780DD455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9F9-CD6F-4150-918A-E4418F74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F0E55-5B4D-4665-B1FC-60CFDD19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9F942-9206-4C59-96CA-9D1E965B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3439F-7617-4C31-AB38-0978B3E8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A6BAD-1259-4C90-91D3-3BC8718A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5D6DA-BCF3-4C84-8DC9-6451853E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B6F5C-5055-488C-820F-80B46CFE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FD190-2EA5-48FC-9D37-9FB418E5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135BD-9DC2-4BC4-B73A-45C27E63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C94E1-3736-400F-BC9A-C3150A73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B56FE-0847-4B51-B7D8-767789B0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EFA-6350-49EC-BE4B-F913D36D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54CE4-F502-4B59-82D1-99401102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60407-4E6F-4CC4-8210-33BECA22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44713-C4AA-403C-946D-9B4497EC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B8E58-F208-47D7-94B6-BECFFB7C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2A394-FDDD-4771-8842-D6D292FD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181F4-121A-40B4-A38A-67C23B1F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5A9E9-D28A-4DA4-84FB-CF3ABAEA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CA15B-3FD3-46C5-9910-B182BF6C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51413-99AB-4830-BCE4-85484E0B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5EDF2-EAF7-4A38-9D68-7BCAD802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154-74FD-4BEE-9C5D-B33EC197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8C4B5-375F-42DB-B858-D12DC729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FE020-CB43-493D-8DAD-3C23202B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B7DEC-DF65-4031-B9BF-2779CF84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21D20-1899-4CE7-836D-1FA18669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8E731-FA8A-430C-BBA8-335FFC13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9F341-C17E-4488-9E71-D90BC0EE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92BEF-769E-454C-898B-C7D2BE7B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E11B3-1AE4-40A1-89DC-C843874C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46D43-3D36-4960-8A15-D0A71BDF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2BFBA-3B42-4ABE-B81A-795A007D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07E-51EE-4DDA-8762-A35F22C5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CF82B-95F0-435C-977A-0754D867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4E0A6-1814-49DF-9115-292E6514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5465F-B092-45D4-B8EE-4AAD61D5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24876-C692-4842-B556-04E0252F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79B53-9F7F-4475-BDB6-6E177A6F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89232-7181-4555-9779-CA832010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80C26-451A-4050-A591-B3FAD800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87E86-0D19-471F-9AB0-9A77BED3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98364-867F-4B7E-86DC-3BCBAA74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3EB9D-E6F4-4D4C-A124-ABEA055D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C6A-4267-4077-8E9B-6A4E1137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B1EB9-7440-4AC2-BD7D-4487626B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766E3-B54F-4A9B-8009-F68BB9E3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E1E88-32D7-4EDD-91C1-36081505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1A72C-CF4A-4EF4-A2F2-1DF56CB0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36E25-369D-4925-A637-00869826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71187-8034-4D96-92F7-0D9EB1BA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60BFB-A0D7-4358-BFC2-3F5CEC52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3F066-A074-44C6-B8FD-86B87A8E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33D4E-4734-422D-99C2-A2272015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3736A-CC0D-4C06-9FB8-DB8E623A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ABE5-F7A3-42E6-A625-AD08A4A208A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F181-B434-4193-A9AC-8E4D59DC395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CB77-F983-4ED6-B3F6-61E56BEF60A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19FD-EA58-4EE8-AF79-C78A38340AC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E1A0-E96C-4A76-89DC-F0E0523436C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A8A8-DA10-45FD-8823-04ECE446E8B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75AE-DDB7-4872-A0F5-FAF5C7F4E45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BF01-583A-494C-9343-CDC9DDB1747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A960-D43E-4A2F-AEC9-04D7D0BEB4D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8" name="Content Placeholder 3" descr="kodak9.jpg"/>
          <p:cNvPicPr/>
          <p:nvPr/>
        </p:nvPicPr>
        <p:blipFill>
          <a:blip r:embed="rId1"/>
          <a:stretch/>
        </p:blipFill>
        <p:spPr>
          <a:xfrm>
            <a:off x="1600200" y="2209680"/>
            <a:ext cx="5942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0" name="Content Placeholder 3" descr="kodak10.jpg"/>
          <p:cNvPicPr/>
          <p:nvPr/>
        </p:nvPicPr>
        <p:blipFill>
          <a:blip r:embed="rId1"/>
          <a:stretch/>
        </p:blipFill>
        <p:spPr>
          <a:xfrm>
            <a:off x="2362320" y="2368440"/>
            <a:ext cx="45720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2" name="Content Placeholder 3" descr="kodak11.jpg"/>
          <p:cNvPicPr/>
          <p:nvPr/>
        </p:nvPicPr>
        <p:blipFill>
          <a:blip r:embed="rId1"/>
          <a:stretch/>
        </p:blipFill>
        <p:spPr>
          <a:xfrm>
            <a:off x="1844640" y="1554120"/>
            <a:ext cx="5607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4" name="Content Placeholder 3" descr="kodak12.jpg"/>
          <p:cNvPicPr/>
          <p:nvPr/>
        </p:nvPicPr>
        <p:blipFill>
          <a:blip r:embed="rId1"/>
          <a:stretch/>
        </p:blipFill>
        <p:spPr>
          <a:xfrm>
            <a:off x="1600200" y="178272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6" name="Content Placeholder 3" descr="kodak13.jpg"/>
          <p:cNvPicPr/>
          <p:nvPr/>
        </p:nvPicPr>
        <p:blipFill>
          <a:blip r:embed="rId1"/>
          <a:stretch/>
        </p:blipFill>
        <p:spPr>
          <a:xfrm>
            <a:off x="2124000" y="1636560"/>
            <a:ext cx="50482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8" name="Content Placeholder 3" descr="pic1.jpg"/>
          <p:cNvPicPr/>
          <p:nvPr/>
        </p:nvPicPr>
        <p:blipFill>
          <a:blip r:embed="rId1"/>
          <a:stretch/>
        </p:blipFill>
        <p:spPr>
          <a:xfrm>
            <a:off x="1771560" y="165888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0" name="Content Placeholder 3" descr="pic2.jpg"/>
          <p:cNvPicPr/>
          <p:nvPr/>
        </p:nvPicPr>
        <p:blipFill>
          <a:blip r:embed="rId1"/>
          <a:stretch/>
        </p:blipFill>
        <p:spPr>
          <a:xfrm>
            <a:off x="1771560" y="165888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2" name="Content Placeholder 3" descr="pic3.jpg"/>
          <p:cNvPicPr/>
          <p:nvPr/>
        </p:nvPicPr>
        <p:blipFill>
          <a:blip r:embed="rId1"/>
          <a:stretch/>
        </p:blipFill>
        <p:spPr>
          <a:xfrm>
            <a:off x="1473120" y="1843200"/>
            <a:ext cx="635004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4" name="Content Placeholder 3" descr="pic4.jpg"/>
          <p:cNvPicPr/>
          <p:nvPr/>
        </p:nvPicPr>
        <p:blipFill>
          <a:blip r:embed="rId1"/>
          <a:stretch/>
        </p:blipFill>
        <p:spPr>
          <a:xfrm>
            <a:off x="1905120" y="2001960"/>
            <a:ext cx="54864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6" name="Content Placeholder 3" descr="pic5.jpg"/>
          <p:cNvPicPr/>
          <p:nvPr/>
        </p:nvPicPr>
        <p:blipFill>
          <a:blip r:embed="rId1"/>
          <a:stretch/>
        </p:blipFill>
        <p:spPr>
          <a:xfrm>
            <a:off x="1630440" y="155412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2" name="Content Placeholder 3" descr="kodak1.jpg"/>
          <p:cNvPicPr/>
          <p:nvPr/>
        </p:nvPicPr>
        <p:blipFill>
          <a:blip r:embed="rId1"/>
          <a:stretch/>
        </p:blipFill>
        <p:spPr>
          <a:xfrm>
            <a:off x="1630440" y="155412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8" name="Content Placeholder 3" descr="pic6.jpg"/>
          <p:cNvPicPr/>
          <p:nvPr/>
        </p:nvPicPr>
        <p:blipFill>
          <a:blip r:embed="rId1"/>
          <a:stretch/>
        </p:blipFill>
        <p:spPr>
          <a:xfrm>
            <a:off x="3235320" y="1554120"/>
            <a:ext cx="2825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0" name="Content Placeholder 3" descr="pic7.jpg"/>
          <p:cNvPicPr/>
          <p:nvPr/>
        </p:nvPicPr>
        <p:blipFill>
          <a:blip r:embed="rId1"/>
          <a:stretch/>
        </p:blipFill>
        <p:spPr>
          <a:xfrm>
            <a:off x="1771560" y="1665360"/>
            <a:ext cx="575316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2" name="Content Placeholder 3" descr="pic8.jpg"/>
          <p:cNvPicPr/>
          <p:nvPr/>
        </p:nvPicPr>
        <p:blipFill>
          <a:blip r:embed="rId1"/>
          <a:stretch/>
        </p:blipFill>
        <p:spPr>
          <a:xfrm>
            <a:off x="1771560" y="165888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4" name="Content Placeholder 3" descr="pic9.jpg"/>
          <p:cNvPicPr/>
          <p:nvPr/>
        </p:nvPicPr>
        <p:blipFill>
          <a:blip r:embed="rId1"/>
          <a:stretch/>
        </p:blipFill>
        <p:spPr>
          <a:xfrm>
            <a:off x="2749680" y="1554120"/>
            <a:ext cx="3797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6" name="Content Placeholder 3" descr="pic10.jpg"/>
          <p:cNvPicPr/>
          <p:nvPr/>
        </p:nvPicPr>
        <p:blipFill>
          <a:blip r:embed="rId1"/>
          <a:stretch/>
        </p:blipFill>
        <p:spPr>
          <a:xfrm>
            <a:off x="2624040" y="2170080"/>
            <a:ext cx="40482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8" name="Content Placeholder 3" descr="pic11.jpg"/>
          <p:cNvPicPr/>
          <p:nvPr/>
        </p:nvPicPr>
        <p:blipFill>
          <a:blip r:embed="rId1"/>
          <a:stretch/>
        </p:blipFill>
        <p:spPr>
          <a:xfrm>
            <a:off x="1828800" y="1646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0" name="Content Placeholder 3" descr="pic12.jpg"/>
          <p:cNvPicPr/>
          <p:nvPr/>
        </p:nvPicPr>
        <p:blipFill>
          <a:blip r:embed="rId1"/>
          <a:stretch/>
        </p:blipFill>
        <p:spPr>
          <a:xfrm>
            <a:off x="1771560" y="165888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2" name="Content Placeholder 3" descr="pic13.jpg"/>
          <p:cNvPicPr/>
          <p:nvPr/>
        </p:nvPicPr>
        <p:blipFill>
          <a:blip r:embed="rId1"/>
          <a:stretch/>
        </p:blipFill>
        <p:spPr>
          <a:xfrm>
            <a:off x="1511280" y="1792440"/>
            <a:ext cx="62737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4" name="Content Placeholder 3" descr="pic14.jpg"/>
          <p:cNvPicPr/>
          <p:nvPr/>
        </p:nvPicPr>
        <p:blipFill>
          <a:blip r:embed="rId1"/>
          <a:stretch/>
        </p:blipFill>
        <p:spPr>
          <a:xfrm>
            <a:off x="1623960" y="1554120"/>
            <a:ext cx="60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6" name="Content Placeholder 3" descr="pic15.jpg"/>
          <p:cNvPicPr/>
          <p:nvPr/>
        </p:nvPicPr>
        <p:blipFill>
          <a:blip r:embed="rId1"/>
          <a:stretch/>
        </p:blipFill>
        <p:spPr>
          <a:xfrm>
            <a:off x="2571840" y="2494080"/>
            <a:ext cx="41529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4" name="Content Placeholder 3" descr="kodak2.jpg"/>
          <p:cNvPicPr/>
          <p:nvPr/>
        </p:nvPicPr>
        <p:blipFill>
          <a:blip r:embed="rId1"/>
          <a:stretch/>
        </p:blipFill>
        <p:spPr>
          <a:xfrm>
            <a:off x="2585880" y="1554120"/>
            <a:ext cx="4124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8" name="Content Placeholder 3" descr="pic16.jpg"/>
          <p:cNvPicPr/>
          <p:nvPr/>
        </p:nvPicPr>
        <p:blipFill>
          <a:blip r:embed="rId1"/>
          <a:stretch/>
        </p:blipFill>
        <p:spPr>
          <a:xfrm>
            <a:off x="1932120" y="1554120"/>
            <a:ext cx="543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60" name="Content Placeholder 3" descr="pic17.jpg"/>
          <p:cNvPicPr/>
          <p:nvPr/>
        </p:nvPicPr>
        <p:blipFill>
          <a:blip r:embed="rId1"/>
          <a:stretch/>
        </p:blipFill>
        <p:spPr>
          <a:xfrm>
            <a:off x="2900520" y="1554120"/>
            <a:ext cx="349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62" name="Content Placeholder 3" descr="pic18.jpg"/>
          <p:cNvPicPr/>
          <p:nvPr/>
        </p:nvPicPr>
        <p:blipFill>
          <a:blip r:embed="rId1"/>
          <a:stretch/>
        </p:blipFill>
        <p:spPr>
          <a:xfrm>
            <a:off x="1685880" y="1716120"/>
            <a:ext cx="5924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6" name="Content Placeholder 3" descr="kodak3.jpg"/>
          <p:cNvPicPr/>
          <p:nvPr/>
        </p:nvPicPr>
        <p:blipFill>
          <a:blip r:embed="rId1"/>
          <a:stretch/>
        </p:blipFill>
        <p:spPr>
          <a:xfrm>
            <a:off x="1366920" y="1582560"/>
            <a:ext cx="6562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8" name="Content Placeholder 3" descr="kodak4.jpg"/>
          <p:cNvPicPr/>
          <p:nvPr/>
        </p:nvPicPr>
        <p:blipFill>
          <a:blip r:embed="rId1"/>
          <a:stretch/>
        </p:blipFill>
        <p:spPr>
          <a:xfrm>
            <a:off x="1149480" y="1554120"/>
            <a:ext cx="699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0" name="Content Placeholder 3" descr="kodak5.jpg"/>
          <p:cNvPicPr/>
          <p:nvPr/>
        </p:nvPicPr>
        <p:blipFill>
          <a:blip r:embed="rId1"/>
          <a:stretch/>
        </p:blipFill>
        <p:spPr>
          <a:xfrm>
            <a:off x="2743200" y="2563920"/>
            <a:ext cx="380988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2" name="Content Placeholder 3" descr="kodak6.jpg"/>
          <p:cNvPicPr/>
          <p:nvPr/>
        </p:nvPicPr>
        <p:blipFill>
          <a:blip r:embed="rId1"/>
          <a:stretch/>
        </p:blipFill>
        <p:spPr>
          <a:xfrm>
            <a:off x="2743200" y="232236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4" name="Content Placeholder 3" descr="kodak7.jpg"/>
          <p:cNvPicPr/>
          <p:nvPr/>
        </p:nvPicPr>
        <p:blipFill>
          <a:blip r:embed="rId1"/>
          <a:stretch/>
        </p:blipFill>
        <p:spPr>
          <a:xfrm>
            <a:off x="1981080" y="2154240"/>
            <a:ext cx="533412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6" name="Content Placeholder 3" descr="kodak8.jpg"/>
          <p:cNvPicPr/>
          <p:nvPr/>
        </p:nvPicPr>
        <p:blipFill>
          <a:blip r:embed="rId1"/>
          <a:stretch/>
        </p:blipFill>
        <p:spPr>
          <a:xfrm>
            <a:off x="1947960" y="1792440"/>
            <a:ext cx="540072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7:12:24Z</dcterms:created>
  <dc:creator>localadmin</dc:creator>
  <dc:description/>
  <dc:language>en-US</dc:language>
  <cp:lastModifiedBy>localadmin</cp:lastModifiedBy>
  <dcterms:modified xsi:type="dcterms:W3CDTF">2010-03-24T07:20:30Z</dcterms:modified>
  <cp:revision>1</cp:revision>
  <dc:subject/>
  <dc:title>No comment…</dc:title>
</cp:coreProperties>
</file>