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909-6E61-4322-99B6-CC7CC8E5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28B-52CB-495A-B8AA-7E0AC5C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6901-A161-4742-8753-3E7F679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829D-A848-4823-B159-A86EAEBE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9C42-94FE-43FB-BB74-9BA3114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6120-96DC-4F04-9A69-2C780F0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0E11E-8724-415D-9A62-AE6E5F5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03AC9-44B5-480A-BB1B-1B52AC2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F16F6-DAD6-4B2B-B565-5184D02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3D53E-9419-432C-8D6C-788D3D1C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5C96-B763-423C-941D-9D9FBDD9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4D9-DE95-4C06-8694-73D8031C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7A9-A9B5-4D78-A1C0-2BBFEAB7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42AD-EECC-4EE4-8B2F-76486058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EADE-9DDB-4F35-B906-6CE1347A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F704-58FD-44A1-BEC6-E0A2CA3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50F8-8D2D-446B-8174-0F91E68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E1AF-0C0C-4312-8995-B4D91B7E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651-164E-4922-BF1F-DC1B070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1AF4-B421-4FC3-B74B-E41BB5F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8DD-936B-4730-9DA8-1F2D647A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3EE1-654B-486F-80D2-CBFDBB6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5FF-803C-468C-ACF1-6EBCE019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145-F05A-427D-A61C-AD7ECE1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BAC-10E6-4919-97E5-40A35962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C4D-5FBF-4595-9927-19F94539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BE86-65D8-493A-B0E4-9B0BA649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EC29-C9D8-44A0-B8AA-D6AB3857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704C-BDFA-4592-82EE-6B1CD71F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56C8-79CE-4FAE-8BA1-F238AFD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B1B9-7A6B-46D4-A202-EF204EDA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0C8-38AA-46B6-8E82-C44C867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D686-CE6F-420D-8E66-A60230B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143F1-FE11-4249-B36A-5E2A32D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2137-8518-4F4E-B34D-99CA058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71DD-8FE2-4C8A-8CFE-8EA4E90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A3B5-FC4B-4708-A340-36D58ED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9C26-D54C-45D3-ABF1-8493AB6B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EA9D-204C-41E3-9BD1-C080A2F7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0E609-39B2-4F3E-8F3A-EDF1557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E7221-5409-4E47-B2DA-174EA19E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F27C-A47E-429E-86FD-B48BE123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864-94E1-438C-A501-3E2E1AF9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E29A8-6BEC-4483-A86A-33DCEC33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1C9F-9E0F-4BBA-A626-42F266F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D3A93-BCE0-4F06-B615-354B1B0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06F3-29D9-40E2-B7D9-DCD30DB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C959-79A3-4AF3-8BD1-F83A03F9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1D48-FEF1-4199-8700-80032B8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8B0A-31E6-4515-907B-BF5B500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7AE7-E2BA-4C49-9FC4-57BF3B97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85AE-12CD-4E11-AA21-EE9C9B4F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3165-BA62-4DC2-90EF-96B24E85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2BA-4090-4A3A-9547-8766DB23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ADE4E-6EE3-4038-B6DA-7194BA64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4AB5F-FFE4-4ACE-B79B-83AC531F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5728-B6D4-423D-88C8-EE56DF88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2480-AFE7-41F3-931D-4DDF9DE0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1D1D-51EB-4418-B44C-C9ADA8E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AC5AA-037A-4B67-99F2-F013DA83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A2F5-EBA3-414E-A87F-A2035B3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07C24-7F0F-4376-B801-5ECDBA2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A7CF-5897-4CF8-9ADD-7352A6EE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DAB21-B9C6-446D-B620-FE1DA3C4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DDE-6B97-4629-806A-E90E904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93F7-4639-47B2-9FD0-2C43D63E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5390-5F32-4201-B39F-D8670DD5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897F-2851-426E-8A7D-30CCDE7A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872DD-FF69-4FD7-8561-C805612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0EB9-2BE5-4D88-AE43-F89A015E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5201-DA90-4A5E-B870-C75140D6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84FD-91FE-4FAF-99BB-6B3D9F36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468B9-BB87-415D-BCAD-44F3EA7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C4B9-6007-4576-8A58-19D2609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7FBE-B4E2-4360-8007-350D5B4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E33-7B5A-40EE-95B5-0630F6A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9188-B4C0-4752-9901-0D78C241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A4AED-6D64-4BB0-9D8F-FDE00798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0BB64-3CFC-4339-824C-D50BF2F2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AC6C-1DC7-4916-8706-1482DF91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5DB5A-A6C1-4442-9168-DAA616F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A755-D45F-4BC1-99E2-07EC2F63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3F47-695A-4D01-8F7F-152CAC4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BCB8-4B9E-446D-BB75-931D7DD0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22BC-0FDC-4B32-BA94-A9E8AFE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6D12-0F69-40D4-B8D7-83DDFD2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E71-06CF-45A2-A799-E0EB34E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6A60F-3255-4BD6-8865-23E92C9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CF46-B7F2-42DB-99E0-9F0EF01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89E4-FB7B-453B-B81A-D0DA4DF8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5A7C-D578-4310-A5F4-C87E18C4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B164-34B6-4212-91B1-269F8E1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24A5-485F-496D-B498-CC544457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8D86-7B26-4F91-BD7A-67ED680E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59F0-3E88-4D29-BEB0-D28C2335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8AF2-BC6B-49CD-A37F-ED36D51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D7E9A-D574-45B3-8D3C-30E6747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875-A060-49A7-92E5-17F299D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1BA5-D552-4C36-A6D0-C10BAC70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6614-2514-42A0-AC04-BACE2D0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1A02-929E-479B-99F6-1E665F6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9EABC-B662-4C8A-AF26-10BF7DE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44BB-C66C-4855-AF28-664EFC4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C5F2-9904-4527-809B-6E04DC39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28426-24CC-4844-8351-D67ECC9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EE4DF-3A5E-4013-8BC3-C4354DD4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F0748-47BD-488E-86F7-8A003E4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5C38-970F-4196-99EE-B7394508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4F0-8FB0-4611-834B-7B331935919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A442-0592-4A9C-8CE3-A304AA296E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57A7-72D4-4EB9-AEA7-CDAC79A4555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EFB-331B-41D4-829C-7CA1A496052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0CA-1748-4002-B29F-4D2E082972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11DF-E8B6-453F-B2C8-0E2507241A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CBC1-D3A9-4E5F-A7AF-2451AA06DE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F84B-5893-43FF-B50F-60CC75BB05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EBC-B9C7-41EE-8F3C-0B8518FCB1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8" name="Content Placeholder 3" descr="kodak9.jpg"/>
          <p:cNvPicPr/>
          <p:nvPr/>
        </p:nvPicPr>
        <p:blipFill>
          <a:blip r:embed="rId1"/>
          <a:stretch/>
        </p:blipFill>
        <p:spPr>
          <a:xfrm>
            <a:off x="1600200" y="2209680"/>
            <a:ext cx="5942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Content Placeholder 3" descr="kodak10.jpg"/>
          <p:cNvPicPr/>
          <p:nvPr/>
        </p:nvPicPr>
        <p:blipFill>
          <a:blip r:embed="rId1"/>
          <a:stretch/>
        </p:blipFill>
        <p:spPr>
          <a:xfrm>
            <a:off x="2362320" y="236844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Content Placeholder 3" descr="kodak11.jpg"/>
          <p:cNvPicPr/>
          <p:nvPr/>
        </p:nvPicPr>
        <p:blipFill>
          <a:blip r:embed="rId1"/>
          <a:stretch/>
        </p:blipFill>
        <p:spPr>
          <a:xfrm>
            <a:off x="1844640" y="1554120"/>
            <a:ext cx="560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Content Placeholder 3" descr="kodak12.jpg"/>
          <p:cNvPicPr/>
          <p:nvPr/>
        </p:nvPicPr>
        <p:blipFill>
          <a:blip r:embed="rId1"/>
          <a:stretch/>
        </p:blipFill>
        <p:spPr>
          <a:xfrm>
            <a:off x="1600200" y="178272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6" name="Content Placeholder 3" descr="kodak13.jpg"/>
          <p:cNvPicPr/>
          <p:nvPr/>
        </p:nvPicPr>
        <p:blipFill>
          <a:blip r:embed="rId1"/>
          <a:stretch/>
        </p:blipFill>
        <p:spPr>
          <a:xfrm>
            <a:off x="2124000" y="1636560"/>
            <a:ext cx="5048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Content Placeholder 3" descr="pic1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0" name="Content Placeholder 3" descr="pic2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2" name="Content Placeholder 3" descr="pic3.jpg"/>
          <p:cNvPicPr/>
          <p:nvPr/>
        </p:nvPicPr>
        <p:blipFill>
          <a:blip r:embed="rId1"/>
          <a:stretch/>
        </p:blipFill>
        <p:spPr>
          <a:xfrm>
            <a:off x="1473120" y="1843200"/>
            <a:ext cx="63500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4" name="Content Placeholder 3" descr="pic4.jpg"/>
          <p:cNvPicPr/>
          <p:nvPr/>
        </p:nvPicPr>
        <p:blipFill>
          <a:blip r:embed="rId1"/>
          <a:stretch/>
        </p:blipFill>
        <p:spPr>
          <a:xfrm>
            <a:off x="1905120" y="2001960"/>
            <a:ext cx="54864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6" name="Content Placeholder 3" descr="pic5.jpg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2" name="Content Placeholder 3" descr="kodak1.jpg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8" name="Content Placeholder 3" descr="pic6.jpg"/>
          <p:cNvPicPr/>
          <p:nvPr/>
        </p:nvPicPr>
        <p:blipFill>
          <a:blip r:embed="rId1"/>
          <a:stretch/>
        </p:blipFill>
        <p:spPr>
          <a:xfrm>
            <a:off x="3235320" y="1554120"/>
            <a:ext cx="282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0" name="Content Placeholder 3" descr="pic7.jpg"/>
          <p:cNvPicPr/>
          <p:nvPr/>
        </p:nvPicPr>
        <p:blipFill>
          <a:blip r:embed="rId1"/>
          <a:stretch/>
        </p:blipFill>
        <p:spPr>
          <a:xfrm>
            <a:off x="1771560" y="1665360"/>
            <a:ext cx="57531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2" name="Content Placeholder 3" descr="pic8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Content Placeholder 3" descr="pic9.jpg"/>
          <p:cNvPicPr/>
          <p:nvPr/>
        </p:nvPicPr>
        <p:blipFill>
          <a:blip r:embed="rId1"/>
          <a:stretch/>
        </p:blipFill>
        <p:spPr>
          <a:xfrm>
            <a:off x="2749680" y="1554120"/>
            <a:ext cx="379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6" name="Content Placeholder 3" descr="pic10.jpg"/>
          <p:cNvPicPr/>
          <p:nvPr/>
        </p:nvPicPr>
        <p:blipFill>
          <a:blip r:embed="rId1"/>
          <a:stretch/>
        </p:blipFill>
        <p:spPr>
          <a:xfrm>
            <a:off x="2624040" y="2170080"/>
            <a:ext cx="40482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8" name="Content Placeholder 3" descr="pic11.jpg"/>
          <p:cNvPicPr/>
          <p:nvPr/>
        </p:nvPicPr>
        <p:blipFill>
          <a:blip r:embed="rId1"/>
          <a:stretch/>
        </p:blipFill>
        <p:spPr>
          <a:xfrm>
            <a:off x="1828800" y="164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0" name="Content Placeholder 3" descr="pic12.jpg"/>
          <p:cNvPicPr/>
          <p:nvPr/>
        </p:nvPicPr>
        <p:blipFill>
          <a:blip r:embed="rId1"/>
          <a:stretch/>
        </p:blipFill>
        <p:spPr>
          <a:xfrm>
            <a:off x="1771560" y="165888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2" name="Content Placeholder 3" descr="pic13.jpg"/>
          <p:cNvPicPr/>
          <p:nvPr/>
        </p:nvPicPr>
        <p:blipFill>
          <a:blip r:embed="rId1"/>
          <a:stretch/>
        </p:blipFill>
        <p:spPr>
          <a:xfrm>
            <a:off x="1511280" y="1792440"/>
            <a:ext cx="6273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4" name="Content Placeholder 3" descr="pic14.jpg"/>
          <p:cNvPicPr/>
          <p:nvPr/>
        </p:nvPicPr>
        <p:blipFill>
          <a:blip r:embed="rId1"/>
          <a:stretch/>
        </p:blipFill>
        <p:spPr>
          <a:xfrm>
            <a:off x="1623960" y="155412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6" name="Content Placeholder 3" descr="pic15.jpg"/>
          <p:cNvPicPr/>
          <p:nvPr/>
        </p:nvPicPr>
        <p:blipFill>
          <a:blip r:embed="rId1"/>
          <a:stretch/>
        </p:blipFill>
        <p:spPr>
          <a:xfrm>
            <a:off x="2571840" y="2494080"/>
            <a:ext cx="41529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Content Placeholder 3" descr="kodak2.jpg"/>
          <p:cNvPicPr/>
          <p:nvPr/>
        </p:nvPicPr>
        <p:blipFill>
          <a:blip r:embed="rId1"/>
          <a:stretch/>
        </p:blipFill>
        <p:spPr>
          <a:xfrm>
            <a:off x="2585880" y="1554120"/>
            <a:ext cx="412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8" name="Content Placeholder 3" descr="pic16.jpg"/>
          <p:cNvPicPr/>
          <p:nvPr/>
        </p:nvPicPr>
        <p:blipFill>
          <a:blip r:embed="rId1"/>
          <a:stretch/>
        </p:blipFill>
        <p:spPr>
          <a:xfrm>
            <a:off x="1932120" y="1554120"/>
            <a:ext cx="543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0" name="Content Placeholder 3" descr="pic17.jpg"/>
          <p:cNvPicPr/>
          <p:nvPr/>
        </p:nvPicPr>
        <p:blipFill>
          <a:blip r:embed="rId1"/>
          <a:stretch/>
        </p:blipFill>
        <p:spPr>
          <a:xfrm>
            <a:off x="2900520" y="1554120"/>
            <a:ext cx="349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2" name="Content Placeholder 3" descr="pic18.jpg"/>
          <p:cNvPicPr/>
          <p:nvPr/>
        </p:nvPicPr>
        <p:blipFill>
          <a:blip r:embed="rId1"/>
          <a:stretch/>
        </p:blipFill>
        <p:spPr>
          <a:xfrm>
            <a:off x="1685880" y="1716120"/>
            <a:ext cx="5924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Content Placeholder 3" descr="kodak3.jpg"/>
          <p:cNvPicPr/>
          <p:nvPr/>
        </p:nvPicPr>
        <p:blipFill>
          <a:blip r:embed="rId1"/>
          <a:stretch/>
        </p:blipFill>
        <p:spPr>
          <a:xfrm>
            <a:off x="1366920" y="1582560"/>
            <a:ext cx="65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Content Placeholder 3" descr="kodak4.jpg"/>
          <p:cNvPicPr/>
          <p:nvPr/>
        </p:nvPicPr>
        <p:blipFill>
          <a:blip r:embed="rId1"/>
          <a:stretch/>
        </p:blipFill>
        <p:spPr>
          <a:xfrm>
            <a:off x="1149480" y="1554120"/>
            <a:ext cx="699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0" name="Content Placeholder 3" descr="kodak5.jpg"/>
          <p:cNvPicPr/>
          <p:nvPr/>
        </p:nvPicPr>
        <p:blipFill>
          <a:blip r:embed="rId1"/>
          <a:stretch/>
        </p:blipFill>
        <p:spPr>
          <a:xfrm>
            <a:off x="2743200" y="2563920"/>
            <a:ext cx="38098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2" name="Content Placeholder 3" descr="kodak6.jpg"/>
          <p:cNvPicPr/>
          <p:nvPr/>
        </p:nvPicPr>
        <p:blipFill>
          <a:blip r:embed="rId1"/>
          <a:stretch/>
        </p:blipFill>
        <p:spPr>
          <a:xfrm>
            <a:off x="2743200" y="232236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4" name="Content Placeholder 3" descr="kodak7.jpg"/>
          <p:cNvPicPr/>
          <p:nvPr/>
        </p:nvPicPr>
        <p:blipFill>
          <a:blip r:embed="rId1"/>
          <a:stretch/>
        </p:blipFill>
        <p:spPr>
          <a:xfrm>
            <a:off x="1981080" y="2154240"/>
            <a:ext cx="53341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6" name="Content Placeholder 3" descr="kodak8.jpg"/>
          <p:cNvPicPr/>
          <p:nvPr/>
        </p:nvPicPr>
        <p:blipFill>
          <a:blip r:embed="rId1"/>
          <a:stretch/>
        </p:blipFill>
        <p:spPr>
          <a:xfrm>
            <a:off x="1947960" y="1792440"/>
            <a:ext cx="54007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7:12:24Z</dcterms:created>
  <dc:creator>localadmin</dc:creator>
  <dc:description/>
  <dc:language>en-US</dc:language>
  <cp:lastModifiedBy>localadmin</cp:lastModifiedBy>
  <dcterms:modified xsi:type="dcterms:W3CDTF">2010-03-24T07:20:30Z</dcterms:modified>
  <cp:revision>1</cp:revision>
  <dc:subject/>
  <dc:title>No comment…</dc:title>
</cp:coreProperties>
</file>