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4C8-FA30-4BA0-AE6F-A0BFB658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52E-3189-4C00-A13B-30E4DDEF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16C-FC83-47CD-B8B7-119CA0E7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D81-F692-4E73-8F14-723109D2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BED-2F4E-4209-B5B4-1252D83B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B2A-F1DA-4BB8-AECD-ED92F6FF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7D5-19F8-4BF3-98F9-CBAC118B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87F-FAD6-4686-A72C-410B0465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D69-E42F-4ED3-9A8D-CC46E3FB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1C4-3889-498C-A430-1218D3E0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567-1971-43A2-9775-2C1F2C9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D5F-169D-47DB-B46A-E756790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8C2-87E7-4140-A8B4-FEE52EAA0EB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17178_1255542383665_1082753197_30675099_497082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1265111139524_100_06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1265111332617_100_06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1265114053761_barranco_maria_jimene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1265114053761_barranco_maria_jimenez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1265122445452_oag_20100201_213438_3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1265131279393_tabaiba_desast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1265131766036_diadespue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1265144255791_DSC_0067M.jpg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1265144425764_DSC_0098M.jpg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1265144647936_DSC004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17178_1255542423666_1082753197_30675100_7106887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1265144804637_DSC0042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1265206287362_dp_20100202_200025_32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1265206750091_jl_20100202_203450_8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1265207343337_jl_20100202_204022_2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gal3660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gal3660-7.jpg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17178_1255542463667_1082753197_30675101_243036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17178_1255542503668_1082753197_30675102_794867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17178_1255542543669_1082753197_30675103_654409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1265053906172__MG_2343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1265059841816_PIC029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1265063100389_per4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1265063100389_per7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2:18:12Z</dcterms:created>
  <dc:creator>AENA</dc:creator>
  <dc:description/>
  <dc:language>en-US</dc:language>
  <cp:lastModifiedBy>AENA</cp:lastModifiedBy>
  <dcterms:modified xsi:type="dcterms:W3CDTF">2010-02-04T12:20:26Z</dcterms:modified>
  <cp:revision>1</cp:revision>
  <dc:subject/>
  <dc:title>Diapositiva 1</dc:title>
</cp:coreProperties>
</file>