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65E-75E8-413C-856D-A651766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D14-6F60-49AF-980E-91F90C5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3B4-7B01-446E-912F-DA4A58B2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F93-1888-4D54-99A6-2E1A7AA5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A05-281A-4635-9491-550A505B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36A-7116-4B06-95A5-5127E9F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B41-8FE1-405E-8B2E-2A88557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84D-67CE-4571-9BD7-E08E3633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CA8-9B1C-48DE-A1C7-68583AD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0D5-A673-4ECF-A1D7-4AC3FA7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AA3-88BA-4EAC-B966-B95DDB1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3D8-7233-45F7-8261-3633F27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0565-FF75-4DBA-8047-D0A76569EE3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17178_1255542383665_1082753197_30675099_497082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1265111139524_100_0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1265111332617_100_06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1265114053761_barranco_maria_jimene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265114053761_barranco_maria_jimenez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265122445452_oag_20100201_213438_3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1265131279393_tabaiba_desast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265131766036_diadespu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1265144255791_DSC_0067M.jpg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265144425764_DSC_0098M.jpg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265144647936_DSC004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17178_1255542423666_1082753197_30675100_7106887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265144804637_DSC0042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265206287362_dp_20100202_200025_32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1265206750091_jl_20100202_203450_8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1265207343337_jl_20100202_204022_2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l3660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gal3660-7.jpg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17178_1255542463667_1082753197_30675101_24303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17178_1255542503668_1082753197_30675102_794867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17178_1255542543669_1082753197_30675103_65440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1265053906172__MG_234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1265059841816_PIC029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1265063100389_per4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1265063100389_per7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18:12Z</dcterms:created>
  <dc:creator>AENA</dc:creator>
  <dc:description/>
  <dc:language>en-US</dc:language>
  <cp:lastModifiedBy>AENA</cp:lastModifiedBy>
  <dcterms:modified xsi:type="dcterms:W3CDTF">2010-02-04T12:20:26Z</dcterms:modified>
  <cp:revision>1</cp:revision>
  <dc:subject/>
  <dc:title>Diapositiva 1</dc:title>
</cp:coreProperties>
</file>